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B8C-6E2C-4494-BCA5-66E2273B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229-6665-4199-8339-3A0739BE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F1352-ED8C-47B7-BCCB-A566B19A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24944-E94B-4C9A-A244-B5E98763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BF5DC-2FBE-4207-8F08-4F74AE2F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E2E13-E777-44B6-903C-DDC1DD7F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3F879-577A-4746-A9C5-20B196D6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EFF08-F30D-44F2-864C-62A93C68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0AC87-E20B-47D6-A7B8-FB23002B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72530-F1D7-4FAA-B377-DA65C764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37A02-0199-475D-B815-928CB441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6F119-0386-4429-982F-48973897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3E6-0787-4122-8935-FB8C3263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C76CD-78AD-4435-8F80-5FAB5472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ED816-4F01-4790-AD8D-98B02328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9BB96-3FA5-4F57-8F25-AB843E57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D056E-80C1-4469-BA8E-F12120D5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2AA98-A95A-41AD-8564-C9485D14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F6331-A6A8-4A39-9184-2E13FD44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0D93D-CAC3-4FE5-B3DE-1C910105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45480-FAEE-4190-A0D5-6D481F7C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7440F-CB89-4A2F-8830-3FA554C0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A0D01-03C4-4519-AA5C-0D1FC619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AFA-3094-4E5F-834A-EA184A85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20CAF-46C5-4610-A5FE-4831A419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C79F0-2093-4CBF-9CA9-300720E5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776DB-0BF2-4B37-9794-FB48D93F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0BB70-28A7-432D-948F-90736C9C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1AE9E-4448-4D52-9F22-C7742700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43CA2-294D-4348-B428-23C13F66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8ED13-62A7-4C42-B77C-BE704D5D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4C962-F61B-406B-A27F-C91F9A66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1D141-0FD7-4FFB-866B-9EAABC57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4F991-FAD4-4924-9E03-8B868D50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67C09-8706-4CAC-A540-957DA950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11F0D-868C-4661-9883-311F96C4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AB7A0-E6B0-4E48-8495-C4F1FCD6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17B7C-4BFD-4747-AB39-E759F1A4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6D2AA-BF69-454B-8B97-4AAD468D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C3E40-E769-4126-B410-FC52B580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56F61-A70A-4A3E-9781-1390B513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39DE8-978F-480D-A266-9AD684E2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82CCB-2969-466F-AFEC-D8A529D5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475C6-B189-4368-B6E4-EFE8943A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64A5B-A4AB-4A98-8C7C-1D6FE0DD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A6BDC-3919-4528-9C4C-6AB0342C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F102D-5FCF-40DC-ADD9-39213FB9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62520-055B-4269-84BB-01AAA110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EA455-9F28-4E33-8252-06585005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10F44-F5BC-4B2B-8D93-3EAC2289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87AA2-3ABD-429C-9EE7-A7F5A672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7ED9B-390E-47CF-9762-6DE883EF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6A89C-2C69-4235-9717-DE56A3A7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FC186-0B9C-469C-8C02-BAB3C50B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247D8-B937-45E1-B1BB-BFB656C9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A2E418-B584-4C21-B703-7B63099B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29EC0-CB42-48ED-A416-EFA8F944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B40F8-C75F-4F86-89B4-27DAF333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35AC8-772D-4FC8-B341-11BFE342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973CE-44C6-422A-AB75-3F07C643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C0B25-0A95-48EA-997A-2227E286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30888-7519-4A12-9B08-FF44D765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CEC7F-F3BA-4406-9785-0A8511AD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C9750-546B-4B75-A542-BA47CFC5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A3035-83BA-41E6-A9A3-0CEBC330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343223-D576-426A-9242-0168AB41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FEE806-94DE-4336-9A05-99D27942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217DC-891C-4489-A431-85B3FB1C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93BBFB-0226-407F-8B97-C39F0163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A1DC7-2AD3-4B31-9FDE-84654281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22D16-0EF5-4EB6-96FB-3074786E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3705B-94BA-4E99-91B4-DF95FFB3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89E25-C577-4308-B972-50894D9F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E5891-EFCD-486A-B156-7FF34063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D8BF3-6F84-4D47-927C-C04F9777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AB68EB-5021-482A-9577-4F9E78F3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BBACE-052C-4355-969F-29C48BAC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5027DE-F33D-4596-BC55-C4C5812D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2EC3D-6631-4F24-B7F2-C61C390B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530B7E-EB36-4E42-9299-3ECA4D57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CCDEE-CB9A-4F48-8457-67F81AA5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8AAAFE-182F-405B-A646-6ACC9432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7BBA0-FDD0-42D4-8F01-E031B5BA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A151DA-80FA-4559-A99A-9B7C758D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2E6C8-EC20-4927-939E-62507A18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6E2A1-C516-4ED8-9932-D594EC5E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DA179-0F80-454E-B167-C43AB646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F4E6A4-1625-4AA9-ACA0-87563F52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FA72DC-70F3-4AB8-B195-42136C76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A9F0C-8897-4912-9713-31E4B29F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CE6BE5-7CB3-41B5-9507-7A10A248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0EF41A-3F3C-4621-A9A8-99B15B76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6AF9C3-ED20-4162-B8FD-15415D68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6B5B4-E722-48CF-9AF8-2E423C47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E061BB-3B71-4C03-B267-C2B0849F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9C35EA-78C0-4C18-B6D1-30175E44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063FB6-00D9-4BA1-939D-071A581B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F96D0F-4C08-416C-984A-6476C8C5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CCC56-67FF-405E-ABA1-D3AF704D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1C8D0-5395-4E0D-8443-2140073E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AF724-2B6E-4FAC-9BD9-3E6CFCB6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5AE86B-E3FA-4A77-A0CC-45C86F74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0A9E67-A275-40F7-AAD8-65925AFB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3EBB33-2B62-4B81-B721-3DCB7F49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7147ED-9B6B-4574-99C4-D8F239A2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7719D3-8C73-41D1-A6D0-22C7FEF4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EF1525-A09D-4ED8-B6E9-13DE9E2F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75357-393F-4A1D-82A7-ABC169C6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4CF1E-4D7D-41B7-9964-53084F55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4BA2E7-E249-43AF-B087-DC0F7192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E5D8BA-B863-4D01-81D8-C68CE8DA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621-281D-4361-A92F-C7CFA53A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46727-491E-4D98-8E85-AD839D79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68DCB-54B2-4F35-8F53-D5B75D87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406F68-FFD3-4C4D-8156-30C2025D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A60C5-A531-4FE3-9A91-9889E431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B99B0-EA3B-40FA-962E-6D43CAD9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7EAE6C-72CC-41E1-BB96-C9E154C0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1F8F7-B0BF-4818-8116-1D9C0842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5570FD-BDF8-4D60-98B8-53299F8F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4B3F74-87BA-489C-B59D-6F3DB7E2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A6345E-9B5E-4847-A44F-8EB535B6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1C3015-7537-4386-90AA-B958059C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F0743-241A-4D04-936F-DEAF6F7D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E04EF1-9992-4128-9918-1C3EB54B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254D5-288D-42E5-B457-E26BC9B4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B98931-FD6C-43F5-850E-B57575D7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005B3C-00A6-4977-AC13-3E0394DA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AA2109-E854-4A54-9E2F-90E62B45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9C2EC5-A5F8-4B13-88BB-02F4973D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A3728F-BE71-4E3F-86A7-D194F4C5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2DE699-1847-475B-88BB-79D01289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42FFE6-0ED9-4B24-B3CC-FC0B823B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720D6D-C032-4B8F-A26C-3E1D51BE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32BBC-1E70-47A7-AB66-D1931141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AAED58-93A7-424F-857A-D3877018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216138-9FFC-4632-8EFE-8622CF9E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F8B573-9AC4-45EE-9B04-114D6484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F2DE4F-9555-4E42-AA21-DB934FCF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2E1990-406B-471B-9367-DAA6A648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67CF2E-6DD5-4181-B836-1B1E4609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6067FF-F9CB-425A-B006-9B63A8B0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CC6302-89DB-439F-8335-0B83F248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80F508-8A90-4330-8C88-2FA81747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20ADC0-4ED8-445A-BE98-EC9A0DD3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F7EE9-D00A-471F-A79C-7DBA8A80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DB7338-10C5-4DB2-8D34-7D850DAE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4418C7-5D3C-4BC1-810D-BE01E09C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7A220C-4143-47F2-AD5E-9A168368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6575EE-B049-4844-BF3F-27270AAF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C21365-9590-4864-9F78-E61A7651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6EA239-1867-4727-992A-970AE2D3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7862C0-EDB6-48E6-AFAC-D639C460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AA3B8D-1C75-4729-B88F-0641D1D2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5AC1B4-FEB9-48E7-855D-F9CEE109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640D14-9321-4C93-8369-1B56F31B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7FB86-A2BD-4F68-BFEB-6A4809E9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B82438-6B08-437C-B104-7DB3A4B4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1EC79-2927-4281-AC08-99869C66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9393-1819-43E2-8290-BD5E899A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8566-B3B6-476C-8CC9-0AA53EA3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0D3B1-5F9E-4185-AF85-C935C66C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9F388-6255-4B49-9915-A112B3DD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756-33DC-4CFC-8D22-FF3DDA66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24F1-6E30-4D61-B8BD-3994A77B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DD67-6D4B-4A88-ACEB-2A215282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9C53E-FA3C-42B3-86B5-2A848A17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4C99-5780-4256-A1A8-07890108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BE1A2-B893-4813-9DFC-AB3DFBA8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CF6A0-BB47-4B2C-8FEA-4B4E4837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52E33-67CB-4DC4-A976-3FE66520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0720E-CBAC-4543-BCF7-58E90A8C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D94F4-EBB4-45EB-8214-2C39A7F4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72096-D353-4CCC-ADA1-8C48B696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B1B-5F0C-46AD-BB91-01B18386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FC8A0-7D4E-4E4C-BE9F-174DB981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E02F7-3736-47CC-AD9C-7DBC5DF1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7A1C9-AE88-4F8E-A222-DE57606B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86A86-5CE6-46D3-9413-5BD847E6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D1570-1E8F-496D-A1AD-9E276DFE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7D1C-366C-494D-B7A1-B832FB70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B8069-87F3-4E5B-92A8-4AC4D6C7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41E99-722D-410A-8C5C-8EB91A42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FCD26-ABC6-49DE-B019-784D06E3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9D9724-B3D0-411D-826E-1BD4E1B4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13A-971E-4FB9-BA39-B7E34D35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E34E25-D512-4BD5-86F5-C99D359A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74AB1B-2A40-4F32-8BAF-591E6999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3CD5B8-BF79-447E-B50B-C0B77CBB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F5F169-0596-4259-B573-5E71CDFB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88B054-921B-4D24-9979-067BD2E1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F53C48-B52B-4B1A-8887-732449BC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9A5E18-9D2F-4382-B4FF-2E4ECD56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949C53-6597-44F1-B4EF-F6A75E74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A837BF-E95E-42A9-A196-E4500500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834565-5B51-49FC-AE45-B286DDB9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D1E-BE16-48E4-A820-E6C32F03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FBE6E6-000F-4303-A9F7-6B16D253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F1D04-075B-44C2-9EEE-45A352DE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C2A21-2F34-4780-9EE3-96F4F124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2CBCE-E5FF-456C-A059-FA9821E9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F08C1-1667-47BE-930D-2294423D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5C7B9-7BBC-4373-A2F6-B530369A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C74E6-6012-40A0-B166-BCD5DB67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9859E-68FE-4A54-8CFC-085BF32B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DC45C-5525-4E37-AF7A-421FB51F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34FB4-3CCB-49BE-8CE4-F9577C2A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6A2-4BBC-4E03-A1D9-770380F7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CB11C-22E8-4209-AE61-B0F2D3DD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27294-235E-4420-8B91-2FE12978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0C1A2-9AC2-4290-B958-BAC8B633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7B0C3-A2A3-4832-B146-7E317A7E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B9E4C-86E9-41B9-9CB1-8552BCB9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F5C70-77C2-42DD-9991-C028FD56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2AE54-1609-48AD-B1AD-859B4CBB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0676C-2BC4-48C5-9671-BA7073C4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9AA32-30CA-42A3-B561-2DC936B7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7E20D-C887-43A6-A7CD-AF6086E4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C19-A6EF-4296-9C40-0EEE1439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9D419-1EF3-4562-BE94-FEE5339D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8EC19-AED3-4707-BAD8-38F7F0B3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7C95C-E997-4A31-93FB-9AE0E24D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F10EC-6D6B-4EC2-9FC3-EDCF2E1B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88F27-F575-4996-8A0D-72EB5762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BBED7-E868-42A1-AE25-B49F7534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39F7A-700B-486D-8995-CFA7CDB8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0AC4D-400C-4DE4-9402-20379816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DB7A2-E39E-4574-9756-DFBAFB25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92C22-572B-43B8-BC58-02969BF2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FBC-34FF-4212-8A54-A4D46555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4D98B-9229-4B32-BC21-D60374C1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372A4-9576-4D4F-9E26-9F75EDA7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BD41B-16D5-4C72-AD4A-116F9D3D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7B3D1-1B63-46CB-A3A2-C9F8C5FF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5BC8C-EED8-4EE6-837B-19FC700B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D7ACA-3711-4AA9-A3C1-38D5C2F0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6D809-A5A0-438A-9BC0-035FBCAD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C29AC-E9E2-41A3-A9FA-9123D13D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8D50F-8F5A-4625-AF34-78471022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245D6-A1AE-40C6-92CC-6C9C3769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8416-C717-4024-B0BE-F53E1D22E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0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0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0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51ED-9A3E-4EA1-8A91-64882781776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DAB1-93F3-4E52-80A1-4F5E9A6FC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9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B5D3-BCDD-49D5-B288-8ADB69E917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44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48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1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7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0538-AF2D-4BF9-A04E-29652350C7D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2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2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4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5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16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6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2ECD-2547-4E0C-B447-328A0FD048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22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83DC-1E8A-4300-BE49-55703AD94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8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8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00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dt" idx="4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5371-4BBB-4931-BD69-F4A6C14F710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 type="dt" idx="4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 type="ftr" idx="5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B77A-C65D-4F81-95CD-FEC4367C5F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75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8EA8-8B4B-4AE1-8791-49A4FC2B8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81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434A-1D12-4EB4-91DE-0B2933291C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C9CE-C064-4B86-8B14-2DA49580F7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5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6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5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5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6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229E-3E7D-4056-803D-0733259E66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1E1D-E5A4-469C-AE0E-9F9DD330548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36C3-5F97-4B84-ABAA-D2E9851E03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276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52E7-91D8-436E-AEFD-22AC57EDC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3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3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4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C5A2-9B2C-4AFE-AD96-DC845B14FF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2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C915-7769-4DC3-99B2-07CD1FC8AA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0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FF68-841B-4D52-B7F1-46F15D76E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E132-0502-426E-BE23-C2543F22E5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gressive Presid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 type="subTitle"/>
          </p:nvPr>
        </p:nvSpPr>
        <p:spPr>
          <a:xfrm>
            <a:off x="128916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5" name="Picture 5" descr="Portrait of William Howard Taft"/>
          <p:cNvPicPr/>
          <p:nvPr/>
        </p:nvPicPr>
        <p:blipFill>
          <a:blip r:embed="rId1"/>
          <a:stretch/>
        </p:blipFill>
        <p:spPr>
          <a:xfrm>
            <a:off x="3505320" y="2971800"/>
            <a:ext cx="1800000" cy="2514600"/>
          </a:xfrm>
          <a:prstGeom prst="rect">
            <a:avLst/>
          </a:prstGeom>
          <a:ln w="0">
            <a:noFill/>
          </a:ln>
        </p:spPr>
      </p:pic>
      <p:pic>
        <p:nvPicPr>
          <p:cNvPr id="1906" name="Picture 7" descr="Portrait of Woodrow Wilson"/>
          <p:cNvPicPr/>
          <p:nvPr/>
        </p:nvPicPr>
        <p:blipFill>
          <a:blip r:embed="rId2"/>
          <a:stretch/>
        </p:blipFill>
        <p:spPr>
          <a:xfrm>
            <a:off x="6705720" y="2895480"/>
            <a:ext cx="1676160" cy="2486160"/>
          </a:xfrm>
          <a:prstGeom prst="rect">
            <a:avLst/>
          </a:prstGeom>
          <a:ln w="0">
            <a:noFill/>
          </a:ln>
        </p:spPr>
      </p:pic>
      <p:pic>
        <p:nvPicPr>
          <p:cNvPr id="1907" name="Picture 9" descr="Portrait of Theodore Roosevelt"/>
          <p:cNvPicPr/>
          <p:nvPr/>
        </p:nvPicPr>
        <p:blipFill>
          <a:blip r:embed="rId3"/>
          <a:stretch/>
        </p:blipFill>
        <p:spPr>
          <a:xfrm>
            <a:off x="533520" y="2895480"/>
            <a:ext cx="1828800" cy="2667240"/>
          </a:xfrm>
          <a:prstGeom prst="rect">
            <a:avLst/>
          </a:prstGeom>
          <a:ln w="0">
            <a:noFill/>
          </a:ln>
        </p:spPr>
      </p:pic>
      <p:sp>
        <p:nvSpPr>
          <p:cNvPr id="1908" name="Text Box 10"/>
          <p:cNvSpPr/>
          <p:nvPr/>
        </p:nvSpPr>
        <p:spPr>
          <a:xfrm>
            <a:off x="380880" y="563868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odore Roosev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1-19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Text Box 11"/>
          <p:cNvSpPr/>
          <p:nvPr/>
        </p:nvSpPr>
        <p:spPr>
          <a:xfrm>
            <a:off x="3429000" y="55627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Howard Ta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9-19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Text Box 13"/>
          <p:cNvSpPr/>
          <p:nvPr/>
        </p:nvSpPr>
        <p:spPr>
          <a:xfrm>
            <a:off x="6553080" y="54864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odrow Wil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13-19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Election of 1912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Taft: Republican, Roosevelt: Progressive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Wilson: Democrat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sevelt challenges Taft for Republican no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oosevelt form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w part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gressive Pa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sevelt’s party was also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u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ose Par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fter Roosevelt stated he was as strong as a bull moose when questioned about his h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Picture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oodrow Wilson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8</a:t>
            </a:r>
            <a:r>
              <a:rPr b="0" lang="en-US" sz="4000" spc="-1" strike="noStrike" baseline="30000">
                <a:solidFill>
                  <a:srgbClr val="e5fff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President: Democrat 191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ilson defeated Roosevelt and Taft in the election of 19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plan was called “New Freedom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ed tariffs on imported go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5" name="Picture 4" descr="Portrait of Woodrow Wilson"/>
          <p:cNvPicPr/>
          <p:nvPr/>
        </p:nvPicPr>
        <p:blipFill>
          <a:blip r:embed="rId1"/>
          <a:stretch/>
        </p:blipFill>
        <p:spPr>
          <a:xfrm>
            <a:off x="3505320" y="4267080"/>
            <a:ext cx="167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lson’s Accomplish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0" y="808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3- Federal Reserve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gulated ban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3 – 17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direct election of Senato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4- Federal Trade Commission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vestigated corporations for unfair trade practi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4- Clayton Anti-Trust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pon against tru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8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prohibition) – 19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women’s suffrage) - 19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i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What department took action against trust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What is arbitra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What group did Roosevelt force to agree to arbitra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What act regulated banking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 Who won the 1912 presidential elec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What did the 16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mendment establish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The Progressive Party was also known as th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__________ Part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 Who won the election of 1908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. Who was defeated in the election of 1908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 Roosevelt’s promise to the people in the 1904 elect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sw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ustice Depart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vention by a third party, not affiliated with either side, in negoti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ted Mine Work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deral Reserve 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odrow Wilson/Democr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e Ta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ll Moose Pa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Henry Taft/Republic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Jennings Bry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quare De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odore Roosevel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6</a:t>
            </a:r>
            <a:r>
              <a:rPr b="1" lang="en-US" sz="4000" spc="-1" strike="noStrike" baseline="30000">
                <a:solidFill>
                  <a:srgbClr val="e5e5ff"/>
                </a:solidFill>
                <a:latin typeface="Garamond"/>
              </a:rPr>
              <a:t>th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President-Republican (1901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me President when McKinley was assassinated in 1901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ought progressive ideas to the White Hou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at time he was the youngest President in histo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3" name="Picture 5" descr="TR stumping"/>
          <p:cNvPicPr/>
          <p:nvPr/>
        </p:nvPicPr>
        <p:blipFill>
          <a:blip r:embed="rId1"/>
          <a:stretch/>
        </p:blipFill>
        <p:spPr>
          <a:xfrm>
            <a:off x="6858000" y="4038480"/>
            <a:ext cx="19051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Trustbuster/Roosevel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osevel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pported Progressive ref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190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Order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Justice Departm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tak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gal action again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erta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trus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 Target: Northern Securities Compa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SC railroad monopoly that controlled transportation in the Northwe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SC fought the char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04 Supreme Court ordered trust taken apar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rustbuster At Work/Roosevel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25 indict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gainst trusts in beef, oil and tobacco indus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osevelt felt tha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not all trusts should be broken u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s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rusts should be regulated, not destroy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abor Crisis/Roosevel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902 Coal miners strik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membe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ited Mine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emanded better pay, 8 hour workday and recognition of union rights. The coal strike lasted for mon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ced mine owners and workers to agree to arbit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bitration i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ttling of a disp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agreeing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cept the decision o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impartia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utsi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 workers won better pay and an 8 hour work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id not gain recognition for the un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Deal/Roosevel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’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logan for reelection in 19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ised America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qual treatment for al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won with 57% of the popular vo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alled f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 considerable amount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overnment regulation of busin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as in contrast with the attitude of government towards business dating back to Thomas Jeffers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erm laissez faire, from Jefferson’s era, means “let the People do as they choose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aimed to change this attitude through government regul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ure Food and Drug Ac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 (1906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preventing the manufacture, sale, or transportation of adulterated or misbranded or poisonous or deleterious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od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rug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medicines, and liquors, and for regulating traffic therein, and for other purpo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serving the Wildernes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oosevel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president Roosevelt took step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serve the country’s natural resources, forests, water and mineral deposi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0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e propos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U.S. For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rv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He pressured Congress to set aside millions of acres of national forests and created the first wildlife sanctua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4" name="Rectangle 6"/>
          <p:cNvSpPr/>
          <p:nvPr/>
        </p:nvSpPr>
        <p:spPr>
          <a:xfrm>
            <a:off x="3276720" y="5715000"/>
            <a:ext cx="22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ttp://www.fs.fed.u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illiam Howard Taft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7</a:t>
            </a:r>
            <a:r>
              <a:rPr b="0" lang="en-US" sz="4000" spc="-1" strike="noStrike" baseline="30000">
                <a:solidFill>
                  <a:srgbClr val="dbbd71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President-Republican (1908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f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feated William Jennings Bry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 election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0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ft went beyond many of Roosevelt’s polic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aft won more anti-trust cases (twice as many as Roosevel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favored safety standards for mines and railroa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7" name="Picture 4" descr="Portrait of William Howard Taft"/>
          <p:cNvPicPr/>
          <p:nvPr/>
        </p:nvPicPr>
        <p:blipFill>
          <a:blip r:embed="rId1"/>
          <a:stretch/>
        </p:blipFill>
        <p:spPr>
          <a:xfrm>
            <a:off x="4038480" y="5257800"/>
            <a:ext cx="1447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6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th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Amendment/Taf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ft support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6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Amend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ich gave Congress the power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x peoples’ in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come ta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nerate reven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the federal govern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5:22:47Z</dcterms:created>
  <dc:creator>cynthia prewitt</dc:creator>
  <dc:description/>
  <dc:language>en-US</dc:language>
  <cp:lastModifiedBy>Amy Davis</cp:lastModifiedBy>
  <dcterms:modified xsi:type="dcterms:W3CDTF">2018-03-21T19:01:28Z</dcterms:modified>
  <cp:revision>20</cp:revision>
  <dc:subject/>
  <dc:title>Progressive Presidents</dc:title>
</cp:coreProperties>
</file>