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2F91-E277-45A0-BD4B-24B5A56CD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4FB1-D97E-4B24-9BCB-3D4BECC6B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BC2EDA-C78A-4004-850D-8B29FC1D2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242EDA-1005-47B4-82C1-7BB18FF5E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FA3E3F-5271-449D-A9D5-051208F1E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0E1430-493F-4D50-B9B1-C7CC084D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458280-58E5-4497-B7E7-30129B43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795AD1-3129-4710-B79F-03ACFBEE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69C27E-B31F-4529-BBEF-B39F68A72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1C56F4-32BC-4DA2-A0B3-6A6D3BA62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7DFEDA-8E1A-49F4-8557-529BA97E2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B0050E-4AA8-4760-99AD-B7D39C90C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DF9A-B666-4969-BC19-F99858F71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C4786F-3197-4DA5-9489-03976C9B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214E82-3F7E-4AA0-B009-29858452D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37EB63-14F6-4198-BEFD-B1004E2AE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48F230-18A5-4C52-942A-473C817CF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7D86B3-A293-4D9F-9824-3081D894E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B67160-1C6B-4B1A-8917-B63AF76C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AB79D0-C94B-4A28-AF72-DD033A32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DA683E-8FA3-421D-BF60-7C5B91B1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F824B2-5FAF-439A-9B7E-162933182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5DF285-E5BB-483A-8869-95825D6C8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272E-5CA7-4186-B6D1-F093AE552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4D505E-6093-4F5E-B45B-51A471E51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773399-78BD-425C-991B-68FD62D64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5C8768-01A5-4EA3-82FA-6B61C21D6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8027BB-B711-45EF-A5E7-32ADF01F1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FE268E-2278-4684-9244-A8F63F9C6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C0A12E-79DF-4C7F-B6A3-8EB28B7A5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3B240C-B2DE-476C-823C-7679EB84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C1034C-DBAA-41E0-8DB4-E45738EB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AAB72F-B0A7-4330-BAD7-40F54273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A43C4D-BF47-4DF1-AC0B-E8232394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04C7C9-F111-4B3D-AE49-265E9150F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51847B-710D-45E7-85DF-D6B08B574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12B95B-4D5F-4B27-844E-401432228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9E6163-52B7-484D-B1F2-3F4E6CD62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001CE9-9CE1-4599-8E47-E4D08E533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4DA80B-0211-4DA3-BABE-5108AA76D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A15668-E0D4-4ABA-AA5A-87A2D261D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D52CD1-8320-4CCE-B6AD-057F8CFF0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28E77E-3A48-4E24-9B13-B02EE98E0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D5F373-254F-4F4E-98B2-C12509BE7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D58ADF-F5B8-470D-B45B-7D453FDF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97FED8-268C-4880-87E1-F0C7B4746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5DA662-A7EE-49E0-A9B2-864D5341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119EDF-1C74-4B67-94E6-875A626B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FED9B9-027C-4FBA-BC26-C963CC718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F9A42A-4C29-4DAD-AA2A-1B0E12965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865A18-E468-4BAB-AE97-970CF0155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F48873-5773-442A-9206-02CC6839D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30A05D-47D1-4B93-948F-8D4BF19B5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9FA0CB-F98E-4BBB-8D5D-CD18238D5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556C13-527B-4511-8121-21C05AC10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B9F0D8-1F59-48EF-BDF6-987493B0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BA23A3-F527-4D83-A438-AE3E1CFCC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D93E5A-78CC-4A5C-A1D6-712D95348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67240F-C856-4DF7-885B-C6D129E3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B60775-777F-4F72-B901-8D11EE80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B0F3FB-A364-404A-A61B-557926FC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424BC3-4AD2-4B2C-A705-AE04646C8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4EC29C-1C87-4862-9E3E-9B3D4DBBA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F175D1-512C-491F-A1BA-B5F5DCD4B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41B350-9CF4-4823-9828-C7019C88E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032996-0B8F-43DB-9EE6-7D5FB4C3B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92907F-98BF-4CCB-990D-F057A5E52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C5FF72-F3FB-4A31-91BA-36AB03A71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DB45DB-C774-4276-8C3F-D99D85DE2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EAB52C-F0DB-4509-B224-19F6379E9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BD4A59-0D21-48F0-B34C-0EC28A8EA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5FD969-350A-4841-9FA5-DF278E7C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706C7E-5199-4FF3-ABC2-40C7580F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82B2B4-CCE8-4C44-8027-AC9E7E0F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150063-E0A0-4916-897C-69D2FC54C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AC2F93-EE8F-4D7A-8A61-88BB31061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223F55-8D72-4C83-A7F0-F72064BCA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8ADD80-ED97-4369-8FAE-A2DB24A20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5926C8-F654-48E9-8133-3150C00EC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702328-65B2-4BE8-AA90-EDA7CD172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762A1A-3F36-40D2-B3E4-054A95F43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523862-727A-4358-ADDB-225998453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CFF213-A861-48E2-BE31-D94BE6FFD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0F7197-EA47-4EDD-AF6A-8207F5420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CE8490-35FF-47E1-9D8B-C3DD2B25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2AC12B-059D-466A-AA19-9E5B1555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C07D1B-5E27-4653-BCB2-F8CA25A9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808866-AFB9-4FC4-A69B-2C8D7E652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5B5FE8-5BA2-4DBA-B518-E1750AA83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074BA3-BF67-4F80-A643-E9D985C78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EE88CB-73F7-472F-9E67-1BD487994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76FBF9-B92C-4FFA-B438-78997E30B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41036D-F53E-4656-AAB5-AA6B4CE12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254BA1-5F60-4684-BFE7-DD6C8AE26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A0187F-987E-4003-805A-3F953F144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8DEFBC-9B52-445A-AAA4-A0ED2FA7D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1D7510-C975-41CB-A167-A1FC43CD7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95BA66-DFD3-49F1-9F69-B4A8FEC1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903AC6-6085-4E1D-AD10-4E59B998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2147EB-0EDE-4F57-8B28-3BCB52E3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33E24B-6031-4C97-A9B8-C1756B0F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6034C4-7AC3-47F7-8E50-0258AD91F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47CA2C-2909-4795-BC7A-31F668E44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C13ED2-A3EA-48CB-830B-3EE3E73E2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E9F654-EE8A-47D2-A038-C24C6BF35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A08C17-0D84-44C8-AAC6-8F1A20A65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AF5A17-995B-4D0B-B39B-609EC61FE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DD64B2-7073-490C-8D34-DB720D56E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34D3F6-74D2-4504-950D-DEE5AA90D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53ED1B-7433-4D63-9750-596A4A169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49EC85-21D5-4FCB-8D65-996CECB3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DA92-032F-44E9-BEEF-6887385C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489718-EC61-4F6B-813C-E9E09B71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3938C0-4CAA-40B3-9A1A-0E8F7692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1AEFE8-FC80-4FB9-A566-EFD3E35F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421496-D338-44A2-B739-4C3571B0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83C741-92D8-4971-9470-D85AD7FCD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C8AC1F-B872-4702-918D-49577EF4D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FA167D-A392-4ED5-A0DC-F805EBFDD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F28559-5179-405F-86C4-ED301DB74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1EF6C6-8604-4BB5-A63F-67CED2A67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C19B64-E15D-4B82-867A-3635844D2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8E06FE-2665-40B7-93F5-054E922D6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C30C38-D96A-434F-8FAF-146A4E73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E5398C-9A9E-4182-BB8B-541690B24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294DB3-811D-4635-9AC5-4B5B567E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45A6E9-2C7B-4A12-A746-B1C8E855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9D7FBD-358F-472F-B5DE-6B17E4CF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241409-0952-4FDE-A57A-683C1E640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EC5145-BCC5-445C-8FD5-37893004C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26EB4E-355C-4C9C-81AE-E9D48DC28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69CA5A-F16F-47FE-A2FB-3F2A5761B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37CA55-06BB-4A9E-9F28-32A8CCADE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85CA0A-1696-4BC5-BF6E-B7AF74A02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1859FD-34AB-461A-86F3-4E8ACB4A4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F555CF-39A9-4C4F-9A49-1BAD1E9B8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B654E8-633B-48F0-BE4B-30D50386F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9BBCEC-BB2F-49E6-9B2B-8661568EF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E1ABDF-1F34-4CF9-B451-941096CE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DB1463-1F2A-44B0-BA12-A771F3B0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58206A-E9B1-47FA-AB19-D4FFBBB6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C7AAF7-421C-4A51-B82C-F9BDFB8A2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C33A01-5110-4A95-BACD-8197B2178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991077-7EB1-4F2E-8BDA-AD3A4A678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BD98C6-C36C-44E5-83D7-08FE4CDEA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92A32B-FA52-49B8-84E4-B369DB1D5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01B63A-4D27-41EE-9974-BA54FEA96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9FC03F-A992-474F-B1A9-6F69E6047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91CCB1-B586-4F59-9F90-B7F016193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330977-F242-4574-8271-8B85D1569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8DCB1F-9916-442D-8C18-DE64E4607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DECB00-AA52-444A-9DF7-B36627B8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771A7D-A7FE-4646-BB30-8007FA23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50E783-1782-488E-ACEF-C5EAA4C4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C2F2B8-B772-4917-9FE2-0A0A84406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039307-217D-4D02-B9BE-98A7DFCF9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BE3775-B07C-41C6-9945-9716DFB43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99A80E-1253-4278-B492-D06CEBF0A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DEF3C-B278-4C68-9F32-1D33FA39F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06C35-070C-407C-8355-7CF962458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CCA18-5B8D-4675-8868-CBC39964E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A0F96-CECC-46E2-929A-DABBB437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B49C6-9D03-4186-B793-87F202A57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4851-922D-4688-823E-30694613A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13B35-90E7-4F6A-AD4D-C86382730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22F79-5DE4-4484-B01E-80306185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DDB68-4379-4191-836E-FDDC7719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6C5AD-6268-4C69-B79C-D56B636E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47FE0-E117-44FB-8F9B-86A5640BA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F280C-34C0-485F-9ABF-2A78B475E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A814E-9416-48B2-8C9F-A13108351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7A4D6-1BA2-4A4A-A294-1B0CC007D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2F22F-F182-4FDA-9CDE-AFC5E46D8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CBD0D-6961-44E9-A0F0-A671D892C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5934-7D3A-4636-8FF8-02E68F259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2C108-E2ED-4514-B842-6E90FF54D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ADABF-FF45-4761-880E-D155409CE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3B8CF-8618-4FD7-87A0-A7E7362E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505C7-B760-4964-9309-2BD26BC9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EE2B5-C813-485B-9B1C-80BDE95E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57AF7-0A00-4240-92DD-99CBA8A1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8DF07-1614-494F-880B-DCF86FFC7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A0902-A199-440E-AFDE-C0129701B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CFDC7-2776-476B-87A4-CFCD2D54E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FF7250-6FFB-4BD7-96B8-A0C4B3037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1928-C87F-4CCC-9069-EAE4A0E2B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CEBA65-C8E3-4EBF-9FD3-3DE0CBD30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DD67487-4226-4F7F-9755-58462FA6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300DB8-56AD-4AA0-A4F7-10040FE62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60BBFA7-C879-4D3A-B771-6B107880C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B4DDA3-FD10-400C-BE0E-186D2F680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E6FBFB-5D28-4546-8D92-2D928BCB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BE4880-9BA3-4766-B629-7361393E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8B85D3-E7E8-4349-8DF5-F2E0604E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EBD7EA-6C50-402E-8EED-598199A1B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1FD14B-88A0-42B1-BB14-5035BA554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8C54-25F3-4B44-8B19-66411C5DB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246294-B8EC-4915-9241-231D1FC13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D3F968-A00D-450D-9C3B-D90A173BF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1DECC-7F5D-4D4C-A2AB-F90C45E4B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76C3F-4CE1-483C-BDB0-EF11AB045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4E3A2-4B7B-4D95-8EB2-565C34894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D3717-07F6-411C-97F9-711591467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1D506-2590-4B18-B38E-A06ED411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DEADD7-8C65-4341-98F4-9EA3E4CA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14B07-623E-44FE-92B2-BADC65F0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5CEF7-1485-48ED-B4A6-726BD739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4A09-EC1B-44AB-9542-73B73757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83732-C1B7-44F4-9A51-017EC04D8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753E4-95E8-4F01-B953-472F77D03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0F3567-B7B9-4AFD-81B5-0BDF3DBFE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397E3-5C31-435C-839B-70582AE1E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2955F-064A-4B78-8CDE-9F4F59330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E7170-03FE-45E3-89AF-082FC53B5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E59CF-65CF-4089-818A-1142010D5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CE194-02B1-47A9-94CE-5288C2989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CFAC2-C82D-42A0-A682-0A2EA2114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ADCEC2-64E4-437E-AF6D-5E0DB0EE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175E-70B6-4706-866F-51016B52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4C2D4F-0C96-4F12-B249-F11E7AB4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7AD5B-8B0E-44F6-94A0-A1E4B993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6979B5-45FD-413C-BF4D-09E8FF345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9BD621-482E-4164-AF08-0A1C70A46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52CD8-5D48-4B68-B60C-13E45FC21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A346ED-FAFA-41A5-A001-F415A3E7B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7CA4C7-534D-4C9E-BB4D-95129D159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2DCA28-AB08-4479-BFCF-FA0825224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5760BD-BCC6-4B03-A0E5-EC50601F6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F99339-A40F-4555-BFDB-D662BDCCE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3611-C35A-49AD-B8F7-CC289775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0F12C-EC8A-44AE-99ED-CC191EB37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6E747C-66ED-4D7B-989D-2EC663A8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9C4A84-F449-41D9-BC1D-D6BCDE91B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F596FD-E952-4210-8E3E-14F9A2C0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F08431-C9EE-4FF7-BAD4-DA042D2E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292F4E-D0D3-4B3B-9280-D3BE92AD5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77C7E1-7B18-408E-86D9-32D4FD2A1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866E82-8CE0-4A89-B2D3-9F072A3C0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4218AC-8D1A-4DEA-AB65-15DE05BE5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9AE620-4EDC-4A3B-A5D4-1072AF2EB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E8F7C-E08C-4482-BADD-FAD134EFCC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4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905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906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08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909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 type="dt" idx="28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 type="ftr" idx="29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 type="sldNum" idx="30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CB701-0C3A-4E10-A379-7F61839C88F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C686F-69CD-47CF-A07D-075764DF46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3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94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95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00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3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3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3F709-244F-49C5-9D3F-ACE06B2018E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3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044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47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048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1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61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2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73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78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61B5B-E2A6-42B2-8520-B6215E3492E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1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122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23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124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7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8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1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2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49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150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1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2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3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4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5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6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7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8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9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0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1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2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3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4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5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166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7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8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169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0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1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2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3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4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5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6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7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8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0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1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 type="dt" idx="40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 type="ftr" idx="41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33B15-6DAF-4B5F-81E0-332D11A0D12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7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122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4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5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8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2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5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6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7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9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1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2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3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4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5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6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7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8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9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0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1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2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3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4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5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6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7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8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9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0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4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7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3BBA8-BD81-43DE-B29B-9468FEACB2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4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485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486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7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8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9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0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1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2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3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4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5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6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7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8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99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500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1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2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3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4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5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6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7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8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9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0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1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2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3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4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5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6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7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8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9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0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1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2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3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4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5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6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7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8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9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0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1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2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3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4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3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4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5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6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7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8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9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0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1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2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3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4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5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6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7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8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9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0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1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2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3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4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5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6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7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8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9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0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2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3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4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5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6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7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9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3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4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5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6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7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9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0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1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2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3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4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5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6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7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8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9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0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1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2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3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4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 type="dt" idx="46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9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C0775-76C6-4723-B0AA-EF2B6D9991C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6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 type="dt" idx="49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PlaceHolder 4"/>
          <p:cNvSpPr>
            <a:spLocks noGrp="1"/>
          </p:cNvSpPr>
          <p:nvPr>
            <p:ph type="ftr" idx="50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PlaceHolder 5"/>
          <p:cNvSpPr>
            <a:spLocks noGrp="1"/>
          </p:cNvSpPr>
          <p:nvPr>
            <p:ph type="sldNum" idx="51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5DF8F-1639-4B57-9242-E7A1FCC9038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2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753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4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5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6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7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8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9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0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1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2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3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4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5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6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7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8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9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0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3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4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5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C934A-58EC-4327-9864-97EDBEB11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2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813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4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7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9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2025F-C477-4728-80A3-5EDDF9B2ADD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DBA08-6580-4EB1-BC39-0172625EE95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5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6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857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8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59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860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1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 type="dt" idx="58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5" name="PlaceHolder 4"/>
          <p:cNvSpPr>
            <a:spLocks noGrp="1"/>
          </p:cNvSpPr>
          <p:nvPr>
            <p:ph type="ftr" idx="59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6" name="PlaceHolder 5"/>
          <p:cNvSpPr>
            <a:spLocks noGrp="1"/>
          </p:cNvSpPr>
          <p:nvPr>
            <p:ph type="sldNum" idx="60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2AB2D-027C-4C6D-A58C-9D2DD6A3C69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92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5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96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9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0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21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6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9274B-993E-4472-932A-1FC4EE0BFF5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70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1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72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7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98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214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17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9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0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2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3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6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10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ftr" idx="11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5174A-A338-4164-9589-9CE67B64CBC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276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1" name="PlaceHolder 1"/>
          <p:cNvSpPr>
            <a:spLocks noGrp="1"/>
          </p:cNvSpPr>
          <p:nvPr>
            <p:ph type="sldNum" idx="1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18D0-DC28-4C09-BF83-BDA3144BA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dt" idx="1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ftr" idx="1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3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3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4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29184-BA90-4EC9-8ACA-3E16B38A34F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4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25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dt" idx="19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ftr" idx="20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5BB2F-0024-42DF-9ECC-2CB5D0B9253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80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7066-7FE9-4C4D-8948-577E73E215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86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BFB9E-10FF-4552-8C69-4DE99F626D8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2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gressive Presiden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 type="subTitle"/>
          </p:nvPr>
        </p:nvSpPr>
        <p:spPr>
          <a:xfrm>
            <a:off x="1289160" y="1752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5" name="Picture 5" descr="Portrait of William Howard Taft"/>
          <p:cNvPicPr/>
          <p:nvPr/>
        </p:nvPicPr>
        <p:blipFill>
          <a:blip r:embed="rId1"/>
          <a:stretch/>
        </p:blipFill>
        <p:spPr>
          <a:xfrm>
            <a:off x="3505320" y="2971800"/>
            <a:ext cx="1800000" cy="2514600"/>
          </a:xfrm>
          <a:prstGeom prst="rect">
            <a:avLst/>
          </a:prstGeom>
          <a:ln w="0">
            <a:noFill/>
          </a:ln>
        </p:spPr>
      </p:pic>
      <p:pic>
        <p:nvPicPr>
          <p:cNvPr id="1906" name="Picture 7" descr="Portrait of Woodrow Wilson"/>
          <p:cNvPicPr/>
          <p:nvPr/>
        </p:nvPicPr>
        <p:blipFill>
          <a:blip r:embed="rId2"/>
          <a:stretch/>
        </p:blipFill>
        <p:spPr>
          <a:xfrm>
            <a:off x="6705720" y="2895480"/>
            <a:ext cx="1676160" cy="2486160"/>
          </a:xfrm>
          <a:prstGeom prst="rect">
            <a:avLst/>
          </a:prstGeom>
          <a:ln w="0">
            <a:noFill/>
          </a:ln>
        </p:spPr>
      </p:pic>
      <p:pic>
        <p:nvPicPr>
          <p:cNvPr id="1907" name="Picture 9" descr="Portrait of Theodore Roosevelt"/>
          <p:cNvPicPr/>
          <p:nvPr/>
        </p:nvPicPr>
        <p:blipFill>
          <a:blip r:embed="rId3"/>
          <a:stretch/>
        </p:blipFill>
        <p:spPr>
          <a:xfrm>
            <a:off x="533520" y="2895480"/>
            <a:ext cx="1828800" cy="2667240"/>
          </a:xfrm>
          <a:prstGeom prst="rect">
            <a:avLst/>
          </a:prstGeom>
          <a:ln w="0">
            <a:noFill/>
          </a:ln>
        </p:spPr>
      </p:pic>
      <p:sp>
        <p:nvSpPr>
          <p:cNvPr id="1908" name="Text Box 10"/>
          <p:cNvSpPr/>
          <p:nvPr/>
        </p:nvSpPr>
        <p:spPr>
          <a:xfrm>
            <a:off x="380880" y="5638680"/>
            <a:ext cx="2590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odore Roosev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01-19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9" name="Text Box 11"/>
          <p:cNvSpPr/>
          <p:nvPr/>
        </p:nvSpPr>
        <p:spPr>
          <a:xfrm>
            <a:off x="3429000" y="5562720"/>
            <a:ext cx="2666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lliam Howard Taf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09-19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0" name="Text Box 13"/>
          <p:cNvSpPr/>
          <p:nvPr/>
        </p:nvSpPr>
        <p:spPr>
          <a:xfrm>
            <a:off x="6553080" y="5486400"/>
            <a:ext cx="2133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odrow Wils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13-19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Election of 1912</a:t>
            </a:r>
            <a:br>
              <a:rPr sz="2800"/>
            </a:b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Taft: Republican, Roosevelt: Progressive</a:t>
            </a:r>
            <a:br>
              <a:rPr sz="2800"/>
            </a:b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Wilson: Democrat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osevelt challenges Taft for Republican nomin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Roosevelt form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new party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ogressive Par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osevelt’s party was also called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Bul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Moose Part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after Roosevelt stated he was as strong as a bull moose when questioned about his heal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2" name="Picture 1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89913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Woodrow Wilson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28</a:t>
            </a:r>
            <a:r>
              <a:rPr b="0" lang="en-US" sz="4000" spc="-1" strike="noStrike" baseline="30000">
                <a:solidFill>
                  <a:srgbClr val="e5ffff"/>
                </a:solidFill>
                <a:latin typeface="Tahoma"/>
              </a:rPr>
              <a:t>th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President: Democrat 1912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Wilson defeated Roosevelt and Taft in the election of 19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s plan was called “New Freedom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wered tariffs on imported good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5" name="Picture 4" descr="Portrait of Woodrow Wilson"/>
          <p:cNvPicPr/>
          <p:nvPr/>
        </p:nvPicPr>
        <p:blipFill>
          <a:blip r:embed="rId1"/>
          <a:stretch/>
        </p:blipFill>
        <p:spPr>
          <a:xfrm>
            <a:off x="3505320" y="4267080"/>
            <a:ext cx="16761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ilson’s Accomplishmen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0" y="8082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913- Federal Reserve A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Regulated bank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913 – 17</a:t>
            </a:r>
            <a:r>
              <a:rPr b="0" lang="en-US" sz="3200" spc="-1" strike="noStrike" u="sng" baseline="30000">
                <a:solidFill>
                  <a:srgbClr val="ffffff"/>
                </a:solidFill>
                <a:uFillTx/>
                <a:latin typeface="Tahoma"/>
              </a:rPr>
              <a:t>th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amendment (direct election of Senator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914- Federal Trade Commission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Investigated corporations for unfair trade practic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914- Clayton Anti-Trust A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Weapon against tru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8</a:t>
            </a:r>
            <a:r>
              <a:rPr b="0" lang="en-US" sz="3200" spc="-1" strike="noStrike" u="sng" baseline="30000">
                <a:solidFill>
                  <a:srgbClr val="ffffff"/>
                </a:solidFill>
                <a:uFillTx/>
                <a:latin typeface="Tahoma"/>
              </a:rPr>
              <a:t>th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amendment (prohibition) – 191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9</a:t>
            </a:r>
            <a:r>
              <a:rPr b="0" lang="en-US" sz="3200" spc="-1" strike="noStrike" u="sng" baseline="30000">
                <a:solidFill>
                  <a:srgbClr val="ffffff"/>
                </a:solidFill>
                <a:uFillTx/>
                <a:latin typeface="Tahoma"/>
              </a:rPr>
              <a:t>th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amendment (women’s suffrage) - 192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Quiz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 What department took action against trusts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 What is arbitration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 What group did Roosevelt force to agree to arbitration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. What act regulated banking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5. Who won the 1912 presidential election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6. What did the 16</a:t>
            </a:r>
            <a:r>
              <a:rPr b="0" lang="en-US" sz="20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Amendment establish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7.The Progressive Party was also known as the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__________ Party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8. Who won the election of 1908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9. Who was defeated in the election of 1908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0. Roosevelt’s promise to the people in the 1904 elect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nsw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Justice Departm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tervention by a third party, not affiliated with either side, in negoti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ited Mine Work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ederal Reserve Ac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oodrow Wilson/Democr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come Tax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ull Moose Part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illiam Henry Taft/Republica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illiam Jennings Brya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quare De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heodore Roosevelt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26</a:t>
            </a:r>
            <a:r>
              <a:rPr b="1" lang="en-US" sz="4000" spc="-1" strike="noStrike" baseline="30000">
                <a:solidFill>
                  <a:srgbClr val="e5e5ff"/>
                </a:solidFill>
                <a:latin typeface="Garamond"/>
              </a:rPr>
              <a:t>th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President-Republican (1901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came President when McKinley was assassinated in 1901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rought progressive ideas to the White Hous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t that time he was the youngest President in histo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13" name="Picture 5" descr="TR stumping"/>
          <p:cNvPicPr/>
          <p:nvPr/>
        </p:nvPicPr>
        <p:blipFill>
          <a:blip r:embed="rId1"/>
          <a:stretch/>
        </p:blipFill>
        <p:spPr>
          <a:xfrm>
            <a:off x="6858000" y="4038480"/>
            <a:ext cx="190512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Trustbuster/Roosevel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oosevel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supported Progressive reform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190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Ordere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Justice Departmen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to tak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gal action agains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certai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trust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rst Target: Northern Securities Compan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SC railroad monopoly that controlled transportation in the Northwes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SC fought the charg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904 Supreme Court ordered trust taken apar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 Trustbuster At Work/Roosevelt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25 indictment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against trusts in beef, oil and tobacco indust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oosevelt felt that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not all trusts should be broken up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se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trusts should be regulated, not destroye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Labor Crisis/Roosevel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902 Coal miners strik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members of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United Mine Work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demanded better pay, 8 hour workday and recognition of union rights. The coal strike lasted for month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osevel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forced mine owners and workers to agree to arbitr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bitration is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ettling of a dispu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y agreeing to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cept the decision o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 impartial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utsid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e workers won better pay and an 8 hour workd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did not gain recognition for the un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-3024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quare Deal/Roosevel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152280" y="7621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oosevelt’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logan for reelection in 190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mised American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equal treatment for al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oosevelt won with 57% of the popular vo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oosevel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called fo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 considerable amount of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government regulation of busines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was in contrast with the attitude of government towards business dating back to Thomas Jefferso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term laissez faire, from Jefferson’s era, means “let the People do as they choose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oosevelt aimed to change this attitude through government regula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Pure Food and Drug Act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 (1906)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 preventing the manufacture, sale, or transportation of adulterated or misbranded or poisonous or deleterious 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ood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rug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medicines, and liquors, and for regulating traffic therein, and for other purpo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onserving the Wilderness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oosevel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 president Roosevelt took steps 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onserve the country’s natural resources, forests, water and mineral deposi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905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he proposed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U.S. Fores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ervic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He pressured Congress to set aside millions of acres of national forests and created the first wildlife sanctuar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4" name="Rectangle 6"/>
          <p:cNvSpPr/>
          <p:nvPr/>
        </p:nvSpPr>
        <p:spPr>
          <a:xfrm>
            <a:off x="3276720" y="5715000"/>
            <a:ext cx="22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http://www.fs.fed.u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William Howard Taft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27</a:t>
            </a:r>
            <a:r>
              <a:rPr b="0" lang="en-US" sz="4000" spc="-1" strike="noStrike" baseline="30000">
                <a:solidFill>
                  <a:srgbClr val="dbbd71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President-Republican (1908)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64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f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defeated William Jennings Brya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n the election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908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ft went beyond many of Roosevelt’s polic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aft won more anti-trust cases (twice as many as Roosevelt)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favored safety standards for mines and railroad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7" name="Picture 4" descr="Portrait of William Howard Taft"/>
          <p:cNvPicPr/>
          <p:nvPr/>
        </p:nvPicPr>
        <p:blipFill>
          <a:blip r:embed="rId1"/>
          <a:stretch/>
        </p:blipFill>
        <p:spPr>
          <a:xfrm>
            <a:off x="4038480" y="5257800"/>
            <a:ext cx="14479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16</a:t>
            </a:r>
            <a:r>
              <a:rPr b="1" lang="en-US" sz="4400" spc="-1" strike="noStrike" baseline="30000">
                <a:solidFill>
                  <a:srgbClr val="feec94"/>
                </a:solidFill>
                <a:latin typeface="Times New Roman"/>
              </a:rPr>
              <a:t>th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Amendment/Taf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ft supported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16</a:t>
            </a:r>
            <a:r>
              <a:rPr b="0" lang="en-US" sz="3200" spc="-1" strike="noStrike" u="sng" baseline="30000">
                <a:solidFill>
                  <a:srgbClr val="ffffff"/>
                </a:solidFill>
                <a:uFillTx/>
                <a:latin typeface="Times New Roman"/>
              </a:rPr>
              <a:t>th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Amendme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which gave Congress the power 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ax peoples’ inco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income tax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woul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generate revenu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or the federal governmen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9T15:22:47Z</dcterms:created>
  <dc:creator>cynthia prewitt</dc:creator>
  <dc:description/>
  <dc:language>en-US</dc:language>
  <cp:lastModifiedBy>Amy Davis</cp:lastModifiedBy>
  <dcterms:modified xsi:type="dcterms:W3CDTF">2018-03-21T19:01:28Z</dcterms:modified>
  <cp:revision>20</cp:revision>
  <dc:subject/>
  <dc:title>Progressive Presidents</dc:title>
</cp:coreProperties>
</file>