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65F-FF13-419B-9945-994B1AF8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2C3-030F-4C19-B9DC-C61CC2E0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4CF29-CEEE-4D93-8486-C023695A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5F552-DF47-4AA2-9F73-93855BF5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58607-5A17-48E3-AD56-2B4F6EFB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BC457-DAD1-4332-94E0-DDC2DA1B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FC36F-A61F-4DE2-B260-D25B634E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6B858-288C-45F4-89DE-6721579B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4B272-F222-4915-804A-197BDCA3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1357B-DF0E-4490-8661-1214B4B0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B7C15-1871-47A3-8D6C-7431D5B9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97E88-6E9F-42B9-8ED2-8CACEAF6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E13-474B-41EA-ABD1-FC85214C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03C45-56AA-46D9-8629-C74E39F1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C6826-AFBD-4C9D-B264-9187F148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E2D71-CEAA-4EE1-83E4-CA9BAC27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5DCAE-E89F-4672-A4E7-2E347388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8B5F5-50E6-41B8-80B5-7E506B0F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5F4BB-AE41-47DA-AE16-BB96E7CC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890E7-3549-4587-A4B9-5F2FD179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A8C01-5EB4-46A4-B602-B42027CB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2D3AF-D186-4CBF-9A8D-41607897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4EFF5-1A84-4EDA-A0F8-C80F3F4A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B46-ACDF-4D7B-8A62-57FEE54D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C63C3-C3F6-4662-956C-65694830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152FE-FF61-4FF6-BAB2-56E0FB73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3F76A-FDC2-4137-881B-D02B6EE0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D05F4-B803-44CA-9B4F-D126E7CD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BE376-D3B1-4942-9B8B-8D8F2439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0AEA7-0C9B-4CC4-981C-6786764C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FEB40-411A-4769-B9A6-DAE017F0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854E2-20A6-42CF-A53D-EDEB7FB3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75D89-0E3D-454B-AA43-C84E9233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9273E-09D5-4A4A-9BB0-AD54E2D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4BFD7-86F7-4B20-83AC-7B77FCC3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4D31C-ED35-42D7-BC24-A42955A5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7838B-D8DB-415C-ABFB-1BE6548E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D2BE8-B5F4-44BB-9C6E-EDEB62F0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75FEB-D266-4558-9802-5DBC8546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99A4A-DB54-4CE4-8137-BA1B2C39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D24B7-75E7-464B-8EF0-231C034B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B8DA1-B191-49D0-BF16-298581B5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59BC6-65EA-47EF-B367-EE54DED8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A2F31-52D0-46D6-9D57-57D7CBD9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D7FA1-9457-4765-A3F7-DE2FEF1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A279F-E02D-4091-9866-41EEA983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44641-CDBD-458B-BF65-7CC8C280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363B3-F01B-4919-B096-7880E303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B56CA-EF3E-4B99-94B8-13DE5AFE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D46CB-1FD8-48A7-B968-56E676C1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71D84-BD56-4469-876F-34D2F790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9FF99-0232-4F6F-99D0-686404CC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94C43-DB8D-4463-8FE6-08A34525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53A87-B9EF-4DD0-A73E-518A9A49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2687E-9FFE-47A7-8D9E-B6D3E7CA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7E89A-1544-48F2-A84F-D703E088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09EB6-96E1-4849-8962-64D1A389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F1C9D-DADF-42CE-B7A2-DADCA567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E01C8-B878-451D-BCEB-8CE0B335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1A0FB-5307-4243-A938-49689466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7CDA3-73CE-4E5F-89BB-52675414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02A23-DF86-4A63-85F9-07793DDF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088F3-759A-40AD-B1F9-DD07B901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95B93-D92F-4830-8BB3-B123E3C5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6CD2B-F19C-4909-A6C0-5792B420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CE39A-11B9-4D6C-BFCA-D9EEC681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D1C6B-F4F5-4690-92CF-0B1EC30C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90FCD-6FE6-44E1-A7EA-448C8BB8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D630D-2FFF-4984-BC35-DD2B8997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E4454-0EAF-4862-8175-F457D739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A8F8F-C3A5-4410-99D0-706C1CB1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55E51-C11B-4F3A-8070-5D15470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3979B-842A-48A7-98DD-7212726C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C312A-8D7E-405E-AC8D-2E3BEAFB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38626-4376-44EC-BAF8-F004F3F1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2DB31-5D68-4786-87A2-FEE3CB99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64D89-E627-4F38-A14A-CB513E71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13474-D7FD-4ED1-889F-383DD607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4B8B1-54F4-4CB9-835B-1DE0C73D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C72691-62E3-4C38-83C0-69517CC8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9AEE4-E7FA-4C0D-BAF9-56AAFCA0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74C64-CA33-45E3-B3C0-EB16B9AE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FA626-8593-4B62-825A-33AD558E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D56E9-CB45-4A7E-BF6B-BC4FCBC6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FB3C1E-5150-4584-A1B4-285EE684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6823A-CAC1-476D-837E-74D364C2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D5FE4-E7EC-4997-9615-D9E98F52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5215D-5A98-4DEE-8FE8-E8590226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4136F-B3F1-4D59-AC6D-E0EA0841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1EF65-D36C-4E7F-B2A2-B0847C6B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F3D6A-7890-4AEE-A14E-34D4B605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05945-C61F-4D41-9F31-60E1A725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9EF89-228A-407C-9430-B952D155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8C96F-F30B-481E-9E46-C246E15B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B2466-FEB3-49DF-8E1C-F4D38C0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AC9D8-9D49-4F37-9924-5722FF23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C0A1C-4120-418D-8A98-16994E9F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BBFE37-1E9A-49B3-BD9D-67F6CB0A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4C5B9-1602-4DD3-8FC6-4E7B1A5D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2DA05-5256-4D07-9BE4-5B5EEFB5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5D28B-6CA4-4A17-B121-770E2A9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0E4E7-2545-4CF7-B92F-4F09218B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E960F-D208-4AE9-8495-25BA41D9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B63C7-7280-419F-B1A3-9AFC374A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553CBC-6F05-492E-A50E-C98CD481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436FC-AB25-48A1-84E9-AB71D8DC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D4E992-846D-4086-BE09-C870599D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E1BB0F-EAD7-4B62-AB6F-A048536C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674CA2-54B6-4D20-A5D8-81C8359A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2D8E83-3057-4D97-AAC5-B4ABCEC0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F6937-2C5D-4EAE-8A64-C5B7EB20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AEB-88AD-4520-B0EF-12218EDB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71F96-A706-4E54-BB8A-25BD9EBE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A26DEE-20F4-4E6A-9EB8-A8E1F705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EF9A7C-E1F2-49C9-AA95-C74BBB4F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42F3B-CBBC-4625-AFBC-9D3045BE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D648C-948E-499C-9B80-A86D2456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63E88-C1AA-4BB5-8E1A-9551E77E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6198A-F0C9-4DE6-90E9-A624FFF3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23D02-6580-4E3F-84D9-E2D20F38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67A93-A6B0-4368-8AE5-75D1FF28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8F2A12-F7E0-4F8F-8514-DCEAFBFF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63D536-A6C8-455E-B3ED-4A017C1E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8B640-969D-4CC2-9842-D6441767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7C23BA-93CF-4BD5-8628-98C1CC85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830569-CAAA-4601-A8DD-18211043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01ED4-ADA5-437D-9ABE-A0FC6168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AE5B43-FA2D-40B4-AAB9-44202A8B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723703-76DA-492D-A345-0D7E4463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3574D0-5745-4D3B-AE88-3007F20E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78AB6-619A-466F-A903-0AC378D4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388D6D-EA0D-4418-B432-767E84D4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7AC817-1AC8-4C0F-82FA-ADF41895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452BB-02FA-4C93-8C25-25A5ACF5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4DBC6-0A0D-4385-8FF8-9A14F329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28CB70-1A10-4365-A8FF-BFEF5DD5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DB677C-66CB-4AEC-9AD6-603FB4AD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6FADD3-5F63-43AF-B967-60EE575B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93C84-185B-4F20-A5E5-DA9C8C46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9B85DC-4EF7-4F15-B795-2ECD0764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0D3C6-D576-41A2-A3E4-A8E663EC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215B0-4E06-4E47-B045-C54709DE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6236C9-7D15-4097-AC4A-2BC86F5F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516E8F-5B40-4801-8AE6-6363A21E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1AD5A-BD18-43BE-AB26-7D9F7297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9A7E5-0FA4-4523-88FD-6F952B30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0B15D5-D2E2-47A9-ABC5-C331332C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1D5BDF-9901-46BC-B823-8992C567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853E3-F052-44AD-8516-D1A8BB96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6BDE56-BB37-4A0E-BEEE-24B54FDB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3D09B-DCD1-470C-806B-26A9CD12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DE0D10-9B7A-40A2-80D8-193E3415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F0349-C007-4E3D-9502-B3341610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E858AE-5A80-40F9-8A2D-F545CBED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77347C-C7DC-4229-B9B4-D4428016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35E6F-9C3E-429D-A0FF-1F70794B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FF5E1-20D2-4A05-9B76-FCFBD06D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74191E-C070-4E50-8F3D-6DDA8297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E7A5-94D2-49D5-BC6F-207D8830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8461-5A54-447B-B429-446837EA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0BD1C-33E9-49E6-8C8D-F107A4AA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26087-9BBE-4E40-AF1F-1F74E86F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DA186-ADD6-4923-8870-9920436A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57D-770B-4687-A745-02657EE9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0BFE-9BB3-43D4-B512-E099E6E6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B2DD-0B60-460C-A6D0-C2D7078F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E583-B9B9-4356-86A6-673E649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8DFC-AACB-4FDD-B578-69ED7336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1DF0-C887-43A0-A5AA-74005D45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12E3-A882-4E03-9BAD-BA9F87BC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7D53-9C72-4079-96D6-BA8A57BA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427C6-E0FF-4F28-A623-AE88484F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44F3-2C01-4A50-97B1-1069F68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8AA4F-C073-4100-B1FD-C3770947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E54-DEA7-44CE-87A0-3078CB83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5EC94-FBA5-4BFC-967A-575569CB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5256B-5160-4097-9275-25C753CC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F17B7-4530-4A77-9D09-A490F825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69BF-3B33-4FA3-BF05-002D6BD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7B97-DBAB-4541-A8DC-1473B55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641CB-B46B-4F4E-B4A6-041FEF68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2B35-9CF0-4820-A024-175A09D7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6E40D-6F32-48D5-A7A4-731D4321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B4CE-CB59-40E5-812C-50437E01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9E9C4F-F5D2-473B-BA9B-1FE98DAF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88C-9570-4C13-913C-28BF06BA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A1431A-1FB3-44C0-B19F-0EE98EDD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701C71-2B78-46FD-BA10-644D219B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D93A86-034E-41C3-B46C-835C0716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B46B19-2EB2-4A14-B725-93704B5A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836FC9-BA7A-4589-AAE2-1B4023DE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560928-6669-42FF-A8B4-C9B71EE0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FE1DBB-42B3-42CB-A0D2-6360AD5C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E2B46E-AB7A-4420-A8DA-7598FBA2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89D1BA-9B10-4914-B779-5DD18A56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E2FAA7-04CE-4567-A232-1EB9ECB0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651-6CAB-42FE-B52A-35A36EDB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5F05AB-53A8-4AA2-96EE-09E0D58A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BE05D-ACC8-4525-B465-6BCC1A89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F31BF-F21E-47BB-ADC5-C82E0742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51E71-11E9-49E2-994A-8B4C70F0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4E6CC-D093-4642-A699-FF98A0D8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245E2-2D44-4BA0-B686-2AFF3056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2D760-CA6E-4DDF-AADC-3D0BFAA1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486B5-DCDF-4EF3-957D-705FA77A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BF9A-AAA2-45A8-89A9-88621135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41C43-63A0-4E75-89C3-F3F1FC5A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5C1-C21D-498D-BF90-6F92E47D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6B5F4-D9BE-4B2E-B272-01448B5D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C63E4-21FA-4D33-9611-3F00C633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33E77-4473-4FDE-9BEE-563EA8E3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3ED13-9B15-4B36-86BB-5FED589D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E4C36-64D6-4B60-9F08-71646108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AD6AA-54D7-44FD-85D5-5AF4D6AC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A008F-BF83-44FE-8B89-7AFF7345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ED522-0744-465C-B6F4-B7C26B03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5A584-70E8-43D0-BD49-513B5A1C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174D8-F9C7-49CF-9601-E9429776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1C7-E104-4B73-9F30-6633760C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8C1ED-50FC-4970-9962-AD75B3BA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9DFB3-BE3B-496A-AC5C-5C72D52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1DE42-8FD6-4C5C-92AE-E3C5C466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5C9AB-5F78-4D43-B4EE-7D9DDC88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5FEB6-6E1B-4500-959E-C49E5614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E71BE-2707-4878-998C-AC88B11C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38F95-8886-4B08-BB9A-62637CA7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EA502-46D6-447A-9C9F-EAC21C6B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3F357-D97E-4968-97FE-43BD50A0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584D1-4223-47BF-BD75-434643A8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968-4763-4A59-898B-83FBAA67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BE733-C2C5-4A8E-8A84-99A19CCA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99645-3AF7-40CA-9AB1-1B05851D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6EF3F-F0C0-4B27-AF03-CD9EBBB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DF8C2-684E-4888-9336-523E255A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9C897-1A12-4362-9255-14ED6BA3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71A04-6A0D-4697-BE39-8BEF3D1C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61F0E-870D-4E62-B328-41E6E397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3B322-539D-49A0-A6FF-53B22D7D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8A143-72EA-4E7B-9C3D-16CD9D9D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92B7F-18D2-4EDD-842F-0BF4BB90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600E-E875-41A9-BF33-2137B51B0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0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0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0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F3A8-C334-4E1A-A0E3-7F2A16CBBA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E79E-0A44-4C3A-A0B8-21A674B42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61E9-A7C0-4E8E-9326-7C7F61C0FD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1F60-8CE0-4E5E-8140-D764324863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2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5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6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6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91CE-D90A-49B1-83AB-34F280118E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22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6DA1-0EA1-4F94-9A04-002F2E333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0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72B9-5002-449A-9F92-9A4A6F6D9B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AB29-CAF3-4788-80F9-4E126B2E8F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5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F355-26A3-4A64-85C9-BF9D5347E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81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A7E1-C6A4-48AD-AE83-D66AF78911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A1CD-F1DE-44C1-8FAC-2753D8D116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5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6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3807-E4A9-48E1-9314-C1EF82F2F5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E013-D267-4822-99D7-70D790A969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FE9E-F68A-4348-8287-F8B2FF7ED6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7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4DA2-D088-499A-B587-CC943127D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3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3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4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41AB-1643-4CA0-838C-7358024B72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2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0C6D-0E33-4523-90EE-E0FD11FDF5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739E-115C-4145-BB3E-B3C9D06AE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76BC-1FEF-43F6-AB24-17866B0AD7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gressive Presid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subTitle"/>
          </p:nvPr>
        </p:nvSpPr>
        <p:spPr>
          <a:xfrm>
            <a:off x="128916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5" name="Picture 5" descr="Portrait of William Howard Taft"/>
          <p:cNvPicPr/>
          <p:nvPr/>
        </p:nvPicPr>
        <p:blipFill>
          <a:blip r:embed="rId1"/>
          <a:stretch/>
        </p:blipFill>
        <p:spPr>
          <a:xfrm>
            <a:off x="3505320" y="2971800"/>
            <a:ext cx="1800000" cy="2514600"/>
          </a:xfrm>
          <a:prstGeom prst="rect">
            <a:avLst/>
          </a:prstGeom>
          <a:ln w="0">
            <a:noFill/>
          </a:ln>
        </p:spPr>
      </p:pic>
      <p:pic>
        <p:nvPicPr>
          <p:cNvPr id="1906" name="Picture 7" descr="Portrait of Woodrow Wilson"/>
          <p:cNvPicPr/>
          <p:nvPr/>
        </p:nvPicPr>
        <p:blipFill>
          <a:blip r:embed="rId2"/>
          <a:stretch/>
        </p:blipFill>
        <p:spPr>
          <a:xfrm>
            <a:off x="6705720" y="2895480"/>
            <a:ext cx="1676160" cy="2486160"/>
          </a:xfrm>
          <a:prstGeom prst="rect">
            <a:avLst/>
          </a:prstGeom>
          <a:ln w="0">
            <a:noFill/>
          </a:ln>
        </p:spPr>
      </p:pic>
      <p:pic>
        <p:nvPicPr>
          <p:cNvPr id="1907" name="Picture 9" descr="Portrait of Theodore Roosevelt"/>
          <p:cNvPicPr/>
          <p:nvPr/>
        </p:nvPicPr>
        <p:blipFill>
          <a:blip r:embed="rId3"/>
          <a:stretch/>
        </p:blipFill>
        <p:spPr>
          <a:xfrm>
            <a:off x="533520" y="28954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1908" name="Text Box 10"/>
          <p:cNvSpPr/>
          <p:nvPr/>
        </p:nvSpPr>
        <p:spPr>
          <a:xfrm>
            <a:off x="380880" y="563868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odore Roosev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1-19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 Box 11"/>
          <p:cNvSpPr/>
          <p:nvPr/>
        </p:nvSpPr>
        <p:spPr>
          <a:xfrm>
            <a:off x="3429000" y="55627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Howard T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9-19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Text Box 13"/>
          <p:cNvSpPr/>
          <p:nvPr/>
        </p:nvSpPr>
        <p:spPr>
          <a:xfrm>
            <a:off x="6553080" y="54864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odrow Wil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13-19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Election of 1912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Taft: Republican, Roosevelt: Progressive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ilson: Democrat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 challenges Taft for Republican no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oosevelt form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w par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gressive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’s party was also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ose Par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fter Roosevelt stated he was as strong as a bull moose when questioned about his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odrow Wilso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8</a:t>
            </a:r>
            <a:r>
              <a:rPr b="0" lang="en-US" sz="40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President: Democrat 191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ilson defeated Roosevelt and Taft in the election of 19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lan was called “New Freedom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ed tariffs on imported go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5" name="Picture 4" descr="Portrait of Woodrow Wilson"/>
          <p:cNvPicPr/>
          <p:nvPr/>
        </p:nvPicPr>
        <p:blipFill>
          <a:blip r:embed="rId1"/>
          <a:stretch/>
        </p:blipFill>
        <p:spPr>
          <a:xfrm>
            <a:off x="3505320" y="4267080"/>
            <a:ext cx="167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lson’s Accomplish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0" y="808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- Federal Reserve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gulated ban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 – 17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direct election of Sena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Federal Trade Commission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vestigated corporations for unfair trade pract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Clayton Anti-Trust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pon against tru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8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prohibition) – 19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women’s suffrage) - 19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i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What department took action against trust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What is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What group did Roosevelt force to agree to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What act regulated banking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Who won the 1912 presidential elec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What did the 16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endment establish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The Progressive Party was also known as th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___ Part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 Who wo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. Who was defeated i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 Roosevelt’s promise to the people in the 1904 elec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sw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ustice Depart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vention by a third party, not affiliated with either side, in negoti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ted Mine Work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deral Reserve 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odrow Wilson/Democr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e Ta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ll Moose Pa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Henry Taft/Republic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Jennings Bry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quare D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odore Roosevel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6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President-Republican (1901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me President when McKinley was assassinated in 1901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ught progressive ideas to the White Ho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at time he was the youngest President in histo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3" name="Picture 5" descr="TR stumping"/>
          <p:cNvPicPr/>
          <p:nvPr/>
        </p:nvPicPr>
        <p:blipFill>
          <a:blip r:embed="rId1"/>
          <a:stretch/>
        </p:blipFill>
        <p:spPr>
          <a:xfrm>
            <a:off x="6858000" y="4038480"/>
            <a:ext cx="1905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rustbuster/Roosevel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osevel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pported Progressive ref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190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Order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Justice Departm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ta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gal action again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rta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rus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Target: Northern Securities Comp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railroad monopoly that controlled transportation in the Northwe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fought the char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04 Supreme Court ordered trust taken apa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rustbuster At Work/Roosevel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5 indict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gainst trusts in beef, oil and tobacco indus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osevelt felt tha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t all trusts should be broken u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s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rusts should be regulated, not destroy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bor Crisis/Roosevel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902 Coal miners strik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membe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ited Min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emanded better pay, 8 hour workday and recognition of union rights. The coal strike lasted for mon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ced mine owners and workers to agree to arbit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tion i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ttling of a disp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agreeing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cept the decision o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imparti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si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 workers won better pay and an 8 hour work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id not gain recognition for the un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Deal/Roosevel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’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logan for reelection in 19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ised America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qual treatment for 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won with 57% of the popular vo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alled f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considerable amoun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overnment regulation of busin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in contrast with the attitude of government towards business dating back to Thomas Jeffers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rm laissez faire, from Jefferson’s era, means “let the People do as they choose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aimed to change this attitude through government regul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ure Food and Drug Ac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 (1906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preventing the manufacture, sale, or transportation of adulterated or misbranded or poisonous or deleterious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ru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medicines, and liquors, and for regulating traffic therein, and for other purpo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serving the Wildernes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osevel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president Roosevelt took step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erve the country’s natural resources, forests, water and mineral deposi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 propos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U.S. For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rv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He pressured Congress to set aside millions of acres of national forests and created the first wildlife sanctu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4" name="Rectangle 6"/>
          <p:cNvSpPr/>
          <p:nvPr/>
        </p:nvSpPr>
        <p:spPr>
          <a:xfrm>
            <a:off x="3276720" y="57150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fs.fed.u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illiam Howard Taft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7</a:t>
            </a:r>
            <a:r>
              <a:rPr b="0" lang="en-US" sz="4000" spc="-1" strike="noStrike" baseline="30000">
                <a:solidFill>
                  <a:srgbClr val="dbbd7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President-Republican (1908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eated William Jennings Bry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election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went beyond many of Roosevelt’s poli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aft won more anti-trust cases (twice as many as Roosevel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favored safety standards for mines and railroa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7" name="Picture 4" descr="Portrait of William Howard Taft"/>
          <p:cNvPicPr/>
          <p:nvPr/>
        </p:nvPicPr>
        <p:blipFill>
          <a:blip r:embed="rId1"/>
          <a:stretch/>
        </p:blipFill>
        <p:spPr>
          <a:xfrm>
            <a:off x="4038480" y="5257800"/>
            <a:ext cx="1447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6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th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Amendment/Taf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ft support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6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Amend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ich gave Congress the power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x peoples’ in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come ta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nerate reven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the federal govern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5:22:47Z</dcterms:created>
  <dc:creator>cynthia prewitt</dc:creator>
  <dc:description/>
  <dc:language>en-US</dc:language>
  <cp:lastModifiedBy>Amy Davis</cp:lastModifiedBy>
  <dcterms:modified xsi:type="dcterms:W3CDTF">2018-03-21T19:01:28Z</dcterms:modified>
  <cp:revision>20</cp:revision>
  <dc:subject/>
  <dc:title>Progressive Presidents</dc:title>
</cp:coreProperties>
</file>