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CD0-2D9E-43FD-8F3B-3D27AFD3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D18-3DDC-4E60-84C0-66BE6EDF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9DA7C-6199-4700-B96B-70EB49B1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14691-F3AC-4DC6-AFBC-58C6DD8C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2F403-C046-4729-A659-86896DE7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9E619-25A6-4042-9394-CE1AEB18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D7434-6F56-4A6C-92B7-4C7BE68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464A5-0FED-4F18-8AF8-FF68A5F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801AF-5D36-4A8D-B006-953B80E2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F91E1-4880-4B03-89C7-8BD59C30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EB1AB-AB50-425B-B9EF-9831FD00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203EC-A46A-4D2C-85B2-DF3CC4B0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BDD-F2AE-4134-9C04-21B3D4D3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4E0F3-D7CF-4865-BAC2-3BED6E69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CCD4C-F9D6-4DA3-B883-A6EDB5DE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2603C-F5F3-48BB-99B9-CE2EA302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C6804-5D30-4591-B4C6-D9418371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58D96-CF5B-46A1-8137-36367EB3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537ED-24C7-4701-98D6-CC757D03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92BDB-AF7D-48B8-B156-16D938F3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DAD25-2B56-47DA-9C13-5EF1A6C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25E6C-D50F-40A9-991A-31AA2DF5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2DF86-420A-4D92-88D5-8F6E7BB3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B25-EA0A-483F-B377-F0134455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DBFF6-A778-4448-B606-40917EBA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CD79F-AB9C-43F1-8D72-1C196217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19B50-F881-4E65-81D5-C1A9EA36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E3FB8-5BDC-4A85-A35E-7B6A9EE8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B322A-91A9-4365-892A-B84C4241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F1443-B17D-41F6-933E-47234241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15C1A-7079-4089-A5C2-824BDCE3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A291D-0570-433A-AA33-CAF46C8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F2DAC-B970-477F-904F-7EAC6473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EA3D8-7E7C-4396-BBB1-3BF97DB3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8A738-DE22-49D9-BC93-E89D0DCD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04571-941D-4F9C-8A2F-B9A08451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ECAF5-7BC4-4B33-B0E6-CC12F8B1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633F5-0BB7-4EF7-BCCE-24FC059B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7D7B1-9BBB-4AB6-96EB-52F90353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39D21-95A1-48EE-AD78-C0BB3D80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18621-407C-4DDF-A2C4-15A26478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47885-226A-4952-A3CF-40A3C332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429FC-C533-4026-88F9-B7768EF0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13AD4-D66D-435D-914A-13993357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9921A-2ABC-45A8-81E5-ADCB20F4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8E55C-4136-4D12-AD23-0136E0B6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C4CAF-E700-4580-94A0-D831B773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4C861-FD0D-4EBB-8B5D-0E60AE42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E4761-61C1-45D1-BFAD-40F416D5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0ED85-9FE6-40C3-B439-66DFADBB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F4D64-FDB7-4317-BE5B-06A7FE2A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CDA1C-B499-41F5-AA04-7D2A6596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0FBD2-2E88-4CA2-AAB3-ABC66D1C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4810F-8EE8-498A-BEFC-1F815E53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6734A-F0C5-49E3-A99C-17EBF999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5A6B0-CABE-43D2-B9E0-B057E510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1FC8A-0053-411C-824F-6126B6F2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75060-E0C9-4A1E-84A9-9ACFC5F4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FE19C-B98C-4AAD-86C5-82919495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66253-76C1-4590-8A4C-949EB8DF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DB7A2-CAA4-4214-9D45-C0C3FC3B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3A41A-B30D-413B-B91D-62B6E5E7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71F8A-103D-4ABD-9754-019FF53F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13B0C-5B2A-4BFB-B136-D068A74A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B4426-7A2F-4A13-8E8D-EC3F7E77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6D5FE-DD10-4DFF-A504-5B2D0A9E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797E6-D373-4D9D-935D-99A1FAB5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8CF2F-60DC-4180-ACBA-E37B90B3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8E94A-9757-4883-8B77-2E1F12CB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59263-3C11-44E7-8202-8987786A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8E678-11A8-4108-B255-06F56A27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873DC-D957-4440-9328-F58397E2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18CCB-3315-4757-B8F5-30FC6AE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55125-E427-4DC7-93CB-DD388E13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6D65F-2ACD-4391-AEB5-2FD2A61B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F3598-33B4-41E8-89D1-8FA0EB13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A3515-CAAD-4D17-B1D5-42C03057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52D38-BB3E-4254-902B-657273AF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09B3A-14AF-47F9-B316-5C657C16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60B0D-CC18-4DE6-A346-AB6715C6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B5BDE-989B-4C20-AAEC-9F2BA872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2A0E5-B0F1-4B7D-A8D3-34BE0E7E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54E4B-FFF5-44C2-BD17-AC72D152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B90E3-A902-4F66-8AF1-737C4BAF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9B353-ABFE-49FC-B9C1-CC27F9B2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5B291B-1632-4976-B381-551A5E3B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343995-CE2D-4294-8D6B-FDA35500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05E1D-A077-46DF-9633-9600C3F8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4C6564-D9D2-4AC1-8E60-08BFD0CF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86982-2084-493D-85D0-ED5A4ACF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24258-D051-49D7-BB65-07C5DF1F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03526-85C3-48C6-91D7-D692A9AA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D2540-9AAF-475F-83FB-E483DC86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60FDA-1349-4FDD-835D-ABA13061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EC947-683B-4AC9-8F0F-A64F6493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BC097-ABA9-45E6-A6D1-C0FCC8C6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458A8-14A4-430A-A816-8A5B9A77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5AE5D-39EB-4FCD-B4C7-ED9B1D44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F64FE-2746-4B50-8D13-2BB22762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0F4E5-8ACF-458B-A945-E3D413B5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50490-BF57-47AC-AEA9-8DEC0C49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F985F-0A34-47D2-8C37-10D6BF4B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A8A9CF-83E7-40AA-9FA6-E4512C32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C461C9-B2AC-41B6-B0DB-0120BFC5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36305-993F-4561-A71A-2F9B2C07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0F367-5AB5-4CD9-A170-F87D06C3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EB289-DC8E-446D-8917-EB62BBD2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D238F-61A5-437A-9581-AE7D9FFE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6E5D5-BAAC-47F9-AF70-CE809CB6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2877D-A416-4B62-9A4A-9A59B640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27784-C0CB-4CEF-9AF9-9F18DEB4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425-0D9D-41AD-9505-7A273F8B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DC025-CFC5-4D1C-AE07-DD554C1B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95A7E-1C29-400A-93A9-ED57991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86223B-DB0D-4941-9354-7F08A283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B7F994-5C55-4076-9AE3-C097033D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C03D4-D83D-4F4E-8BD7-EF84D774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E5331-1985-4FAA-809A-C2A8A9EC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201B2-7F3A-417B-A402-F9DD8B92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B5AF4-4E02-44B8-AE1B-DD980331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C80FC2-CAA6-4E3A-9826-7EB74598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FA91B-1356-48FC-87F6-A2B42A59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C084E1-83DF-4439-BAB3-518026DB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2165D-0974-4F01-90E7-356E93C1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79B928-617C-4305-8D0E-53F41266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C1DF6-FF1D-4DAA-BB01-0413CB9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1CC24-A05B-4FA9-9DDB-CAD69A3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042D6-F745-4DBB-94A2-C24A53A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C4294-5E3B-48C8-AE86-C283C84B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4FB40-768B-4D36-B6AE-ECAE6EB3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3C2D4-4F82-449B-805E-7A71378B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3020DC-DE89-4643-A9F9-03144900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5CC133-4750-4065-8B89-530B4161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036B7-F1C3-4B1D-A0EE-AADDD2E3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F3A48-227B-4053-B811-25B73509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FC5D3B-AB47-429D-8FE2-CDDFF577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F2465-613B-4724-93DB-62F20B90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4AF906-B3F4-41DF-8404-9F71A02B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3E0769-532A-459F-996E-AD3099B4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003C0-E988-4948-9DE7-15F6350A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AEF3EF-A229-4FA1-B9E7-7614DB93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353732-216E-4065-BE98-C7AB80D1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6A0B7-1BEB-427F-B8CD-C4AA96C2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84679-1124-4325-BD67-D81D5AAD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45E162-5895-422D-8803-5A15D60D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2D6FB-B212-41EB-AF21-473CEC3E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97D846-6FB2-4821-ABCA-7CB2F6CC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EC9E6-337C-4103-AD56-4FFF2FF7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CD0C1-D75E-4E2B-BB51-8A2764A8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6F3265-FB4F-40D8-9FEF-747104EA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81965F-A3AE-4F5C-A14C-1C807494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559178-C101-47D7-AE4C-FC13C190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4D31A-0FB9-44EB-938A-632E2BA9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04E71D-1714-44CF-9CB9-D72AAF77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D4F54-51EC-4B63-81B0-F4B9BF0E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D1AC09-8479-4A92-9D05-A05DC2F9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EC758-A5F2-4A9C-B516-2816227B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B3268D-F222-41F8-9976-E07CCE40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D98E-0AE8-4D47-BA5D-DD24EA6A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1F0A-C967-4D22-AF07-130C2F2B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BF5F-3E6E-42F7-B022-1D01F306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BF162-8011-49E1-A75C-FE0779D7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C6C0-0549-4141-84D3-57E82F8F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1B7-F017-4DDB-94CA-AB26F366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A2099-98D2-4AF7-AF20-F05D0628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0724-EDF9-4F85-80F4-A5407A9B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39A6-E944-42B3-9BD7-215863EE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B0CF-BC1F-4589-9723-21C4E48E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0339-62C2-49EE-8177-55D9568C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BC597-565A-40D9-8C7D-69A89787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04D01-1458-4D41-A09B-3F8A865E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80DE7-C6A0-45CD-B799-EBB3DCE9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B61AF-BE83-4B61-8645-B49AA1B0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7B395-5E7A-4129-AE50-0F5BA883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4D3-4136-4F01-871F-C5186E66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0E60-7318-4DB9-9D32-E915EB97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A54C9-D30B-4CBD-A146-61A11EDE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8B993-D078-462B-B86F-5BF83C0F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EFC11-428E-42CF-A029-F0E20EF2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D86F-003A-49F4-B6FB-55327203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A5D13-9BD5-4ADC-804E-DDA00EA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4B428-27E9-4DB2-9541-573424E7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46E52-CC07-45D1-BD2D-F1007074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89CD6-B532-48D6-BEC2-0FD6EFE2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48165A-11A0-4D46-BF5F-60D8C190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531-98AA-4B4B-8ADD-A094C4AD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2C9B7F-95DA-4BCE-82C4-EF9DB2E2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00BB03-35BB-4EC9-8819-E39501C6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36A3E8-C9E1-453D-9F0F-D1548103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CB7C87-1364-4034-B3E3-4849B28B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C47BC8-A82C-46CD-BF8B-7D979170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75D7BC-9C20-479B-BFB6-50BDE480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FF57E1-A49D-4997-BABB-0E8E37BE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6D59A8-EFCB-482A-BEFB-900E79D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52A133-B02F-4BD9-86C1-F1D82146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B1011A-2BE5-4A25-B807-EE0030CB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1B4-EA62-4BD9-8BF6-0106DA47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FB9C0F-0F5F-440D-9859-C957E9CB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C756D-CF05-4C98-85FD-32BA806E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FC06C-E7AD-47D4-90C3-097F28FB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753E3-7BF1-4328-9F6A-986907BB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2217E-E6D1-4F86-AA76-06418610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7449F-8A32-4F81-80E0-755662EA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EAC57-B171-4B95-B76D-545F789B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EADB1-568B-42C5-950C-1102ACB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DD9F4-2BE0-4893-9AD8-387CDD02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D9A21-95AF-4116-8A8A-ADC5DE35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8C9-EFE5-4BBD-BCC7-DFA3C3AD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41AA5-1134-41B6-A74F-83C0486D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AE6E5-58A0-45CC-B9D6-48F111F4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014D-114F-4CC5-AE72-EC1D7313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0F0A9-081F-42BE-AB2A-505BE0E6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1402E-B57F-4195-AB39-A09476A2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9BAD2-1FEE-45C3-BFE3-F4010E92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E3108-FC0E-427F-91EB-A92AB580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45736-DC7D-4D76-8946-2A4E7B77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406BD-CD09-47A5-B50D-CD6F7ED2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5758B-429B-4329-8B1F-9EDA59A5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9D1-DFDD-48EA-A318-2EB2424A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BB194-0B95-44F5-8E64-728D791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47D69-4558-4592-8F28-2AC42257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AC8DB-1013-4745-8A15-B99FC4A0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3466-8CB5-45ED-9860-41D04F47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045FC-FBC4-4A40-BC44-D72211D2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365C5-B9F6-412F-AAAE-304FB2C7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475EA-9503-4DC5-861C-F7FD4324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FE312-7433-4F51-819E-2C71FD8A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C2F9A-0EB1-42E6-AFDD-EDB38DB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916C4-28F9-4C96-883F-DEC9CEDF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678-D5EE-498C-A456-444E4CDA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1A4BD-0B61-4E77-A94E-C2F8956A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01279-A5EC-460E-B661-2A520E5B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2C435-5337-4F6A-AB6B-D2F10713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D5F22-48C2-4FF6-BFDA-97B4C417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4EC0B-8432-4B22-973D-51626BF3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531F8-F5D7-40EE-A869-792DD796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2CFEE-B288-47FD-9A9F-FFE2E12C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4469C-C1DA-4EED-BFE8-F2E2F03C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D1438-5D8A-4C97-B9C0-89909611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36D00-87F4-4BEC-80DE-1D5FEFF3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C164-5C30-4208-8E82-80DF85A49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0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0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0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0A9D-A4FE-4168-BBB9-603311B136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05E1-71A4-48AF-A5EF-1A6598F38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9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5602-3F78-4423-A800-BC52FDF669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767E-A4F6-4AB3-9751-89A1EE9DD60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2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24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5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6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6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3A86-AC3F-4194-AD47-EFB494C381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22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4EBC-B7FD-4AC1-8758-3FEAC3352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00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C41A-2D3C-4D96-8D12-B9629A8AE9A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27B9-4807-4329-9247-87C34D29F4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5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D547-F735-4DBF-ABB6-524191213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81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D526-C9E1-4839-B1EA-AEE521F67A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C972-858F-4848-9608-6AF976D895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5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6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C180-2759-4AED-94A5-5A75AFECDE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5BF6-2A82-4205-A695-ABB3B48D612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0D9C-31FA-404D-B21C-3D750C41AE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7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351B-81A0-450B-8E07-9C580564C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3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3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4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EFBE-CBA5-4DB5-8900-9DDC941B74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2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ADDA-7260-456B-AF7D-90C352F954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0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6B51-75F4-46D2-A2C5-1FDC425EC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0B25-EC4C-454D-B693-CFA118045F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gressive Presid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subTitle"/>
          </p:nvPr>
        </p:nvSpPr>
        <p:spPr>
          <a:xfrm>
            <a:off x="128916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5" name="Picture 5" descr="Portrait of William Howard Taft"/>
          <p:cNvPicPr/>
          <p:nvPr/>
        </p:nvPicPr>
        <p:blipFill>
          <a:blip r:embed="rId1"/>
          <a:stretch/>
        </p:blipFill>
        <p:spPr>
          <a:xfrm>
            <a:off x="3505320" y="2971800"/>
            <a:ext cx="1800000" cy="2514600"/>
          </a:xfrm>
          <a:prstGeom prst="rect">
            <a:avLst/>
          </a:prstGeom>
          <a:ln w="0">
            <a:noFill/>
          </a:ln>
        </p:spPr>
      </p:pic>
      <p:pic>
        <p:nvPicPr>
          <p:cNvPr id="1906" name="Picture 7" descr="Portrait of Woodrow Wilson"/>
          <p:cNvPicPr/>
          <p:nvPr/>
        </p:nvPicPr>
        <p:blipFill>
          <a:blip r:embed="rId2"/>
          <a:stretch/>
        </p:blipFill>
        <p:spPr>
          <a:xfrm>
            <a:off x="6705720" y="2895480"/>
            <a:ext cx="1676160" cy="2486160"/>
          </a:xfrm>
          <a:prstGeom prst="rect">
            <a:avLst/>
          </a:prstGeom>
          <a:ln w="0">
            <a:noFill/>
          </a:ln>
        </p:spPr>
      </p:pic>
      <p:pic>
        <p:nvPicPr>
          <p:cNvPr id="1907" name="Picture 9" descr="Portrait of Theodore Roosevelt"/>
          <p:cNvPicPr/>
          <p:nvPr/>
        </p:nvPicPr>
        <p:blipFill>
          <a:blip r:embed="rId3"/>
          <a:stretch/>
        </p:blipFill>
        <p:spPr>
          <a:xfrm>
            <a:off x="533520" y="28954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1908" name="Text Box 10"/>
          <p:cNvSpPr/>
          <p:nvPr/>
        </p:nvSpPr>
        <p:spPr>
          <a:xfrm>
            <a:off x="380880" y="563868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odore Roosev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1-19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Text Box 11"/>
          <p:cNvSpPr/>
          <p:nvPr/>
        </p:nvSpPr>
        <p:spPr>
          <a:xfrm>
            <a:off x="3429000" y="55627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Howard T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9-19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Text Box 13"/>
          <p:cNvSpPr/>
          <p:nvPr/>
        </p:nvSpPr>
        <p:spPr>
          <a:xfrm>
            <a:off x="6553080" y="54864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odrow Wil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13-19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Election of 1912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Taft: Republican, Roosevelt: Progressive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Wilson: Democrat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 challenges Taft for Republican no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oosevelt form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w party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gressive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osevelt’s party was also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u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ose Par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fter Roosevelt stated he was as strong as a bull moose when questioned about his h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odrow Wilson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8</a:t>
            </a:r>
            <a:r>
              <a:rPr b="0" lang="en-US" sz="4000" spc="-1" strike="noStrike" baseline="30000">
                <a:solidFill>
                  <a:srgbClr val="e5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President: Democrat 191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ilson defeated Roosevelt and Taft in the election of 19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lan was called “New Freedom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ed tariffs on imported go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5" name="Picture 4" descr="Portrait of Woodrow Wilson"/>
          <p:cNvPicPr/>
          <p:nvPr/>
        </p:nvPicPr>
        <p:blipFill>
          <a:blip r:embed="rId1"/>
          <a:stretch/>
        </p:blipFill>
        <p:spPr>
          <a:xfrm>
            <a:off x="3505320" y="4267080"/>
            <a:ext cx="167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lson’s Accomplish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0" y="808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- Federal Reserve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gulated ban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3 – 17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direct election of Sena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Federal Trade Commission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vestigated corporations for unfair trade pract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14- Clayton Anti-Trust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eapon against tru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8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prohibition) – 19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ahoma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amendment (women’s suffrage) - 19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i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What department took action against trust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What is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What group did Roosevelt force to agree to arbitra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What act regulated banking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Who won the 1912 presidential electio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What did the 16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mendment establish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The Progressive Party was also known as th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__________ Part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 Who wo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. Who was defeated in the election of 1908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 Roosevelt’s promise to the people in the 1904 elect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sw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ustice Depart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vention by a third party, not affiliated with either side, in negoti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ted Mine Work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deral Reserve A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odrow Wilson/Democr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e Ta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ll Moose Par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Henry Taft/Republic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Jennings Bry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quare D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odore Roosevelt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6</a:t>
            </a:r>
            <a:r>
              <a:rPr b="1" lang="en-US" sz="40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President-Republican (1901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me President when McKinley was assassinated in 1901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ught progressive ideas to the White Ho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that time he was the youngest President in histo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3" name="Picture 5" descr="TR stumping"/>
          <p:cNvPicPr/>
          <p:nvPr/>
        </p:nvPicPr>
        <p:blipFill>
          <a:blip r:embed="rId1"/>
          <a:stretch/>
        </p:blipFill>
        <p:spPr>
          <a:xfrm>
            <a:off x="6858000" y="4038480"/>
            <a:ext cx="1905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rustbuster/Roosevel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osevel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pported Progressive ref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190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Order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Justice Departm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ta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gal action agains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erta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trus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Target: Northern Securities Comp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railroad monopoly that controlled transportation in the Northwe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SC fought the char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04 Supreme Court ordered trust taken apa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rustbuster At Work/Roosevel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5 indict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gainst trusts in beef, oil and tobacco indus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osevelt felt tha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t all trusts should be broken u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s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rusts should be regulated, not destroy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abor Crisis/Roosevel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902 Coal miners strik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membe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ited Mine Wo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emanded better pay, 8 hour workday and recognition of union rights. The coal strike lasted for mon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ced mine owners and workers to agree to arbit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tion i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ttling of a dispu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agreeing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cept the decision o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impartia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si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 workers won better pay and an 8 hour work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id not gain recognition for the un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quare Deal/Roosevel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’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logan for reelection in 19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ised America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qual treatment for 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won with 57% of the popular vo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alled f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considerable amoun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government regulation of busin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as in contrast with the attitude of government towards business dating back to Thomas Jeffers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rm laissez faire, from Jefferson’s era, means “let the People do as they choose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osevelt aimed to change this attitude through government regul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ure Food and Drug Ac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 (1906)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preventing the manufacture, sale, or transportation of adulterated or misbranded or poisonous or deleterious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o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ru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medicines, and liquors, and for regulating traffic therein, and for other purpo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serving the Wildernes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osevel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president Roosevelt took step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erve the country’s natural resources, forests, water and mineral deposi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e propos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U.S. For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rv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He pressured Congress to set aside millions of acres of national forests and created the first wildlife sanctua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4" name="Rectangle 6"/>
          <p:cNvSpPr/>
          <p:nvPr/>
        </p:nvSpPr>
        <p:spPr>
          <a:xfrm>
            <a:off x="3276720" y="57150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www.fs.fed.u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illiam Howard Taft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7</a:t>
            </a:r>
            <a:r>
              <a:rPr b="0" lang="en-US" sz="4000" spc="-1" strike="noStrike" baseline="30000">
                <a:solidFill>
                  <a:srgbClr val="dbbd71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President-Republican (1908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eated William Jennings Bry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 election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90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ft went beyond many of Roosevelt’s poli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aft won more anti-trust cases (twice as many as Roosevel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favored safety standards for mines and railroa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7" name="Picture 4" descr="Portrait of William Howard Taft"/>
          <p:cNvPicPr/>
          <p:nvPr/>
        </p:nvPicPr>
        <p:blipFill>
          <a:blip r:embed="rId1"/>
          <a:stretch/>
        </p:blipFill>
        <p:spPr>
          <a:xfrm>
            <a:off x="4038480" y="5257800"/>
            <a:ext cx="1447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6</a:t>
            </a:r>
            <a:r>
              <a:rPr b="1" lang="en-US" sz="4400" spc="-1" strike="noStrike" baseline="30000">
                <a:solidFill>
                  <a:srgbClr val="feec94"/>
                </a:solidFill>
                <a:latin typeface="Times New Roman"/>
              </a:rPr>
              <a:t>th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Amendment/Taf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ft support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6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Amend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ich gave Congress the power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x peoples’ in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come ta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nerate reven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the federal govern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5:22:47Z</dcterms:created>
  <dc:creator>cynthia prewitt</dc:creator>
  <dc:description/>
  <dc:language>en-US</dc:language>
  <cp:lastModifiedBy>Amy Davis</cp:lastModifiedBy>
  <dcterms:modified xsi:type="dcterms:W3CDTF">2018-03-21T19:01:28Z</dcterms:modified>
  <cp:revision>20</cp:revision>
  <dc:subject/>
  <dc:title>Progressive Presidents</dc:title>
</cp:coreProperties>
</file>