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EB6-A8AA-4E85-9C96-2BF78B9F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AA3-0BE2-49B6-BC71-22D9F788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475DD-2011-4045-A9FB-6750742F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BD5DF-7FA1-4972-8EE3-38A2530E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305DD-B313-419F-8EE8-CF9B2F55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47E77-4F51-4272-AD1F-63061F4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15DB8-C44A-4479-B7F3-DF471C2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E3F54-71EA-48B4-9839-4CB3789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1942D-85A5-486F-A8C2-5201B078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80C30-203D-4E1A-BA66-2B72776A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3E901-9E0D-4FE0-932E-118726DD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8864F-1A51-4861-B481-7521B2AB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788-2F65-41EF-991C-EBB8CE6E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C75B2-67D1-4BE5-BA2E-6586B148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28AE2-C764-4EC2-862E-8E792E52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F1828-372F-4785-A7F0-53A80E67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D0C48-8186-4241-8AA5-7D49DC3A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0E899-4EA4-4219-BF84-E1B0F052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10E45-33E9-4DA0-8721-56D1613C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C8FF8-AFAE-44D1-881E-10E32BA1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2AC6B-C0B3-4438-8104-38EFA2B6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DB159-0C81-4D3F-9F07-91125AF2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FA015-3EA9-4341-A359-5D9857B5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2DD-80F4-4D87-B4B2-D30CB6A7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519BF-4A4E-46D3-AC96-B48719FC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89850-B6BA-45C8-9C03-01477C95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45013-8187-43FA-A23F-16D173DB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40BD3-79A2-496B-B55F-D7ECF69D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6935C-84D4-46A9-8F79-EA57F331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57B86-0363-44EA-A80B-61CD4E56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11AEB-5D86-4445-901C-247B5AE3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B15BA-E437-467D-9CA6-66198B51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4C843-2A37-42A2-80E6-D47C4E0C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644E5-E8BD-4E1F-9401-6D19352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A7766-D874-4675-9A08-47B37412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5CFF0-4A97-4738-BF83-4F3D4C09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5B1BE-B2AF-4E3F-A5E0-C8E91ED4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C13E5-262D-4F81-995D-802314F0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8FA44-7E50-4B89-9608-472F56C5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AF3D5-9F95-496F-A629-999C617A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39527-AE8E-4ACB-9394-5BDC6990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89754-3601-4375-AE71-9065A7C5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A66D0-22BE-43D0-87BB-74053D4E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C5CCF-7D08-4441-98D5-7E9E2AEC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5906C-1B53-428D-9535-FE29031E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594C2-4359-4AA4-90DE-84143A99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6EAB5-6A69-4EB3-A479-2B6FA34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E4BD6-689B-49DD-B22A-74AEBFB5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FE0A6-C6C3-41C2-9707-5D7C411D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E2AC6-7449-47EF-BD06-0B0D217F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C618A-8F93-406C-8BB3-B9E9E60C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76188-E2CF-4C8F-AC6F-772F2CA8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ED3D9-534B-4AB0-A6B0-9275F94A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62388-B034-4EC3-B0D2-7C510693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F8C4F-A2E6-47F7-A7BE-9B9A7AC6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7AE6F-B1B0-4B38-A220-8FA659FC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D184B-3E70-48CA-BB0B-F6F47881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6F4E9-6A4A-405A-95D3-793A59E4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C1DB5-43A0-4B0C-B281-57504F57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8FFE9-A465-457F-A4F9-F751E4B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44498-774F-45C1-B189-BC1D146A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20BC1-2CFC-4405-BE7B-4AE3024F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B53F7-BB54-4312-8D7A-01CBE13E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C7460-0CB5-4783-A560-90B22C1A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85E18-746D-4D11-AEDB-92676103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8BEA4-01FA-470B-8DB0-C21C93BA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1C258-9FAD-4FE8-A9A4-B8B69EE2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3C365-AFD6-42AB-8034-A11FE248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01C76-112C-42CE-85FE-4F29B3A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EF464-145E-409F-8D4C-5F259D45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83ACA-F7D0-462B-94C3-C043A572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06768-D7E6-4787-A1C8-E9B0771D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399D1-B540-4E38-B81A-6FFA144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74614-B97B-4CC4-9DB2-E21D010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7B7F5-AC1B-4276-B216-F0F229C6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A68AB-4DA8-4DC1-BD01-B3C36700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EC2E0-B482-4D0F-803B-535D4B37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1CB7F-6D2A-4F2B-A8A3-56082416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9EF38-C2E6-4C69-8FD2-B312D8C8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8B02C-8409-4ED8-B2FC-E840A5F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A176E-52EF-4AF1-BDA5-996E0306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7C2BE-8C88-4CD5-8DB1-3D8C830E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AF1939-E16E-4353-A332-61CA13F9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CF1F6-8B94-48AC-9093-8830A328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4824E-A954-4A2F-8428-962FC827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81E71-4846-475B-A801-8A91B90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62109-C64B-4269-BF8D-C3D5469E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F1183-2A41-4608-9162-23427B78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B160C-1E2A-42B2-BAAB-3B74752E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2D592-4E88-492C-ACE7-32FBD14C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D2DB7-5D98-4312-B538-8DCA8C8D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A5250-3D3D-408D-9A7A-467825C2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C46E9-BE64-42F4-855E-A566436B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2C68B-52FB-4775-A3E8-21065442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E7B769-E651-4921-9E13-B56639D2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167FB-2649-4E1A-96BC-A3C00639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A3156-C7B0-472E-A876-235AA2E9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F6790-8FC0-417D-A6F2-0F84CF4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7D330-24EA-4657-8BAF-BFA70BB9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DAD20-6C55-4552-A5DD-12F74DD4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15530-1252-4B0E-BF63-D8BE70DF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CC6073-D62D-4AC4-A335-280C8C36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A348C-953F-40C8-AA4D-8DC54134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BD2BE-B63E-4758-A580-ED069D7C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967DF-50B2-4B77-96E0-F06EB049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C3B6C-CD4E-496A-987C-FFA0D37C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DF3DF-849E-40D5-B444-EBA2F87E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BBA86-AE5A-4527-91AC-5173DDA0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067EE-AB7E-4E73-BB0E-FF78496A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B9351-342F-4E90-91F6-FD331F75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C78C3-9B76-4F1F-A9E9-60E3C86E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2FA-0557-4081-82A6-9A5F5658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8C570-A31F-4923-8238-B76EE224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379A3-54CC-46E5-AB2C-9598D91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BFC7A-1763-4B96-AA7E-693AA233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7D7EE-A1FE-42F8-9EED-EF2972CA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992E9-C3B0-4C32-A0FD-B24B7FA2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BD52CE-32D0-4D34-9A33-D0A2D767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2F9B7-89C7-43D0-B2A3-198FECEA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39AA5-CEF4-480B-A61F-D6E9BBA4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BB5B3-D263-46EB-816A-CE10E868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DF0AD-6305-4ADF-B496-83EF38B6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96485-0707-4EDD-83A5-B9ACC901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CA596-4C0D-45E2-B554-70C3A8B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40B79-0288-466F-91AB-E241A3ED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3D075-30B3-41B1-88F9-A1261FA4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74D5B-F2CB-4CC8-B7C0-91FB270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66537-C205-4ED3-90D6-F13371BE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FAB38-700F-477A-B4B5-EED66F89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4E0AD-C0E4-4BA6-BCE9-76700B8C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63DA5-0ED0-4D20-8178-4989197E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C1FAA-1AEB-4100-A9F9-C90DE4D8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E37CE-89E2-46FB-84BD-DCBC567F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F8B3D-0040-4B22-9A38-ABC524DA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712D1-FBDF-4C6F-8126-F65830E8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D9C18-9400-42EE-9103-46921EAF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CB3D7-D45B-4112-8DF6-3287C0A5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9E3EC-9415-4C7D-85D1-76332A9D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465AE-9DD0-4734-B73D-408659F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1308E-593F-4F98-AC08-D85001E0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7FA71-2F56-4A6E-ADC4-9079523A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43763-02AB-47ED-A38B-435B4A4E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8379D-5179-4F3F-8B38-AD1F9D78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31236-06B4-465A-8132-65CBCFAB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C476C-29B5-47F7-8E1B-F183CC37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C1750-3BB0-424A-ADB5-74DD252D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0BA99-A0B7-4C92-A539-082072F1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BAD36-035D-41AC-A59D-F124937F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383CD-24CE-4922-B181-32BFB824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BE540-B9C7-4C99-9D13-BADD517C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62647-7B34-4993-8500-0EE9135D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0D524-5C34-439C-9F25-5E2407D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BE47B-B203-4279-BA88-1AE991E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B4736-C071-4220-B659-D40B4BD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151EB6-B640-44DD-B77C-603E7C97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9FE8A-6C68-48DA-83AD-A67B1DEC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541EC-85F7-43C1-AE31-E83B5B1A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F445D-D7E7-41BC-810A-6E8812EB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BDA5-175B-49F2-8D26-E97D2DF8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8ECB-1E58-4E18-9200-AE8F2DFB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F6EE-A89C-4F56-A294-AEA3C540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93FA-5FEB-4B72-86C7-C5D96AFA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3D04-0B82-4962-91D7-2E7E2D9C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7D1-46C0-4D92-8B6B-A39D36F4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DBC0-9116-4450-9F08-87F738CF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0281-C02F-40ED-B382-0A12BD2F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4855-42EB-40D2-9944-25E45CDA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93BE-8F08-4511-BDEB-EF84C647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10A60-1328-4C5B-8F6B-65F73F59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5707-40A9-4394-A044-B1E02893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DA33-D8A6-4ECF-BAC0-8A1AABF8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7919-5D32-4E82-9211-79716B91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2364E-5A80-44E9-A174-7EA8D08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23D28-8B48-42D9-B815-A7ADF7A1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4E8-82A9-4199-9A31-7158915B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2FD4D-0CB4-4E22-810C-1500C4EC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FC66-0D9D-4A0F-AF0B-CECE26B4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818A6-3609-4996-AE50-F0764709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F219-D42B-49A3-B108-2DC6314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19154-4576-4A20-9A1B-AAE4EC8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94EF0-1747-4B90-A4BC-30DB73BF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8B45-A336-4E54-8172-68619904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DBA8D-6F0B-4C43-B7AA-62C7FE4E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BAB1-347B-46ED-A83B-2139B7FC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B32120-0722-42B2-8864-0598CDE6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AEF-BEAA-4D0B-A99A-6A6A8A1D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EDDC46-6F01-44E7-BEF2-455EBBD3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B56089-2F9D-4C15-84AD-A4FD8F0E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0DA40-E90C-4999-A47E-B7825D96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297D13-B88C-4B62-A3C2-A51C8FD9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79EAB-A43D-4FA0-9067-E4F5239D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CC1181-CAB9-4064-8276-558549A4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AD9A9C-1D3D-4994-BBED-521AE08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C1125E-669C-4118-ADFE-C79B2BA2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07FB41-76F5-41FA-BB9B-78496DC6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1C579-B801-4681-A6AB-19B17A43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58E-D658-4A6E-AEEB-62016F7A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17C4EE-4A43-4C6B-9E41-EDDECF67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AD839-7E2D-4634-A934-354BA65B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5387A-B9CD-4761-9C6C-6F9192D7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AF70F-E362-4C90-8E79-CF80D2F6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07147-2561-4861-B40F-ED3726D9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42A2-7AFA-4EE4-9C38-C8D0DD63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BDC77-6C18-4123-B90A-C76CA14E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A4EA-6B5A-4078-8187-323EA626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2A41-89FB-4B62-BF52-B297E53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C8EE1-605F-43E5-A949-B2D30574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E6B-B9F6-4FEB-8EDE-3EED7849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7E1F-C3FB-4FAE-B49A-DE51655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2743-3E37-4F04-ABC6-55B15FEF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22A5F-AF3D-4747-A083-949C7994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CCE7-23DE-4E71-ABA5-0C6FA7E1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1E185-AD95-4A4F-887A-3CFE6287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4F118-C3DA-48EA-829C-533A1877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BA4D0-1DAB-4851-AA43-F0005B2F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48E6D-AD27-4482-AB65-3320C904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36911-05F8-4744-A402-36AB94BD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F371E-D64C-4D12-B5EB-ACDA7471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CAC-56A8-4934-B78F-EEE16108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4109C-2F52-4BED-A287-79D5EC04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F292C-C1F1-4FF8-8BB9-7D513F57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31594-AF30-4A8C-88CD-C1F8E233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C381D-68E9-4E59-B2ED-1741F8C5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5F5F4-EEA4-486D-B601-DA1CE709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002B1-E6DA-4563-BCE9-99D42DFB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844C8-C960-4BDA-9EC6-D842C35D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9887C-03A5-4CA2-B17D-98E0230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EA37C-71C2-4EC3-A546-74EADB3C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D0D48-7E0C-4E5B-9ABD-3C59EDF9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9E4-F93B-41BC-9C77-FCAAC2F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59876-A3D3-4393-BA26-1D3500C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1765A-79F2-4C9C-993F-605CC483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96F2-73BD-4BA8-9BBE-0278256C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BD30B-CA40-4D0B-A71F-854CBB48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CB72D-0BA0-4512-BFDB-B38876C7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17DB9-9D65-4557-A7A0-2EB6382C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58906-28BB-4DA8-9995-129A2274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364C6-776F-464A-A758-E73A2368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BA0AD-0A40-49E4-8ADF-9A8B4270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C48C5-E302-4F1B-8386-4D39B2CD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796D-CFA4-4840-8147-1D373AD2C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0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0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870B-22C1-4A05-8030-FBB6FB53DF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2D6-A5EA-4133-952B-FBF145BF6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D4E7-6835-4576-A09D-2D0B82BDE7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92FF-03AB-4F0B-8147-80E601C4CE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5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6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6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740C-57E0-41FD-8131-E6BDE06CF6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2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0092-A0AF-4080-BF05-4B1728A02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0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6275-C1DE-4344-99FE-5A911BC92F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BCAF-C401-42BC-A558-CEB633BD74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5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16B2-7040-4428-851E-A47B0A5EF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81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1E5C-1D53-4E1D-AD4E-C7CB16C9CE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E69C-E524-424E-8560-38C299D308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5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15DC-8AA3-41B9-A7DD-BA805C8164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0653-1FBA-4272-BF07-4841B31CA5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3420-3E41-40E8-9566-12BC1DF63B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7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FC0A-7A7A-48BC-A224-CFBAB5DE3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3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3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53F8-E642-42FC-9021-A2415027A3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2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EB15-3C03-4564-BEDF-FA7B58B9DA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D812-C3EC-469E-8EB2-B35574C8E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A405-FD3E-45BE-BE58-90BB4DDC74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gressive Presid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128916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5" name="Picture 5" descr="Portrait of William Howard Taft"/>
          <p:cNvPicPr/>
          <p:nvPr/>
        </p:nvPicPr>
        <p:blipFill>
          <a:blip r:embed="rId1"/>
          <a:stretch/>
        </p:blipFill>
        <p:spPr>
          <a:xfrm>
            <a:off x="3505320" y="2971800"/>
            <a:ext cx="1800000" cy="251460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7" descr="Portrait of Woodrow Wilson"/>
          <p:cNvPicPr/>
          <p:nvPr/>
        </p:nvPicPr>
        <p:blipFill>
          <a:blip r:embed="rId2"/>
          <a:stretch/>
        </p:blipFill>
        <p:spPr>
          <a:xfrm>
            <a:off x="6705720" y="2895480"/>
            <a:ext cx="1676160" cy="248616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9" descr="Portrait of Theodore Roosevelt"/>
          <p:cNvPicPr/>
          <p:nvPr/>
        </p:nvPicPr>
        <p:blipFill>
          <a:blip r:embed="rId3"/>
          <a:stretch/>
        </p:blipFill>
        <p:spPr>
          <a:xfrm>
            <a:off x="533520" y="2895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1908" name="Text Box 10"/>
          <p:cNvSpPr/>
          <p:nvPr/>
        </p:nvSpPr>
        <p:spPr>
          <a:xfrm>
            <a:off x="380880" y="563868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odore Roosev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1-19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 Box 11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Howard T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9-19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 Box 13"/>
          <p:cNvSpPr/>
          <p:nvPr/>
        </p:nvSpPr>
        <p:spPr>
          <a:xfrm>
            <a:off x="6553080" y="54864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odrow Wi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13-19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Election of 1912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Taft: Republican, Roosevelt: Progressive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ilson: Democrat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 challenges Taft for Republican no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oosevelt form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w par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gressive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’s party was also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ose Pa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fter Roosevelt stated he was as strong as a bull moose when questioned about his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odrow Wilso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8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esident: Democrat 19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ilson defeated Roosevelt and Taft in the election of 19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lan was called “New Freedom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ed tariffs on imported go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5" name="Picture 4" descr="Portrait of Woodrow Wilson"/>
          <p:cNvPicPr/>
          <p:nvPr/>
        </p:nvPicPr>
        <p:blipFill>
          <a:blip r:embed="rId1"/>
          <a:stretch/>
        </p:blipFill>
        <p:spPr>
          <a:xfrm>
            <a:off x="3505320" y="4267080"/>
            <a:ext cx="167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lson’s Accomplish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0" y="808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- Federal Reserve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gulated ban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 – 17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direct election of Sena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Federal Trade Commission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vestigated corporations for unfair trade pract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Clayton Anti-Trus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pon against tru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8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prohibition) – 19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women’s suffrage) - 19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i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What department took action against trus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What is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What group did Roosevelt force to agree to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What act regulated banking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Who won the 1912 presidential elec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What did the 16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endment establish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The Progressive Party was also known as th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___ Par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Who wo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Who was defeated i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Roosevelt’s promise to the people in the 1904 elec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ice Depart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vention by a third party, not affiliated with either side, in negoti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ted Mine Work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deral Reserve 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odrow Wilson/Democr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e T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ll Moose Pa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Henry Taft/Republic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Jennings Bry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quar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odore Roosevel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6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President-Republican (1901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me President when McKinley was assassinated in 190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ught progressive ideas to the White Ho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at time he was the youngest President in his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3" name="Picture 5" descr="TR stumping"/>
          <p:cNvPicPr/>
          <p:nvPr/>
        </p:nvPicPr>
        <p:blipFill>
          <a:blip r:embed="rId1"/>
          <a:stretch/>
        </p:blipFill>
        <p:spPr>
          <a:xfrm>
            <a:off x="6858000" y="403848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ustbuster/Roosevel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osevel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pported Progressive ref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190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Order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Justice Departm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ta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gal action again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rta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rus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Target: Northern Securities Comp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railroad monopoly that controlled transportation in the Northw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fought the char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04 Supreme Court ordered trust taken apa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rustbuster At Work/Roosevel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5 indict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gainst trusts in beef, oil and tobacco indus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osevelt felt tha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t all trusts should be broken u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s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rusts should be regulated, not destroy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bor Crisis/Roosevel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902 Coal miners stri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embe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ted Min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manded better pay, 8 hour workday and recognition of union rights. The coal strike lasted for mon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ced mine owners and workers to agree to arbit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tion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ttling of a disp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agreeing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cept the decision o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mparti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si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 workers won better pay and an 8 hour work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id not gain recognition for the un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Deal/Roosevel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logan for reelection in 19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ised America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qual treatment for 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won with 57% of the popular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alled f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considerable amoun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vernment regulation of busin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in contrast with the attitude of government towards business dating back to Thomas Jeffers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rm laissez faire, from Jefferson’s era, means “let the People do as they choose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aimed to change this attitude through government regul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ure Food and Drug Ac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 (1906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preventing the manufacture, sale, or transportation of adulterated or misbranded or poisonous or deleterious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ru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edicines, and liquors, and for regulating traffic therein, and for other purp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erving the Wildernes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osevel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president Roosevelt took step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erve the country’s natural resources, forests, water and mineral deposi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ropos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U.S. For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rv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He pressured Congress to set aside millions of acres of national forests and created the first wildlife sanctu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4" name="Rectangle 6"/>
          <p:cNvSpPr/>
          <p:nvPr/>
        </p:nvSpPr>
        <p:spPr>
          <a:xfrm>
            <a:off x="3276720" y="5715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fs.fed.u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illiam Howard Taft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7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President-Republican (1908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eated William Jennings Bry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election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went beyond many of Roosevelt’s poli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ft won more anti-trust cases (twice as many as Roosevel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favored safety standards for mines and railroa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7" name="Picture 4" descr="Portrait of William Howard Taft"/>
          <p:cNvPicPr/>
          <p:nvPr/>
        </p:nvPicPr>
        <p:blipFill>
          <a:blip r:embed="rId1"/>
          <a:stretch/>
        </p:blipFill>
        <p:spPr>
          <a:xfrm>
            <a:off x="4038480" y="5257800"/>
            <a:ext cx="1447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6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mendment/Taf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ft support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6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mend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ich gave Congress the power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x peoples’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come ta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nerate reven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he federal govern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5:22:47Z</dcterms:created>
  <dc:creator>cynthia prewitt</dc:creator>
  <dc:description/>
  <dc:language>en-US</dc:language>
  <cp:lastModifiedBy>Amy Davis</cp:lastModifiedBy>
  <dcterms:modified xsi:type="dcterms:W3CDTF">2018-03-21T19:01:28Z</dcterms:modified>
  <cp:revision>20</cp:revision>
  <dc:subject/>
  <dc:title>Progressive Presidents</dc:title>
</cp:coreProperties>
</file>