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09D0-B67D-4768-9446-0272A174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C5FB-62D8-4FD1-B36B-98A64CBAED1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3AD3-C8ED-4568-8C5F-9E1AE1C3381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CA5-B0C0-4189-BA6D-EEE75BB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C0B-5755-47A6-81B1-F34813AD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D8F-18A4-44F8-886D-1910C57C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0F2-1994-4152-AE2C-82725BF8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4563-D7DD-4D91-B8A4-ED7B5115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CE2-F834-45FD-825D-5446A47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B5C7-27E5-49B5-86BB-9A49E5FB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CAFF-EFE5-47D8-86BB-C0B48587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E4F4-C9A9-40A9-850A-D44AFD6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F95E-A1FF-48C9-9C8D-61FA6632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E307-C115-4FF4-AFF1-710F045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DC4-770E-4426-90B9-6C8AC73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356-F441-4D26-83FC-3BB3E7A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80B8-A88B-4EBD-8BD9-49BD470A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233F-B4B4-4E35-BC2C-B334BAAE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AF7F-6B10-4499-BFFE-D67CE0BC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88D9-4A8B-4F52-BB40-ED6A7D5E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06E-CD3B-4A2B-B2FB-9CAA031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0CE-CF1F-4EFD-87CC-55514E22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9C3-BE78-45A9-81FB-A28A1AF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EA6-5206-47B0-A932-A395194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AF7-EFAA-4D66-8B2A-0174F87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CD6-0C02-4CA2-9EC9-6F27CCF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6E1-5FD8-4FBA-A2DA-E6399B2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729B-56CB-4C67-9BC6-80B727922AE6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Picture 2" descr="Expbann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EXPHORSA"/>
            <p:cNvPicPr/>
            <p:nvPr/>
          </p:nvPicPr>
          <p:blipFill>
            <a:blip r:embed="rId5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A74D-D7CF-490B-89F5-BCFE31B40151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br>
              <a:rPr sz="4400"/>
            </a:b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 and Purita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uritan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Picture 12" descr="j0149407"/>
          <p:cNvPicPr/>
          <p:nvPr/>
        </p:nvPicPr>
        <p:blipFill>
          <a:blip r:embed="rId1"/>
          <a:stretch/>
        </p:blipFill>
        <p:spPr>
          <a:xfrm>
            <a:off x="1066680" y="1523880"/>
            <a:ext cx="3353040" cy="4496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952520" y="15998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change and “purify” the Church of England not leave the church like the Pilgr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North America to worship as they p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  <a:ea typeface="Arial Unicode MS"/>
              </a:rPr>
              <a:t>Why were the Puritans Successful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ll equipp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 Sailed in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d time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harvest in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 Great 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ontent Placeholder 7" descr="winthrop.jpg"/>
          <p:cNvPicPr/>
          <p:nvPr/>
        </p:nvPicPr>
        <p:blipFill>
          <a:blip r:embed="rId1"/>
          <a:stretch/>
        </p:blipFill>
        <p:spPr>
          <a:xfrm>
            <a:off x="4114800" y="15238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430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t 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74760"/>
            <a:ext cx="3430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30 -great migration of Purit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at Lead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professionals, lawyers, land owners, merch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320" y="1371600"/>
            <a:ext cx="419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vernor John Winth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209320"/>
            <a:ext cx="4041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nted Colony to be example to the world as a model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ritan beli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se showed their obedience to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New England Wa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7" name="Organization Chart 6"/>
          <p:cNvGrpSpPr/>
          <p:nvPr/>
        </p:nvGrpSpPr>
        <p:grpSpPr>
          <a:xfrm>
            <a:off x="1066680" y="1676520"/>
            <a:ext cx="7771680" cy="4113360"/>
            <a:chOff x="1066680" y="1676520"/>
            <a:chExt cx="7771680" cy="4113360"/>
          </a:xfrm>
        </p:grpSpPr>
        <p:cxnSp>
          <p:nvCxnSpPr>
            <p:cNvPr id="138" name="_s1028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900760" y="237204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29"/>
            <p:cNvCxnSpPr>
              <a:stCxn id="142" idx="0"/>
              <a:endCxn id="140" idx="2"/>
            </p:cNvCxnSpPr>
            <p:nvPr/>
          </p:nvCxnSpPr>
          <p:spPr>
            <a:xfrm flipV="1">
              <a:off x="4952520" y="3321000"/>
              <a:ext cx="360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3180960" y="237240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031"/>
            <p:cNvSpPr/>
            <p:nvPr/>
          </p:nvSpPr>
          <p:spPr>
            <a:xfrm>
              <a:off x="3786840" y="167652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ngregation: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eople who belong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 the same church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032"/>
            <p:cNvSpPr/>
            <p:nvPr/>
          </p:nvSpPr>
          <p:spPr>
            <a:xfrm>
              <a:off x="106668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eeting Hous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st important building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wn meetings-laws and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unity decisions mad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78684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assachusetts Colon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Only males vote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nd hold offic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650700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General court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 for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lawmaking bod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5" descr="puritan village.jpg"/>
          <p:cNvPicPr/>
          <p:nvPr/>
        </p:nvPicPr>
        <p:blipFill>
          <a:blip r:embed="rId1"/>
          <a:stretch/>
        </p:blipFill>
        <p:spPr>
          <a:xfrm>
            <a:off x="1066680" y="1295280"/>
            <a:ext cx="2590920" cy="206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uritians.jpg"/>
          <p:cNvPicPr/>
          <p:nvPr/>
        </p:nvPicPr>
        <p:blipFill>
          <a:blip r:embed="rId2"/>
          <a:stretch/>
        </p:blipFill>
        <p:spPr>
          <a:xfrm>
            <a:off x="6248520" y="121932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143000" y="59436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 Puritans did not have same rights as Puritans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New England Way continued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very important- so every one could read the Bible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usements would lead to being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19320" y="318960"/>
            <a:ext cx="74674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7e00"/>
                </a:solidFill>
                <a:latin typeface="QuillPerpendicularRegular"/>
              </a:rPr>
              <a:t>Characteristics of New England Settlemen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0574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1600200"/>
            <a:ext cx="7238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orta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life expectancy was 70 years of ag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6 children per famil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ge at marriag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– 22 years old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 – 27 years old.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Hugh Growth in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30-1643 more than 20,000 people settle in 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husetts and Plymouth combine into one called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ontent Placeholder 5" descr="puritan village1.jpg"/>
          <p:cNvPicPr/>
          <p:nvPr/>
        </p:nvPicPr>
        <p:blipFill>
          <a:blip r:embed="rId4"/>
          <a:stretch/>
        </p:blipFill>
        <p:spPr>
          <a:xfrm>
            <a:off x="1143000" y="167652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733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achusetts Bay 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86200" y="990720"/>
          <a:ext cx="1828800" cy="50292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249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ie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Reason for founding the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Challenges Colonist’s Faced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People who founded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What made the colony successful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Government of the colony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19040" y="988920"/>
          <a:ext cx="2578320" cy="4781520"/>
        </p:xfrm>
        <a:graphic>
          <a:graphicData uri="http://schemas.openxmlformats.org/drawingml/2006/table">
            <a:tbl>
              <a:tblPr/>
              <a:tblGrid>
                <a:gridCol w="2578320"/>
              </a:tblGrid>
              <a:tr h="478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91320" y="990720"/>
          <a:ext cx="2828880" cy="5029200"/>
        </p:xfrm>
        <a:graphic>
          <a:graphicData uri="http://schemas.openxmlformats.org/drawingml/2006/table">
            <a:tbl>
              <a:tblPr/>
              <a:tblGrid>
                <a:gridCol w="2828880"/>
              </a:tblGrid>
              <a:tr h="5031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295280" y="1004760"/>
          <a:ext cx="2590920" cy="502920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3"/>
          <p:cNvSpPr/>
          <p:nvPr/>
        </p:nvSpPr>
        <p:spPr>
          <a:xfrm>
            <a:off x="1143000" y="380880"/>
            <a:ext cx="3733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ymou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hat was happening in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moving south and Carolina becomes its own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 Proprie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pe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-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 Co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nglan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and around Jamestown, VA becomes scarce.  Newcomers begin to settle west and south around the Albormoral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Creates a new colony and rewards 8 Lords by putting them in charge of the colony.  (Lord proprietors)   166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s of Carolina owned the land but had to pay a tax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it-ren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tax to L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in NC less wealthy than Virgi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around Albarmoral sound were one district and Settlers around Pamlico sound were in another district. First Town, B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onflict between groups in North Carolina, created Culpepers rebellion against the Lord Proprietors and governing North Carolina was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scora rebelled against settlers and were def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mov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lived east of the fall line.  But many came, and settled in the piedmont.   Germans, Scotch Irish, Quakers, Moravi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ing was very difficult for them and they were mostly poor compared to the colonists in the eastern part of the st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 and Turpentine used to seal  - Nava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e trees were plentiful and used for ma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Review Settlement of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5 characteristics of the settlement in North Caro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39480"/>
            <a:ext cx="72504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429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Separatist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England - wanted out (to separate) from the Church of Eng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re fined, jailed and at times killed b/c of relig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ilgrims: didn’t want gold but religious freed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ptember 1620 -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Mayflow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ailed, got off course by Nov. landed in Massachusetts not Virgi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Pilgrim map.jpg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5" name="SMARTInkShape-1"/>
          <p:cNvSpPr/>
          <p:nvPr/>
        </p:nvSpPr>
        <p:spPr>
          <a:xfrm>
            <a:off x="4900680" y="3962520"/>
            <a:ext cx="65160" cy="90360"/>
          </a:xfrm>
          <a:custGeom>
            <a:avLst/>
            <a:gdLst>
              <a:gd name="textAreaLeft" fmla="*/ 0 w 65160"/>
              <a:gd name="textAreaRight" fmla="*/ 65520 w 65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4105" h="90613">
                <a:moveTo>
                  <a:pt x="56723" y="67061"/>
                </a:moveTo>
                <a:lnTo>
                  <a:pt x="57675" y="58311"/>
                </a:lnTo>
                <a:lnTo>
                  <a:pt x="64104" y="36698"/>
                </a:lnTo>
                <a:lnTo>
                  <a:pt x="54606" y="34516"/>
                </a:lnTo>
                <a:lnTo>
                  <a:pt x="46739" y="33934"/>
                </a:lnTo>
                <a:lnTo>
                  <a:pt x="32919" y="38368"/>
                </a:lnTo>
                <a:lnTo>
                  <a:pt x="8524" y="56736"/>
                </a:lnTo>
                <a:lnTo>
                  <a:pt x="1964" y="67552"/>
                </a:lnTo>
                <a:lnTo>
                  <a:pt x="214" y="73103"/>
                </a:lnTo>
                <a:lnTo>
                  <a:pt x="0" y="77756"/>
                </a:lnTo>
                <a:lnTo>
                  <a:pt x="2303" y="85467"/>
                </a:lnTo>
                <a:lnTo>
                  <a:pt x="4251" y="87904"/>
                </a:lnTo>
                <a:lnTo>
                  <a:pt x="8955" y="90612"/>
                </a:lnTo>
                <a:lnTo>
                  <a:pt x="30610" y="87585"/>
                </a:lnTo>
                <a:lnTo>
                  <a:pt x="53992" y="77121"/>
                </a:lnTo>
                <a:lnTo>
                  <a:pt x="60465" y="62422"/>
                </a:lnTo>
                <a:lnTo>
                  <a:pt x="60608" y="47854"/>
                </a:lnTo>
                <a:lnTo>
                  <a:pt x="59313" y="39968"/>
                </a:lnTo>
                <a:lnTo>
                  <a:pt x="55592" y="33759"/>
                </a:lnTo>
                <a:lnTo>
                  <a:pt x="43838" y="24320"/>
                </a:lnTo>
                <a:lnTo>
                  <a:pt x="26549" y="22030"/>
                </a:lnTo>
                <a:lnTo>
                  <a:pt x="16604" y="22752"/>
                </a:lnTo>
                <a:lnTo>
                  <a:pt x="10927" y="26092"/>
                </a:lnTo>
                <a:lnTo>
                  <a:pt x="8095" y="31176"/>
                </a:lnTo>
                <a:lnTo>
                  <a:pt x="7159" y="37422"/>
                </a:lnTo>
                <a:lnTo>
                  <a:pt x="9393" y="40634"/>
                </a:lnTo>
                <a:lnTo>
                  <a:pt x="13740" y="41823"/>
                </a:lnTo>
                <a:lnTo>
                  <a:pt x="25237" y="40604"/>
                </a:lnTo>
                <a:lnTo>
                  <a:pt x="36697" y="36887"/>
                </a:lnTo>
                <a:lnTo>
                  <a:pt x="39562" y="31705"/>
                </a:lnTo>
                <a:lnTo>
                  <a:pt x="40206" y="15786"/>
                </a:lnTo>
                <a:lnTo>
                  <a:pt x="38092" y="10018"/>
                </a:lnTo>
                <a:lnTo>
                  <a:pt x="34777" y="6172"/>
                </a:lnTo>
                <a:lnTo>
                  <a:pt x="24871" y="0"/>
                </a:lnTo>
                <a:lnTo>
                  <a:pt x="20977" y="6776"/>
                </a:lnTo>
                <a:lnTo>
                  <a:pt x="5288" y="32770"/>
                </a:lnTo>
              </a:path>
            </a:pathLst>
          </a:custGeom>
          <a:solidFill>
            <a:srgbClr val="dfd6c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990720" y="1523880"/>
            <a:ext cx="4800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2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group of 10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 were blown off course and landed outside of Jamestown authority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tside of the legal authority of the Virginia Co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o makes the rules for the new colony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371600" y="365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7e00"/>
                </a:solidFill>
                <a:latin typeface="Times New Roman"/>
                <a:ea typeface="Arial Unicode MS"/>
              </a:rPr>
              <a:t>The Mayflower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Mayflower"/>
          <p:cNvPicPr/>
          <p:nvPr/>
        </p:nvPicPr>
        <p:blipFill>
          <a:blip r:embed="rId3"/>
          <a:stretch/>
        </p:blipFill>
        <p:spPr>
          <a:xfrm>
            <a:off x="5791320" y="1523880"/>
            <a:ext cx="2854080" cy="3962520"/>
          </a:xfrm>
          <a:prstGeom prst="rect">
            <a:avLst/>
          </a:prstGeom>
          <a:ln w="9360">
            <a:solidFill>
              <a:srgbClr val="482400"/>
            </a:solidFill>
            <a:miter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914400" y="2209680"/>
            <a:ext cx="7875720" cy="4376880"/>
            <a:chOff x="914400" y="2209680"/>
            <a:chExt cx="7875720" cy="4376880"/>
          </a:xfrm>
        </p:grpSpPr>
        <p:pic>
          <p:nvPicPr>
            <p:cNvPr id="110" name="Picture 1" descr=""/>
            <p:cNvPicPr/>
            <p:nvPr/>
          </p:nvPicPr>
          <p:blipFill>
            <a:blip r:embed="rId1"/>
            <a:srcRect l="0" t="15648" r="0" b="15766"/>
            <a:stretch/>
          </p:blipFill>
          <p:spPr>
            <a:xfrm>
              <a:off x="1119600" y="2403720"/>
              <a:ext cx="7482960" cy="39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914400" y="2209680"/>
              <a:ext cx="7875720" cy="437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MAYFLOWER COMPACT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N THE MAYFLOWER AGREED AND SIGNED BEFORE DEPARTING 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ctr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HEIR RULES FOR SELF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MAYFLOWER COMPAC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Arrived in Mass.  They called it Ply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Wrote document before they got off 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Rules for colony saying they word work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st time colonists claimed right to govern themselv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pilgrim voyage.jpg"/>
          <p:cNvPicPr/>
          <p:nvPr/>
        </p:nvPicPr>
        <p:blipFill>
          <a:blip r:embed="rId2"/>
          <a:stretch/>
        </p:blipFill>
        <p:spPr>
          <a:xfrm>
            <a:off x="4419720" y="1371600"/>
            <a:ext cx="426708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228600"/>
            <a:ext cx="723888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Arial Narrow"/>
              </a:rPr>
              <a:t>That First Year….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1143000"/>
            <a:ext cx="693432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ter of 1620-162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44 out of the original 102 survived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chose to leave in 1621 when the Mayflower sailed back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of 162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rst “Thanksgiving.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ny survived with fur, fish, and lumber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ymouth stayed small and economically unimporta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9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ly 7,000 people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d with Massachusetts Bay Colony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Native Americans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Helped Pilgrims survive</a:t>
            </a:r>
            <a:br>
              <a:rPr sz="4000"/>
            </a:b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ua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lped the most: gave seeds for corn, beans, pumpkins, &amp; taught them how to plant crops and fish for eel in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giving - 2nd autumn after arrival to celebrate good har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he Other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5248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55b00"/>
                </a:solidFill>
                <a:latin typeface="Times New Roman"/>
              </a:rPr>
              <a:t>Purit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5b00"/>
                </a:solidFill>
                <a:latin typeface="Times New Roman"/>
              </a:rPr>
              <a:t>Who were they and why were they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54:35Z</dcterms:created>
  <dc:creator>WCPSS</dc:creator>
  <dc:description/>
  <dc:language>en-US</dc:language>
  <cp:lastModifiedBy>Amy Davis</cp:lastModifiedBy>
  <dcterms:modified xsi:type="dcterms:W3CDTF">2017-10-09T11:16:16Z</dcterms:modified>
  <cp:revision>66</cp:revision>
  <dc:subject/>
  <dc:title>Massachusetts Bay Colo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33</vt:lpwstr>
  </property>
</Properties>
</file>