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521A-94C0-4319-ABA4-2B8BA8CC4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6D0-B77C-4DE0-82A6-2FC25A04AE40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13B9-CD4A-4B25-887C-23BC34925FB6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E8F-38C9-417F-928B-3561CC1B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D65-6321-4BF1-A5E5-F76ECDF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4CB-F0A3-434E-AFC3-8A218058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250-6E6E-4F38-9390-117226D8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B229-9685-4B7D-B99C-641CDD83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C89D-EC4A-4DC2-998F-598B60DA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CE94-79B3-44C2-B5CE-9400B5BC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4AD9-ADC2-4951-B1EE-05474B1B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6463-07EB-4F2F-8F16-5402EAA3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51A3-B6C1-4CCC-A920-892949C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E6C5-7AF5-4979-954B-3599E836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A02-72B3-4324-9636-3C83456D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DAC6-7ED7-4308-804D-F597C3EF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A49E-9822-4F17-B47D-84676587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1C54-3588-4FA9-972B-2F02D8B3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017A-02B1-426C-8515-66C9EBA2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94F1-F43E-4AA9-BE3B-57E72B25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6BE-DE23-4DDF-9EBB-7C0E6236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07B-4D52-4BA2-97AD-9AFB9739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B0A-2920-497D-99A5-D5894F7B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113-41D4-44C7-BF59-86550358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AD0-C0B2-465B-B1A7-D49970B1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898-5844-41D5-9321-282A38B4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0A6-F9BD-4844-9413-1B5CB22D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EC10-52F0-4BE2-BA67-DC715494F33C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5" name="Picture 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3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12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Picture 2" descr="Expbanna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EXPHORSA"/>
            <p:cNvPicPr/>
            <p:nvPr/>
          </p:nvPicPr>
          <p:blipFill>
            <a:blip r:embed="rId5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9C71-9271-4C99-AB32-6D3871C3481C}" type="slidenum">
              <a:rPr b="0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assachusetts Bay Colony</a:t>
            </a:r>
            <a:br>
              <a:rPr sz="4400"/>
            </a:b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ilgrims and Purita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at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at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uritans from England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6" name="Picture 12" descr="j0149407"/>
          <p:cNvPicPr/>
          <p:nvPr/>
        </p:nvPicPr>
        <p:blipFill>
          <a:blip r:embed="rId1"/>
          <a:stretch/>
        </p:blipFill>
        <p:spPr>
          <a:xfrm>
            <a:off x="1066680" y="1523880"/>
            <a:ext cx="3353040" cy="4496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952520" y="159984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to change and “purify” the Church of England not leave the church like the Pilgr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 to North America to worship as they p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  <a:ea typeface="Arial Unicode MS"/>
              </a:rPr>
              <a:t>Why were the Puritans Successful?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ll equipp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  Sailed in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ad time to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harvest in f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 Great 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Content Placeholder 7" descr="winthrop.jpg"/>
          <p:cNvPicPr/>
          <p:nvPr/>
        </p:nvPicPr>
        <p:blipFill>
          <a:blip r:embed="rId1"/>
          <a:stretch/>
        </p:blipFill>
        <p:spPr>
          <a:xfrm>
            <a:off x="4114800" y="15238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Massachusetts Bay Colon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430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t Gr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2174760"/>
            <a:ext cx="3430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630 -great migration of Purit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eat Leader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professionals, lawyers, land owners, merch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95320" y="1371600"/>
            <a:ext cx="4194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vernor John Winth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209320"/>
            <a:ext cx="4041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nted Colony to be example to the world as a model commun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ritan belie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ese showed their obedience to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The New England Wa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7" name="Organization Chart 6"/>
          <p:cNvGrpSpPr/>
          <p:nvPr/>
        </p:nvGrpSpPr>
        <p:grpSpPr>
          <a:xfrm>
            <a:off x="1066680" y="1676520"/>
            <a:ext cx="7771680" cy="4113360"/>
            <a:chOff x="1066680" y="1676520"/>
            <a:chExt cx="7771680" cy="4113360"/>
          </a:xfrm>
        </p:grpSpPr>
        <p:cxnSp>
          <p:nvCxnSpPr>
            <p:cNvPr id="138" name="_s1028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900760" y="237204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29"/>
            <p:cNvCxnSpPr>
              <a:stCxn id="142" idx="0"/>
              <a:endCxn id="140" idx="2"/>
            </p:cNvCxnSpPr>
            <p:nvPr/>
          </p:nvCxnSpPr>
          <p:spPr>
            <a:xfrm flipV="1">
              <a:off x="4952520" y="3321000"/>
              <a:ext cx="3600" cy="82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0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3180960" y="2372400"/>
              <a:ext cx="823320" cy="272088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0" name="_s1031"/>
            <p:cNvSpPr/>
            <p:nvPr/>
          </p:nvSpPr>
          <p:spPr>
            <a:xfrm>
              <a:off x="3786840" y="167652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ngregation: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People who belong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 the same church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1032"/>
            <p:cNvSpPr/>
            <p:nvPr/>
          </p:nvSpPr>
          <p:spPr>
            <a:xfrm>
              <a:off x="106668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eeting Hous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ost important building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wn meetings-laws and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community decisions mad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78684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Massachusetts Colony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Only males vote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nd hold office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6507000" y="4144680"/>
              <a:ext cx="2331360" cy="1645200"/>
            </a:xfrm>
            <a:prstGeom prst="roundRect">
              <a:avLst>
                <a:gd name="adj" fmla="val 16667"/>
              </a:avLst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General court 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name for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lawmaking body</a:t>
              </a:r>
              <a:endParaRPr b="0" i="1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Picture 5" descr="puritan village.jpg"/>
          <p:cNvPicPr/>
          <p:nvPr/>
        </p:nvPicPr>
        <p:blipFill>
          <a:blip r:embed="rId1"/>
          <a:stretch/>
        </p:blipFill>
        <p:spPr>
          <a:xfrm>
            <a:off x="1066680" y="1295280"/>
            <a:ext cx="2590920" cy="206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uritians.jpg"/>
          <p:cNvPicPr/>
          <p:nvPr/>
        </p:nvPicPr>
        <p:blipFill>
          <a:blip r:embed="rId2"/>
          <a:stretch/>
        </p:blipFill>
        <p:spPr>
          <a:xfrm>
            <a:off x="6248520" y="1219320"/>
            <a:ext cx="259056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1143000" y="594360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Non Puritans did not have same rights as Puritans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82400"/>
                </a:solidFill>
                <a:latin typeface="Times New Roman"/>
              </a:rPr>
              <a:t>New England Way continued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ty St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d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05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very important- so every one could read the Bible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usements would lead to being l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19320" y="318960"/>
            <a:ext cx="74674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7e00"/>
                </a:solidFill>
                <a:latin typeface="QuillPerpendicularRegular"/>
              </a:rPr>
              <a:t>Characteristics of New England Settlement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05740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371600" y="1600200"/>
            <a:ext cx="72388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ortal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rage life expectancy was 70 years of ag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6 children per famil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ge at marriag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men – 22 years old</a:t>
            </a: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 – 27 years old.</a:t>
            </a: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437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Hugh Growth in Colon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30-1643 more than 20,000 people settle in  Massachuse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achusetts and Plymouth combine into one called Massachuse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Content Placeholder 5" descr="puritan village1.jpg"/>
          <p:cNvPicPr/>
          <p:nvPr/>
        </p:nvPicPr>
        <p:blipFill>
          <a:blip r:embed="rId4"/>
          <a:stretch/>
        </p:blipFill>
        <p:spPr>
          <a:xfrm>
            <a:off x="1143000" y="1676520"/>
            <a:ext cx="373392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76560" y="380880"/>
            <a:ext cx="37335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sachusetts Bay 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86200" y="990720"/>
          <a:ext cx="1828800" cy="50292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2491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ies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Reason for founding the colony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Challenges Colonist’s Faced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People who founded colony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What made the colony successful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Government of the colony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19040" y="988920"/>
          <a:ext cx="2578320" cy="4781520"/>
        </p:xfrm>
        <a:graphic>
          <a:graphicData uri="http://schemas.openxmlformats.org/drawingml/2006/table">
            <a:tbl>
              <a:tblPr/>
              <a:tblGrid>
                <a:gridCol w="2578320"/>
              </a:tblGrid>
              <a:tr h="478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791320" y="990720"/>
          <a:ext cx="2828880" cy="5029200"/>
        </p:xfrm>
        <a:graphic>
          <a:graphicData uri="http://schemas.openxmlformats.org/drawingml/2006/table">
            <a:tbl>
              <a:tblPr/>
              <a:tblGrid>
                <a:gridCol w="2828880"/>
              </a:tblGrid>
              <a:tr h="5031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295280" y="1004760"/>
          <a:ext cx="2590920" cy="502920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50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3"/>
          <p:cNvSpPr/>
          <p:nvPr/>
        </p:nvSpPr>
        <p:spPr>
          <a:xfrm>
            <a:off x="1143000" y="380880"/>
            <a:ext cx="3733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ymout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What was happening in North Carolina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moving south and Carolina becomes its own col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 Proprie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pe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-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Col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ocabulary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f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flower Co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it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England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rolina Grow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land around Jamestown, VA becomes scarce.  Newcomers begin to settle west and south around the Albormoral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Creates a new colony and rewards 8 Lords by putting them in charge of the colony.  (Lord proprietors)   166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ts of Carolina owned the land but had to pay a tax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it-ren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tax to L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lers in NC less wealthy than Virgi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lers around Albarmoral sound were one district and Settlers around Pamlico sound were in another district. First Town, B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arolina Grow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conflict between groups in North Carolina, created Culpepers rebellion against the Lord Proprietors and governing North Carolina was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scora rebelled against settlers and were defe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began to move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eople lived east of the fall line.  But many came, and settled in the piedmont.   Germans, Scotch Irish, Quakers, Moravi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ming was very difficult for them and they were mostly poor compared to the colonists in the eastern part of the st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 and Turpentine used to seal  - Naval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e trees were plentiful and used for ma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Review Settlement of North Carolina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down 5 characteristics of the settlement in North Carol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39480"/>
            <a:ext cx="72504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PILGRIMS</a:t>
            </a: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429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nown as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Separatist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n England - wanted out (to separate) from the Church of Engl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ere fined, jailed and at times killed b/c of relig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ilgrims: didn’t want gold but religious freed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ptember 1620 -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Mayflow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sailed, got off course by Nov. landed in Massachusetts not Virgin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Pilgrim map.jpg"/>
          <p:cNvPicPr/>
          <p:nvPr/>
        </p:nvPicPr>
        <p:blipFill>
          <a:blip r:embed="rId1"/>
          <a:stretch/>
        </p:blipFill>
        <p:spPr>
          <a:xfrm>
            <a:off x="4343400" y="1295280"/>
            <a:ext cx="457200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5" name="SMARTInkShape-1"/>
          <p:cNvSpPr/>
          <p:nvPr/>
        </p:nvSpPr>
        <p:spPr>
          <a:xfrm>
            <a:off x="4900680" y="3962520"/>
            <a:ext cx="65160" cy="90360"/>
          </a:xfrm>
          <a:custGeom>
            <a:avLst/>
            <a:gdLst>
              <a:gd name="textAreaLeft" fmla="*/ 0 w 65160"/>
              <a:gd name="textAreaRight" fmla="*/ 65520 w 651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4105" h="90613">
                <a:moveTo>
                  <a:pt x="56723" y="67061"/>
                </a:moveTo>
                <a:lnTo>
                  <a:pt x="57675" y="58311"/>
                </a:lnTo>
                <a:lnTo>
                  <a:pt x="64104" y="36698"/>
                </a:lnTo>
                <a:lnTo>
                  <a:pt x="54606" y="34516"/>
                </a:lnTo>
                <a:lnTo>
                  <a:pt x="46739" y="33934"/>
                </a:lnTo>
                <a:lnTo>
                  <a:pt x="32919" y="38368"/>
                </a:lnTo>
                <a:lnTo>
                  <a:pt x="8524" y="56736"/>
                </a:lnTo>
                <a:lnTo>
                  <a:pt x="1964" y="67552"/>
                </a:lnTo>
                <a:lnTo>
                  <a:pt x="214" y="73103"/>
                </a:lnTo>
                <a:lnTo>
                  <a:pt x="0" y="77756"/>
                </a:lnTo>
                <a:lnTo>
                  <a:pt x="2303" y="85467"/>
                </a:lnTo>
                <a:lnTo>
                  <a:pt x="4251" y="87904"/>
                </a:lnTo>
                <a:lnTo>
                  <a:pt x="8955" y="90612"/>
                </a:lnTo>
                <a:lnTo>
                  <a:pt x="30610" y="87585"/>
                </a:lnTo>
                <a:lnTo>
                  <a:pt x="53992" y="77121"/>
                </a:lnTo>
                <a:lnTo>
                  <a:pt x="60465" y="62422"/>
                </a:lnTo>
                <a:lnTo>
                  <a:pt x="60608" y="47854"/>
                </a:lnTo>
                <a:lnTo>
                  <a:pt x="59313" y="39968"/>
                </a:lnTo>
                <a:lnTo>
                  <a:pt x="55592" y="33759"/>
                </a:lnTo>
                <a:lnTo>
                  <a:pt x="43838" y="24320"/>
                </a:lnTo>
                <a:lnTo>
                  <a:pt x="26549" y="22030"/>
                </a:lnTo>
                <a:lnTo>
                  <a:pt x="16604" y="22752"/>
                </a:lnTo>
                <a:lnTo>
                  <a:pt x="10927" y="26092"/>
                </a:lnTo>
                <a:lnTo>
                  <a:pt x="8095" y="31176"/>
                </a:lnTo>
                <a:lnTo>
                  <a:pt x="7159" y="37422"/>
                </a:lnTo>
                <a:lnTo>
                  <a:pt x="9393" y="40634"/>
                </a:lnTo>
                <a:lnTo>
                  <a:pt x="13740" y="41823"/>
                </a:lnTo>
                <a:lnTo>
                  <a:pt x="25237" y="40604"/>
                </a:lnTo>
                <a:lnTo>
                  <a:pt x="36697" y="36887"/>
                </a:lnTo>
                <a:lnTo>
                  <a:pt x="39562" y="31705"/>
                </a:lnTo>
                <a:lnTo>
                  <a:pt x="40206" y="15786"/>
                </a:lnTo>
                <a:lnTo>
                  <a:pt x="38092" y="10018"/>
                </a:lnTo>
                <a:lnTo>
                  <a:pt x="34777" y="6172"/>
                </a:lnTo>
                <a:lnTo>
                  <a:pt x="24871" y="0"/>
                </a:lnTo>
                <a:lnTo>
                  <a:pt x="20977" y="6776"/>
                </a:lnTo>
                <a:lnTo>
                  <a:pt x="5288" y="32770"/>
                </a:lnTo>
              </a:path>
            </a:pathLst>
          </a:custGeom>
          <a:solidFill>
            <a:srgbClr val="dfd6c3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990720" y="1523880"/>
            <a:ext cx="48006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2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group of 102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grims were blown off course and landed outside of Jamestown authority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tside of the legal authority of the Virginia Co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o makes the rules for the new colony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371600" y="36504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7e00"/>
                </a:solidFill>
                <a:latin typeface="Times New Roman"/>
                <a:ea typeface="Arial Unicode MS"/>
              </a:rPr>
              <a:t>The Mayflower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Mayflower"/>
          <p:cNvPicPr/>
          <p:nvPr/>
        </p:nvPicPr>
        <p:blipFill>
          <a:blip r:embed="rId3"/>
          <a:stretch/>
        </p:blipFill>
        <p:spPr>
          <a:xfrm>
            <a:off x="5791320" y="1523880"/>
            <a:ext cx="2854080" cy="3962520"/>
          </a:xfrm>
          <a:prstGeom prst="rect">
            <a:avLst/>
          </a:prstGeom>
          <a:ln w="9360">
            <a:solidFill>
              <a:srgbClr val="482400"/>
            </a:solidFill>
            <a:miter/>
          </a:ln>
        </p:spPr>
      </p:pic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3"/>
          <p:cNvGrpSpPr/>
          <p:nvPr/>
        </p:nvGrpSpPr>
        <p:grpSpPr>
          <a:xfrm>
            <a:off x="914400" y="2209680"/>
            <a:ext cx="7875720" cy="4376880"/>
            <a:chOff x="914400" y="2209680"/>
            <a:chExt cx="7875720" cy="4376880"/>
          </a:xfrm>
        </p:grpSpPr>
        <p:pic>
          <p:nvPicPr>
            <p:cNvPr id="110" name="Picture 1" descr=""/>
            <p:cNvPicPr/>
            <p:nvPr/>
          </p:nvPicPr>
          <p:blipFill>
            <a:blip r:embed="rId1"/>
            <a:srcRect l="0" t="15648" r="0" b="15766"/>
            <a:stretch/>
          </p:blipFill>
          <p:spPr>
            <a:xfrm>
              <a:off x="1119600" y="2403720"/>
              <a:ext cx="7482960" cy="39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" descr=""/>
            <p:cNvPicPr/>
            <p:nvPr/>
          </p:nvPicPr>
          <p:blipFill>
            <a:blip r:embed="rId2"/>
            <a:stretch/>
          </p:blipFill>
          <p:spPr>
            <a:xfrm>
              <a:off x="914400" y="2209680"/>
              <a:ext cx="7875720" cy="437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2400"/>
                </a:solidFill>
                <a:latin typeface="Times New Roman"/>
              </a:rPr>
              <a:t>MAYFLOWER COMPACT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N THE MAYFLOWER AGREED AND SIGNED BEFORE DEPARTING 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ctr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HEIR RULES FOR SELF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MAYFLOWER COMPAC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3124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Arrived in Mass.  They called it Plymou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Wrote document before they got off 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3a00"/>
                </a:solidFill>
                <a:latin typeface="Times New Roman"/>
              </a:rPr>
              <a:t>Rules for colony saying they word work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st time colonists claimed right to govern themselv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pilgrim voyage.jpg"/>
          <p:cNvPicPr/>
          <p:nvPr/>
        </p:nvPicPr>
        <p:blipFill>
          <a:blip r:embed="rId2"/>
          <a:stretch/>
        </p:blipFill>
        <p:spPr>
          <a:xfrm>
            <a:off x="4419720" y="1371600"/>
            <a:ext cx="426708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371600" y="228600"/>
            <a:ext cx="723888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47e00"/>
                </a:solidFill>
                <a:latin typeface="Arial Narrow"/>
              </a:rPr>
              <a:t>That First Year….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12952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3880" y="1143000"/>
            <a:ext cx="693432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ter of 1620-162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44 out of the original 102 survived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chose to leave in 1621 when the Mayflower sailed back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 of 162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rst “Thanksgiving.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ony survived with fur, fish, and lumber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ymouth stayed small and economically unimporta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691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ly 7,000 people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293400">
              <a:lnSpc>
                <a:spcPct val="100000"/>
              </a:lnSpc>
              <a:spcBef>
                <a:spcPts val="1375"/>
              </a:spcBef>
              <a:buClr>
                <a:srgbClr val="fc7e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ged with Massachusetts Bay Colony.</a:t>
            </a:r>
            <a:endParaRPr b="0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Narrow"/>
              </a:rPr>
              <a:t>Native Americans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Arial Narrow"/>
              </a:rPr>
              <a:t>Helped Pilgrims survive</a:t>
            </a:r>
            <a:br>
              <a:rPr sz="4000"/>
            </a:b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uan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helped the most: gave seeds for corn, beans, pumpkins, &amp; taught them how to plant crops and fish for eel in 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ksgiving - 2nd autumn after arrival to celebrate good harv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The Others From England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752480" y="37335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55b00"/>
                </a:solidFill>
                <a:latin typeface="Times New Roman"/>
              </a:rPr>
              <a:t>Purit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5b00"/>
                </a:solidFill>
                <a:latin typeface="Times New Roman"/>
              </a:rPr>
              <a:t>Who were they and why were they differ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6:54:35Z</dcterms:created>
  <dc:creator>WCPSS</dc:creator>
  <dc:description/>
  <dc:language>en-US</dc:language>
  <cp:lastModifiedBy>Amy Davis</cp:lastModifiedBy>
  <dcterms:modified xsi:type="dcterms:W3CDTF">2017-10-09T11:16:16Z</dcterms:modified>
  <cp:revision>66</cp:revision>
  <dc:subject/>
  <dc:title>Massachusetts Bay Colo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33</vt:lpwstr>
  </property>
</Properties>
</file>