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0502-9EC8-43DB-A8F1-6ED388B6E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9568-DF50-4729-BBD6-A8B73B537852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D3F6-9B48-4CEF-AB2D-8BE48179D44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14C0-1F50-459F-8C50-57C6E49F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658-8A68-463B-930A-A00F43C7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A19-A0B7-4A50-A5C4-5838F573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BF2-C639-44D7-AD2B-D1E900EF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7C7D-31E6-4ACF-AE58-78E5ADDB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B86D-0407-4404-B1DE-AA3F0A72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3765-3007-499A-A115-FA5A4D01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2A47-C82B-436C-82C1-4083D2F3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7E0E-DA1C-44E4-931B-8313425D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6163-3F45-4B7D-B1AE-5250AE8B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3E90-0C51-4CD4-BA57-0ED338B1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4AE-47A6-4C75-8F66-A96C8355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96A5-68A7-4C51-8BA9-23C1EC28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8A3E-5CD5-4E74-B805-A0E98CFC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9119-C3B1-4FD6-B596-BBA2BEDC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AE42-F381-4515-9ED8-0233F888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D58F-6E00-418C-812F-3526E3A7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F097-74DF-47C2-A1B6-819EE841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AE4-2A41-49E1-B57E-AE9D9ADF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2B7-5FE3-4D86-8E27-F3D49C72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48E-5E94-48B6-99C3-EC738121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E13-F0CA-4DC6-9EAA-39DE7686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EEE-A759-4320-96CB-D7C505AB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CCF-0E1B-4CAB-8F43-D12DA85D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2D2F-3811-486F-B10F-24B2235C1F06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Picture 2" descr="Expbanna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9" descr="EXPHORSA"/>
            <p:cNvPicPr/>
            <p:nvPr/>
          </p:nvPicPr>
          <p:blipFill>
            <a:blip r:embed="rId5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BDCE-B991-4788-B6F0-B9B5DACECE7C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Massachusetts Bay Colony</a:t>
            </a:r>
            <a:br>
              <a:rPr sz="4400"/>
            </a:b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Pilgrims and Purita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at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at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uritans from England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6" name="Picture 12" descr="j0149407"/>
          <p:cNvPicPr/>
          <p:nvPr/>
        </p:nvPicPr>
        <p:blipFill>
          <a:blip r:embed="rId1"/>
          <a:stretch/>
        </p:blipFill>
        <p:spPr>
          <a:xfrm>
            <a:off x="1066680" y="1523880"/>
            <a:ext cx="3353040" cy="4496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952520" y="1599840"/>
            <a:ext cx="3505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ed to change and “purify” the Church of England not leave the church like the Pilgri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e to North America to worship as they pl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  <a:ea typeface="Arial Unicode MS"/>
              </a:rPr>
              <a:t>Why were the Puritans Successful?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ell equippe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ep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  Sailed in 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d time to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o harvest in f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 Great 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Content Placeholder 7" descr="winthrop.jpg"/>
          <p:cNvPicPr/>
          <p:nvPr/>
        </p:nvPicPr>
        <p:blipFill>
          <a:blip r:embed="rId1"/>
          <a:stretch/>
        </p:blipFill>
        <p:spPr>
          <a:xfrm>
            <a:off x="4114800" y="1523880"/>
            <a:ext cx="4724280" cy="472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Massachusetts Bay Colon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34308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0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it Gr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2174760"/>
            <a:ext cx="34308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630 -great migration of Purit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reat Leadersh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professionals, lawyers, land owners, merch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95320" y="1371600"/>
            <a:ext cx="4194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vernor John Winth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4720" y="2209320"/>
            <a:ext cx="4041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anted Colony to be example to the world as a model commun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ritan beli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hese showed their obedience to G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he New England Wa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37" name="Organization Chart 6"/>
          <p:cNvGrpSpPr/>
          <p:nvPr/>
        </p:nvGrpSpPr>
        <p:grpSpPr>
          <a:xfrm>
            <a:off x="1066680" y="1676520"/>
            <a:ext cx="7771680" cy="4113360"/>
            <a:chOff x="1066680" y="1676520"/>
            <a:chExt cx="7771680" cy="4113360"/>
          </a:xfrm>
        </p:grpSpPr>
        <p:cxnSp>
          <p:nvCxnSpPr>
            <p:cNvPr id="138" name="_s1028"/>
            <p:cNvCxnSpPr>
              <a:stCxn id="139" idx="0"/>
              <a:endCxn id="140" idx="2"/>
            </p:cNvCxnSpPr>
            <p:nvPr/>
          </p:nvCxnSpPr>
          <p:spPr>
            <a:xfrm flipV="1" rot="16200000">
              <a:off x="5900760" y="2372040"/>
              <a:ext cx="823320" cy="272088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029"/>
            <p:cNvCxnSpPr>
              <a:stCxn id="142" idx="0"/>
              <a:endCxn id="140" idx="2"/>
            </p:cNvCxnSpPr>
            <p:nvPr/>
          </p:nvCxnSpPr>
          <p:spPr>
            <a:xfrm flipV="1">
              <a:off x="4952520" y="3321000"/>
              <a:ext cx="3600" cy="82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030"/>
            <p:cNvCxnSpPr>
              <a:stCxn id="144" idx="0"/>
              <a:endCxn id="140" idx="2"/>
            </p:cNvCxnSpPr>
            <p:nvPr/>
          </p:nvCxnSpPr>
          <p:spPr>
            <a:xfrm flipH="1" flipV="1" rot="5400000">
              <a:off x="3180960" y="2372400"/>
              <a:ext cx="823320" cy="272088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0" name="_s1031"/>
            <p:cNvSpPr/>
            <p:nvPr/>
          </p:nvSpPr>
          <p:spPr>
            <a:xfrm>
              <a:off x="3786840" y="167652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ongregation: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People who belong 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o the same church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1032"/>
            <p:cNvSpPr/>
            <p:nvPr/>
          </p:nvSpPr>
          <p:spPr>
            <a:xfrm>
              <a:off x="1066680" y="41446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Meeting House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Most important building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own meetings-laws and 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ommunity decisions made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3786840" y="41446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Massachusetts Colony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Only males vote 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And hold office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6507000" y="41446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General court 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 for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lawmaking body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Picture 5" descr="puritan village.jpg"/>
          <p:cNvPicPr/>
          <p:nvPr/>
        </p:nvPicPr>
        <p:blipFill>
          <a:blip r:embed="rId1"/>
          <a:stretch/>
        </p:blipFill>
        <p:spPr>
          <a:xfrm>
            <a:off x="1066680" y="1295280"/>
            <a:ext cx="2590920" cy="2067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puritians.jpg"/>
          <p:cNvPicPr/>
          <p:nvPr/>
        </p:nvPicPr>
        <p:blipFill>
          <a:blip r:embed="rId2"/>
          <a:stretch/>
        </p:blipFill>
        <p:spPr>
          <a:xfrm>
            <a:off x="6248520" y="1219320"/>
            <a:ext cx="2590560" cy="2286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1143000" y="594360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 Puritans did not have same rights as Puritans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New England Way continued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ety St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dl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e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051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 very important- so every one could read the Bible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usements would lead to being l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219320" y="318960"/>
            <a:ext cx="74674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47e00"/>
                </a:solidFill>
                <a:latin typeface="QuillPerpendicularRegular"/>
              </a:rPr>
              <a:t>Characteristics of New England Settlement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057400" y="12952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371600" y="1600200"/>
            <a:ext cx="72388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mortalit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rage life expectancy was 70 years of age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6 children per family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age at marriage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men – 22 years old</a:t>
            </a:r>
            <a:endParaRPr b="0" i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 – 27 years old.</a:t>
            </a:r>
            <a:endParaRPr b="0" i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Hugh Growth in Colon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30-1643 more than 20,000 people settle in  Massachuset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achusetts and Plymouth combine into one called Massachuset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Content Placeholder 5" descr="puritan village1.jpg"/>
          <p:cNvPicPr/>
          <p:nvPr/>
        </p:nvPicPr>
        <p:blipFill>
          <a:blip r:embed="rId4"/>
          <a:stretch/>
        </p:blipFill>
        <p:spPr>
          <a:xfrm>
            <a:off x="1143000" y="1676520"/>
            <a:ext cx="373392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76560" y="380880"/>
            <a:ext cx="37335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sachusetts Bay 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886200" y="990720"/>
          <a:ext cx="1828800" cy="502920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24912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ies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Reason for founding the colony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Challenges Colonist’s Faced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People who founded colony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What made the colony successful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Government of the colony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19040" y="988920"/>
          <a:ext cx="2578320" cy="4781520"/>
        </p:xfrm>
        <a:graphic>
          <a:graphicData uri="http://schemas.openxmlformats.org/drawingml/2006/table">
            <a:tbl>
              <a:tblPr/>
              <a:tblGrid>
                <a:gridCol w="2578320"/>
              </a:tblGrid>
              <a:tr h="478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791320" y="990720"/>
          <a:ext cx="2828880" cy="5029200"/>
        </p:xfrm>
        <a:graphic>
          <a:graphicData uri="http://schemas.openxmlformats.org/drawingml/2006/table">
            <a:tbl>
              <a:tblPr/>
              <a:tblGrid>
                <a:gridCol w="2828880"/>
              </a:tblGrid>
              <a:tr h="5031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295280" y="1004760"/>
          <a:ext cx="2590920" cy="502920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50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3"/>
          <p:cNvSpPr/>
          <p:nvPr/>
        </p:nvSpPr>
        <p:spPr>
          <a:xfrm>
            <a:off x="1143000" y="380880"/>
            <a:ext cx="3733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ymouth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What was happening in North Carolina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moving south and Carolina becomes its own col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Vocabular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 Proprie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pe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t-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Col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ocabular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gri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f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flower Co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it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ua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ngland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arolina Grow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land around Jamestown, VA becomes scarce.  Newcomers begin to settle west and south around the Albormoral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 Creates a new colony and rewards 8 Lords by putting them in charge of the colony.  (Lord proprietors)   166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ents of Carolina owned the land but had to pay a tax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it-ren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tax to L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lers in NC less wealthy than Virgi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lers around Albarmoral sound were one district and Settlers around Pamlico sound were in another district. First Town, B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arolina Grow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conflict between groups in North Carolina, created Culpepers rebellion against the Lord Proprietors and governing North Carolina was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scora rebelled against settlers and were defe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began to move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eople lived east of the fall line.  But many came, and settled in the piedmont.   Germans, Scotch Irish, Quakers, Moravi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ming was very difficult for them and they were mostly poor compared to the colonists in the eastern part of the stat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 and Turpentine used to seal  - Naval 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e trees were plentiful and used for ma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Review Settlement of North Carolina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5 characteristics of the settlement in North Carol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339480"/>
            <a:ext cx="72504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PILGRIMS</a:t>
            </a: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429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nown as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Separatist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n England - wanted out (to separate) from the Church of Englan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re fined, jailed and at times killed b/c of relig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ilgrims: didn’t want gold but religious freed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ptember 1620 -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Mayflow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ailed, got off course by Nov. landed in Massachusetts not Virgin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Pilgrim map.jpg"/>
          <p:cNvPicPr/>
          <p:nvPr/>
        </p:nvPicPr>
        <p:blipFill>
          <a:blip r:embed="rId1"/>
          <a:stretch/>
        </p:blipFill>
        <p:spPr>
          <a:xfrm>
            <a:off x="4343400" y="1295280"/>
            <a:ext cx="4572000" cy="50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5" name="SMARTInkShape-1"/>
          <p:cNvSpPr/>
          <p:nvPr/>
        </p:nvSpPr>
        <p:spPr>
          <a:xfrm>
            <a:off x="4900680" y="3962520"/>
            <a:ext cx="65160" cy="90360"/>
          </a:xfrm>
          <a:custGeom>
            <a:avLst/>
            <a:gdLst>
              <a:gd name="textAreaLeft" fmla="*/ 0 w 65160"/>
              <a:gd name="textAreaRight" fmla="*/ 65520 w 651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64105" h="90613">
                <a:moveTo>
                  <a:pt x="56723" y="67061"/>
                </a:moveTo>
                <a:lnTo>
                  <a:pt x="57675" y="58311"/>
                </a:lnTo>
                <a:lnTo>
                  <a:pt x="64104" y="36698"/>
                </a:lnTo>
                <a:lnTo>
                  <a:pt x="54606" y="34516"/>
                </a:lnTo>
                <a:lnTo>
                  <a:pt x="46739" y="33934"/>
                </a:lnTo>
                <a:lnTo>
                  <a:pt x="32919" y="38368"/>
                </a:lnTo>
                <a:lnTo>
                  <a:pt x="8524" y="56736"/>
                </a:lnTo>
                <a:lnTo>
                  <a:pt x="1964" y="67552"/>
                </a:lnTo>
                <a:lnTo>
                  <a:pt x="214" y="73103"/>
                </a:lnTo>
                <a:lnTo>
                  <a:pt x="0" y="77756"/>
                </a:lnTo>
                <a:lnTo>
                  <a:pt x="2303" y="85467"/>
                </a:lnTo>
                <a:lnTo>
                  <a:pt x="4251" y="87904"/>
                </a:lnTo>
                <a:lnTo>
                  <a:pt x="8955" y="90612"/>
                </a:lnTo>
                <a:lnTo>
                  <a:pt x="30610" y="87585"/>
                </a:lnTo>
                <a:lnTo>
                  <a:pt x="53992" y="77121"/>
                </a:lnTo>
                <a:lnTo>
                  <a:pt x="60465" y="62422"/>
                </a:lnTo>
                <a:lnTo>
                  <a:pt x="60608" y="47854"/>
                </a:lnTo>
                <a:lnTo>
                  <a:pt x="59313" y="39968"/>
                </a:lnTo>
                <a:lnTo>
                  <a:pt x="55592" y="33759"/>
                </a:lnTo>
                <a:lnTo>
                  <a:pt x="43838" y="24320"/>
                </a:lnTo>
                <a:lnTo>
                  <a:pt x="26549" y="22030"/>
                </a:lnTo>
                <a:lnTo>
                  <a:pt x="16604" y="22752"/>
                </a:lnTo>
                <a:lnTo>
                  <a:pt x="10927" y="26092"/>
                </a:lnTo>
                <a:lnTo>
                  <a:pt x="8095" y="31176"/>
                </a:lnTo>
                <a:lnTo>
                  <a:pt x="7159" y="37422"/>
                </a:lnTo>
                <a:lnTo>
                  <a:pt x="9393" y="40634"/>
                </a:lnTo>
                <a:lnTo>
                  <a:pt x="13740" y="41823"/>
                </a:lnTo>
                <a:lnTo>
                  <a:pt x="25237" y="40604"/>
                </a:lnTo>
                <a:lnTo>
                  <a:pt x="36697" y="36887"/>
                </a:lnTo>
                <a:lnTo>
                  <a:pt x="39562" y="31705"/>
                </a:lnTo>
                <a:lnTo>
                  <a:pt x="40206" y="15786"/>
                </a:lnTo>
                <a:lnTo>
                  <a:pt x="38092" y="10018"/>
                </a:lnTo>
                <a:lnTo>
                  <a:pt x="34777" y="6172"/>
                </a:lnTo>
                <a:lnTo>
                  <a:pt x="24871" y="0"/>
                </a:lnTo>
                <a:lnTo>
                  <a:pt x="20977" y="6776"/>
                </a:lnTo>
                <a:lnTo>
                  <a:pt x="5288" y="32770"/>
                </a:lnTo>
              </a:path>
            </a:pathLst>
          </a:custGeom>
          <a:solidFill>
            <a:srgbClr val="dfd6c3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1"/>
          <p:cNvSpPr/>
          <p:nvPr/>
        </p:nvSpPr>
        <p:spPr>
          <a:xfrm>
            <a:off x="990720" y="1523880"/>
            <a:ext cx="48006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2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group of 10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grims were blown off course and landed outside of Jamestown authority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utside of the legal authority of the Virginia Co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o makes the rules for the new colony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1500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15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371600" y="36504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47e00"/>
                </a:solidFill>
                <a:latin typeface="Times New Roman"/>
                <a:ea typeface="Arial Unicode MS"/>
              </a:rPr>
              <a:t>The Mayflower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Mayflower"/>
          <p:cNvPicPr/>
          <p:nvPr/>
        </p:nvPicPr>
        <p:blipFill>
          <a:blip r:embed="rId3"/>
          <a:stretch/>
        </p:blipFill>
        <p:spPr>
          <a:xfrm>
            <a:off x="5791320" y="1523880"/>
            <a:ext cx="2854080" cy="3962520"/>
          </a:xfrm>
          <a:prstGeom prst="rect">
            <a:avLst/>
          </a:prstGeom>
          <a:ln w="9360">
            <a:solidFill>
              <a:srgbClr val="482400"/>
            </a:solidFill>
            <a:miter/>
          </a:ln>
        </p:spPr>
      </p:pic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3"/>
          <p:cNvGrpSpPr/>
          <p:nvPr/>
        </p:nvGrpSpPr>
        <p:grpSpPr>
          <a:xfrm>
            <a:off x="914400" y="2209680"/>
            <a:ext cx="7875720" cy="4376880"/>
            <a:chOff x="914400" y="2209680"/>
            <a:chExt cx="7875720" cy="4376880"/>
          </a:xfrm>
        </p:grpSpPr>
        <p:pic>
          <p:nvPicPr>
            <p:cNvPr id="110" name="Picture 1" descr=""/>
            <p:cNvPicPr/>
            <p:nvPr/>
          </p:nvPicPr>
          <p:blipFill>
            <a:blip r:embed="rId1"/>
            <a:srcRect l="0" t="15648" r="0" b="15766"/>
            <a:stretch/>
          </p:blipFill>
          <p:spPr>
            <a:xfrm>
              <a:off x="1119600" y="2403720"/>
              <a:ext cx="7482960" cy="39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" descr=""/>
            <p:cNvPicPr/>
            <p:nvPr/>
          </p:nvPicPr>
          <p:blipFill>
            <a:blip r:embed="rId2"/>
            <a:stretch/>
          </p:blipFill>
          <p:spPr>
            <a:xfrm>
              <a:off x="914400" y="2209680"/>
              <a:ext cx="7875720" cy="437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MAYFLOWER COMPACT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761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N THE MAYFLOWER AGREED AND SIGNED BEFORE DEPARTING 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ctr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HEIR RULES FOR SELF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MAYFLOWER COMPAC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371600"/>
            <a:ext cx="3124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3a00"/>
                </a:solidFill>
                <a:latin typeface="Times New Roman"/>
              </a:rPr>
              <a:t>Arrived in Mass.  They called it Plymou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3a00"/>
                </a:solidFill>
                <a:latin typeface="Times New Roman"/>
              </a:rPr>
              <a:t>Wrote document before they got off 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3a00"/>
                </a:solidFill>
                <a:latin typeface="Times New Roman"/>
              </a:rPr>
              <a:t>Rules for colony saying they word work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st time colonists claimed right to govern themselv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pilgrim voyage.jpg"/>
          <p:cNvPicPr/>
          <p:nvPr/>
        </p:nvPicPr>
        <p:blipFill>
          <a:blip r:embed="rId2"/>
          <a:stretch/>
        </p:blipFill>
        <p:spPr>
          <a:xfrm>
            <a:off x="4419720" y="1371600"/>
            <a:ext cx="4267080" cy="480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371600" y="228600"/>
            <a:ext cx="723888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47e00"/>
                </a:solidFill>
                <a:latin typeface="Arial Narrow"/>
              </a:rPr>
              <a:t>That First Year….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981080" y="12952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3880" y="1143000"/>
            <a:ext cx="693432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ter of 1620-162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375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44 out of the original 102 survived.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chose to leave in 1621 when the Mayflower sailed back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 of 162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rst “Thanksgiving.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375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ony survived with fur, fish, and lumber.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ymouth stayed small and economically unimportan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375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691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nly 7,000 people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375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ged with Massachusetts Bay Colony.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Narrow"/>
              </a:rPr>
              <a:t>Native Americans</a:t>
            </a: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Arial Narrow"/>
              </a:rPr>
              <a:t>Helped Pilgrims survive</a:t>
            </a:r>
            <a:br>
              <a:rPr sz="4000"/>
            </a:b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6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uan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lped the most: gave seeds for corn, beans, pumpkins, &amp; taught them how to plant crops and fish for eel in r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nksgiving - 2nd autumn after arrival to celebrate good harv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810240" cy="4343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The Others From England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752480" y="37335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55b00"/>
                </a:solidFill>
                <a:latin typeface="Times New Roman"/>
              </a:rPr>
              <a:t>Purita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5b00"/>
                </a:solidFill>
                <a:latin typeface="Times New Roman"/>
              </a:rPr>
              <a:t>Who were they and why were they differ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6:54:35Z</dcterms:created>
  <dc:creator>WCPSS</dc:creator>
  <dc:description/>
  <dc:language>en-US</dc:language>
  <cp:lastModifiedBy>Amy Davis</cp:lastModifiedBy>
  <dcterms:modified xsi:type="dcterms:W3CDTF">2017-10-09T11:16:16Z</dcterms:modified>
  <cp:revision>66</cp:revision>
  <dc:subject/>
  <dc:title>Massachusetts Bay Colon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33</vt:lpwstr>
  </property>
</Properties>
</file>