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1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FD67D-2A17-467F-A5BF-AB35DA9F39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4B8B7-7626-4835-9FA1-31AB906CAA91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D64C5-4FCE-49EF-9097-ED003BF0B8DD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A894-3DC7-4430-87F8-7333CE778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A210-743B-4B20-A2FB-9B3F48DEF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83AC-EB7B-4A01-B2C9-BECA233FE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A6B8-A00E-40BC-9DCF-E34441B0A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7D43C-03CA-4836-A979-1A830A14B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3B812-4623-4250-BB9D-DED696EBB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ED80A-CA15-47EF-9A31-CBB7E2C99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B9859-36AE-4E78-904B-415017298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3CB40-2934-4FFF-8B64-0F37BEFB6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E1D2A-8DFE-4DC9-A676-4BA6CECB3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D3A49-B848-4C5B-8798-5696C276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FD48-E113-4523-8E73-71908BF3C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5BFA9-1651-45C6-AF2A-20D90D7C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FB371-5F94-4E7F-B119-3B3113B4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43D73-EAAC-4C67-865F-1A2228899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B7896-4884-47E4-92E1-D440F3164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26012-D6ED-45CC-92FC-D84276E34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C2B0-C48A-4EE4-AE12-273FCB9BF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BF63-2181-465C-98DE-891936E07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FB46-25A0-41E4-BEEC-61D43E329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53D6-2DD4-432F-BEB3-16A5B0950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918F-8564-4E24-8E39-250887B5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A0E8-FA59-4772-ADB2-81471960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BBFA-07B7-42D0-9401-9F823213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" name="Picture 2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3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2C441-ED20-4C25-BD49-4688472A74FA}" type="slidenum">
              <a:rPr b="0" lang="en-US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45" name="Picture 2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Rectangle 3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Group 12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Picture 2" descr="Expbanna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9" descr="EXPHORSA"/>
            <p:cNvPicPr/>
            <p:nvPr/>
          </p:nvPicPr>
          <p:blipFill>
            <a:blip r:embed="rId5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C2F99-2C99-47F9-B9CC-FEFA48680052}" type="slidenum">
              <a:rPr b="0" lang="en-US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Massachusetts Bay Colony</a:t>
            </a:r>
            <a:br>
              <a:rPr sz="4400"/>
            </a:b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Pilgrims and Puritans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e at L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e at L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Puritans from England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6" name="Picture 12" descr="j0149407"/>
          <p:cNvPicPr/>
          <p:nvPr/>
        </p:nvPicPr>
        <p:blipFill>
          <a:blip r:embed="rId1"/>
          <a:stretch/>
        </p:blipFill>
        <p:spPr>
          <a:xfrm>
            <a:off x="1066680" y="1523880"/>
            <a:ext cx="3353040" cy="44960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4952520" y="1599840"/>
            <a:ext cx="35053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nted to change and “purify” the Church of England not leave the church like the Pilgri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me to North America to worship as they plea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964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82400"/>
                </a:solidFill>
                <a:latin typeface="Times New Roman"/>
                <a:ea typeface="Arial Unicode MS"/>
              </a:rPr>
              <a:t>Why were the Puritans Successful?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581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ell equipped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repa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.  Sailed in M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had time to pl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o harvest in fa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3.  Great leade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Content Placeholder 7" descr="winthrop.jpg"/>
          <p:cNvPicPr/>
          <p:nvPr/>
        </p:nvPicPr>
        <p:blipFill>
          <a:blip r:embed="rId1"/>
          <a:stretch/>
        </p:blipFill>
        <p:spPr>
          <a:xfrm>
            <a:off x="4114800" y="1523880"/>
            <a:ext cx="4724280" cy="4724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Massachusetts Bay Colony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34308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30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it Gr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066680" y="2174760"/>
            <a:ext cx="34308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630 -great migration of Purita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reat Leadershi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any professionals, lawyers, land owners, mercha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495320" y="1371600"/>
            <a:ext cx="41943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overnor John Winthr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44720" y="2209320"/>
            <a:ext cx="404172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anted Colony to be example to the world as a model commun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ritan belie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These showed their obedience to G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The New England Way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grpSp>
        <p:nvGrpSpPr>
          <p:cNvPr id="137" name="Organization Chart 6"/>
          <p:cNvGrpSpPr/>
          <p:nvPr/>
        </p:nvGrpSpPr>
        <p:grpSpPr>
          <a:xfrm>
            <a:off x="1066680" y="1676520"/>
            <a:ext cx="7771680" cy="4113360"/>
            <a:chOff x="1066680" y="1676520"/>
            <a:chExt cx="7771680" cy="4113360"/>
          </a:xfrm>
        </p:grpSpPr>
        <p:cxnSp>
          <p:nvCxnSpPr>
            <p:cNvPr id="138" name="_s1028"/>
            <p:cNvCxnSpPr>
              <a:stCxn id="139" idx="0"/>
              <a:endCxn id="140" idx="2"/>
            </p:cNvCxnSpPr>
            <p:nvPr/>
          </p:nvCxnSpPr>
          <p:spPr>
            <a:xfrm flipV="1" rot="16200000">
              <a:off x="5900760" y="2372040"/>
              <a:ext cx="823320" cy="2720880"/>
            </a:xfrm>
            <a:prstGeom prst="bentConnector3">
              <a:avLst>
                <a:gd name="adj1" fmla="val 1386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1" name="_s1029"/>
            <p:cNvCxnSpPr>
              <a:stCxn id="142" idx="0"/>
              <a:endCxn id="140" idx="2"/>
            </p:cNvCxnSpPr>
            <p:nvPr/>
          </p:nvCxnSpPr>
          <p:spPr>
            <a:xfrm flipV="1">
              <a:off x="4952520" y="3321000"/>
              <a:ext cx="3600" cy="823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3" name="_s1030"/>
            <p:cNvCxnSpPr>
              <a:stCxn id="144" idx="0"/>
              <a:endCxn id="140" idx="2"/>
            </p:cNvCxnSpPr>
            <p:nvPr/>
          </p:nvCxnSpPr>
          <p:spPr>
            <a:xfrm flipH="1" flipV="1" rot="5400000">
              <a:off x="3180960" y="2372400"/>
              <a:ext cx="823320" cy="2720880"/>
            </a:xfrm>
            <a:prstGeom prst="bentConnector3">
              <a:avLst>
                <a:gd name="adj1" fmla="val 1386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0" name="_s1031"/>
            <p:cNvSpPr/>
            <p:nvPr/>
          </p:nvSpPr>
          <p:spPr>
            <a:xfrm>
              <a:off x="3786840" y="1676520"/>
              <a:ext cx="2331360" cy="1645200"/>
            </a:xfrm>
            <a:prstGeom prst="roundRect">
              <a:avLst>
                <a:gd name="adj" fmla="val 16667"/>
              </a:avLst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Congregation:</a:t>
              </a:r>
              <a:endParaRPr b="0" i="1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People who belong </a:t>
              </a:r>
              <a:endParaRPr b="0" i="1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o the same church</a:t>
              </a:r>
              <a:endParaRPr b="0" i="1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_s1032"/>
            <p:cNvSpPr/>
            <p:nvPr/>
          </p:nvSpPr>
          <p:spPr>
            <a:xfrm>
              <a:off x="1066680" y="4144680"/>
              <a:ext cx="2331360" cy="1645200"/>
            </a:xfrm>
            <a:prstGeom prst="roundRect">
              <a:avLst>
                <a:gd name="adj" fmla="val 16667"/>
              </a:avLst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Meeting House</a:t>
              </a:r>
              <a:endParaRPr b="0" i="1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Most important building</a:t>
              </a:r>
              <a:endParaRPr b="0" i="1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own meetings-laws and </a:t>
              </a:r>
              <a:endParaRPr b="0" i="1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community decisions made</a:t>
              </a:r>
              <a:endParaRPr b="0" i="1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_s1033"/>
            <p:cNvSpPr/>
            <p:nvPr/>
          </p:nvSpPr>
          <p:spPr>
            <a:xfrm>
              <a:off x="3786840" y="4144680"/>
              <a:ext cx="2331360" cy="1645200"/>
            </a:xfrm>
            <a:prstGeom prst="roundRect">
              <a:avLst>
                <a:gd name="adj" fmla="val 16667"/>
              </a:avLst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Massachusetts Colony</a:t>
              </a:r>
              <a:endParaRPr b="0" i="1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Only males vote </a:t>
              </a:r>
              <a:endParaRPr b="0" i="1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And hold office</a:t>
              </a:r>
              <a:endParaRPr b="0" i="1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_s1034"/>
            <p:cNvSpPr/>
            <p:nvPr/>
          </p:nvSpPr>
          <p:spPr>
            <a:xfrm>
              <a:off x="6507000" y="4144680"/>
              <a:ext cx="2331360" cy="1645200"/>
            </a:xfrm>
            <a:prstGeom prst="roundRect">
              <a:avLst>
                <a:gd name="adj" fmla="val 16667"/>
              </a:avLst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General court </a:t>
              </a:r>
              <a:endParaRPr b="0" i="1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name for</a:t>
              </a:r>
              <a:endParaRPr b="0" i="1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lawmaking body</a:t>
              </a:r>
              <a:endParaRPr b="0" i="1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5" name="Picture 5" descr="puritan village.jpg"/>
          <p:cNvPicPr/>
          <p:nvPr/>
        </p:nvPicPr>
        <p:blipFill>
          <a:blip r:embed="rId1"/>
          <a:stretch/>
        </p:blipFill>
        <p:spPr>
          <a:xfrm>
            <a:off x="1066680" y="1295280"/>
            <a:ext cx="2590920" cy="20671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puritians.jpg"/>
          <p:cNvPicPr/>
          <p:nvPr/>
        </p:nvPicPr>
        <p:blipFill>
          <a:blip r:embed="rId2"/>
          <a:stretch/>
        </p:blipFill>
        <p:spPr>
          <a:xfrm>
            <a:off x="6248520" y="1219320"/>
            <a:ext cx="2590560" cy="2286000"/>
          </a:xfrm>
          <a:prstGeom prst="rect">
            <a:avLst/>
          </a:prstGeom>
          <a:ln w="0">
            <a:noFill/>
          </a:ln>
        </p:spPr>
      </p:pic>
      <p:sp>
        <p:nvSpPr>
          <p:cNvPr id="147" name="TextBox 5"/>
          <p:cNvSpPr/>
          <p:nvPr/>
        </p:nvSpPr>
        <p:spPr>
          <a:xfrm>
            <a:off x="1143000" y="5943600"/>
            <a:ext cx="7772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Non Puritans did not have same rights as Puritans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New England Way continued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81024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iety Stre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dl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nes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10516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ucation very important- so every one could read the Bible!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usements would lead to being laz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1219320" y="318960"/>
            <a:ext cx="746748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47e00"/>
                </a:solidFill>
                <a:latin typeface="QuillPerpendicularRegular"/>
              </a:rPr>
              <a:t>Characteristics of New England Settlement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2057400" y="1295280"/>
            <a:ext cx="670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371600" y="1600200"/>
            <a:ext cx="723888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mortalit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verage life expectancy was 70 years of age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erage 6 children per family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erage age at marriage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440" indent="-293400">
              <a:lnSpc>
                <a:spcPct val="100000"/>
              </a:lnSpc>
              <a:spcBef>
                <a:spcPts val="1437"/>
              </a:spcBef>
              <a:buClr>
                <a:srgbClr val="fc7e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men – 22 years old</a:t>
            </a:r>
            <a:endParaRPr b="0" i="1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440" indent="-293400">
              <a:lnSpc>
                <a:spcPct val="100000"/>
              </a:lnSpc>
              <a:spcBef>
                <a:spcPts val="1437"/>
              </a:spcBef>
              <a:buClr>
                <a:srgbClr val="fc7e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 – 27 years old.</a:t>
            </a:r>
            <a:endParaRPr b="0" i="1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440" indent="-293400">
              <a:lnSpc>
                <a:spcPct val="100000"/>
              </a:lnSpc>
              <a:spcBef>
                <a:spcPts val="1437"/>
              </a:spcBef>
              <a:buClr>
                <a:srgbClr val="fc7e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Hugh Growth in Colony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288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30-1643 more than 20,000 people settle in  Massachuset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9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ssachusetts and Plymouth combine into one called Massachuset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Content Placeholder 5" descr="puritan village1.jpg"/>
          <p:cNvPicPr/>
          <p:nvPr/>
        </p:nvPicPr>
        <p:blipFill>
          <a:blip r:embed="rId4"/>
          <a:stretch/>
        </p:blipFill>
        <p:spPr>
          <a:xfrm>
            <a:off x="1143000" y="1676520"/>
            <a:ext cx="3733920" cy="3809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876560" y="380880"/>
            <a:ext cx="373356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ssachusetts Bay 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886200" y="990720"/>
          <a:ext cx="1828800" cy="5029200"/>
        </p:xfrm>
        <a:graphic>
          <a:graphicData uri="http://schemas.openxmlformats.org/drawingml/2006/table">
            <a:tbl>
              <a:tblPr/>
              <a:tblGrid>
                <a:gridCol w="1828800"/>
              </a:tblGrid>
              <a:tr h="249120"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tegories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empus Sans ITC"/>
                          <a:ea typeface="Times New Roman"/>
                        </a:rPr>
                        <a:t>Reason for founding the colony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6760"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empus Sans ITC"/>
                          <a:ea typeface="Times New Roman"/>
                        </a:rPr>
                        <a:t>Challenges Colonist’s Faced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7120"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empus Sans ITC"/>
                          <a:ea typeface="Times New Roman"/>
                        </a:rPr>
                        <a:t>People who founded colony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empus Sans ITC"/>
                          <a:ea typeface="Times New Roman"/>
                        </a:rPr>
                        <a:t>What made the colony successful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empus Sans ITC"/>
                          <a:ea typeface="Times New Roman"/>
                        </a:rPr>
                        <a:t>Government of the colony 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1319040" y="988920"/>
          <a:ext cx="2578320" cy="4781520"/>
        </p:xfrm>
        <a:graphic>
          <a:graphicData uri="http://schemas.openxmlformats.org/drawingml/2006/table">
            <a:tbl>
              <a:tblPr/>
              <a:tblGrid>
                <a:gridCol w="2578320"/>
              </a:tblGrid>
              <a:tr h="478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5791320" y="990720"/>
          <a:ext cx="2828880" cy="5029200"/>
        </p:xfrm>
        <a:graphic>
          <a:graphicData uri="http://schemas.openxmlformats.org/drawingml/2006/table">
            <a:tbl>
              <a:tblPr/>
              <a:tblGrid>
                <a:gridCol w="2828880"/>
              </a:tblGrid>
              <a:tr h="5031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1295280" y="1004760"/>
          <a:ext cx="2590920" cy="5029200"/>
        </p:xfrm>
        <a:graphic>
          <a:graphicData uri="http://schemas.openxmlformats.org/drawingml/2006/table">
            <a:tbl>
              <a:tblPr/>
              <a:tblGrid>
                <a:gridCol w="2590920"/>
              </a:tblGrid>
              <a:tr h="50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Text Box 3"/>
          <p:cNvSpPr/>
          <p:nvPr/>
        </p:nvSpPr>
        <p:spPr>
          <a:xfrm>
            <a:off x="1143000" y="380880"/>
            <a:ext cx="37339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ymouth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What was happening in North Carolina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ople moving south and Carolina becomes its own colo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Vocabulary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rd Proprie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lpepp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t-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yal Colo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Vocabulary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6668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lgri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fl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flower Comp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rit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ua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rif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England 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arolina Grows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06668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land around Jamestown, VA becomes scarce.  Newcomers begin to settle west and south around the Albormoral s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ng Creates a new colony and rewards 8 Lords by putting them in charge of the colony.  (Lord proprietors)   166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dents of Carolina owned the land but had to pay a tax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quit-rent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nual tax to L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tlers in NC less wealthy than Virgin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tlers around Albarmoral sound were one district and Settlers around Pamlico sound were in another district. First Town, B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arolina Grows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9907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ch conflict between groups in North Carolina, created Culpepers rebellion against the Lord Proprietors and governing North Carolina was diffic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scora rebelled against settlers and were defe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ople began to move w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people lived east of the fall line.  But many came, and settled in the piedmont.   Germans, Scotch Irish, Quakers, Moravia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rming was very difficult for them and they were mostly poor compared to the colonists in the eastern part of the stat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 and Turpentine used to seal  - Naval s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ne trees were plentiful and used for mas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Review Settlement of North Carolina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down 5 characteristics of the settlement in North Caroli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5280" y="339480"/>
            <a:ext cx="72504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PILGRIMS</a:t>
            </a: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34290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Known as </a:t>
            </a:r>
            <a:r>
              <a:rPr b="0" lang="en-US" sz="2300" spc="-1" strike="noStrike">
                <a:solidFill>
                  <a:srgbClr val="ff0000"/>
                </a:solidFill>
                <a:latin typeface="Times New Roman"/>
              </a:rPr>
              <a:t>Separatists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in England - wanted out (to separate) from the Church of Englan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Were fined, jailed and at times killed b/c of religio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Pilgrims: didn’t want gold but religious freedo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eptember 1620 -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 Mayflower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sailed, got off course by Nov. landed in Massachusetts not Virgini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3" descr="Pilgrim map.jpg"/>
          <p:cNvPicPr/>
          <p:nvPr/>
        </p:nvPicPr>
        <p:blipFill>
          <a:blip r:embed="rId1"/>
          <a:stretch/>
        </p:blipFill>
        <p:spPr>
          <a:xfrm>
            <a:off x="4343400" y="1295280"/>
            <a:ext cx="4572000" cy="5029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05" name="SMARTInkShape-1"/>
          <p:cNvSpPr/>
          <p:nvPr/>
        </p:nvSpPr>
        <p:spPr>
          <a:xfrm>
            <a:off x="4900680" y="3962520"/>
            <a:ext cx="65160" cy="90360"/>
          </a:xfrm>
          <a:custGeom>
            <a:avLst/>
            <a:gdLst>
              <a:gd name="textAreaLeft" fmla="*/ 0 w 65160"/>
              <a:gd name="textAreaRight" fmla="*/ 65520 w 6516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64105" h="90613">
                <a:moveTo>
                  <a:pt x="56723" y="67061"/>
                </a:moveTo>
                <a:lnTo>
                  <a:pt x="57675" y="58311"/>
                </a:lnTo>
                <a:lnTo>
                  <a:pt x="64104" y="36698"/>
                </a:lnTo>
                <a:lnTo>
                  <a:pt x="54606" y="34516"/>
                </a:lnTo>
                <a:lnTo>
                  <a:pt x="46739" y="33934"/>
                </a:lnTo>
                <a:lnTo>
                  <a:pt x="32919" y="38368"/>
                </a:lnTo>
                <a:lnTo>
                  <a:pt x="8524" y="56736"/>
                </a:lnTo>
                <a:lnTo>
                  <a:pt x="1964" y="67552"/>
                </a:lnTo>
                <a:lnTo>
                  <a:pt x="214" y="73103"/>
                </a:lnTo>
                <a:lnTo>
                  <a:pt x="0" y="77756"/>
                </a:lnTo>
                <a:lnTo>
                  <a:pt x="2303" y="85467"/>
                </a:lnTo>
                <a:lnTo>
                  <a:pt x="4251" y="87904"/>
                </a:lnTo>
                <a:lnTo>
                  <a:pt x="8955" y="90612"/>
                </a:lnTo>
                <a:lnTo>
                  <a:pt x="30610" y="87585"/>
                </a:lnTo>
                <a:lnTo>
                  <a:pt x="53992" y="77121"/>
                </a:lnTo>
                <a:lnTo>
                  <a:pt x="60465" y="62422"/>
                </a:lnTo>
                <a:lnTo>
                  <a:pt x="60608" y="47854"/>
                </a:lnTo>
                <a:lnTo>
                  <a:pt x="59313" y="39968"/>
                </a:lnTo>
                <a:lnTo>
                  <a:pt x="55592" y="33759"/>
                </a:lnTo>
                <a:lnTo>
                  <a:pt x="43838" y="24320"/>
                </a:lnTo>
                <a:lnTo>
                  <a:pt x="26549" y="22030"/>
                </a:lnTo>
                <a:lnTo>
                  <a:pt x="16604" y="22752"/>
                </a:lnTo>
                <a:lnTo>
                  <a:pt x="10927" y="26092"/>
                </a:lnTo>
                <a:lnTo>
                  <a:pt x="8095" y="31176"/>
                </a:lnTo>
                <a:lnTo>
                  <a:pt x="7159" y="37422"/>
                </a:lnTo>
                <a:lnTo>
                  <a:pt x="9393" y="40634"/>
                </a:lnTo>
                <a:lnTo>
                  <a:pt x="13740" y="41823"/>
                </a:lnTo>
                <a:lnTo>
                  <a:pt x="25237" y="40604"/>
                </a:lnTo>
                <a:lnTo>
                  <a:pt x="36697" y="36887"/>
                </a:lnTo>
                <a:lnTo>
                  <a:pt x="39562" y="31705"/>
                </a:lnTo>
                <a:lnTo>
                  <a:pt x="40206" y="15786"/>
                </a:lnTo>
                <a:lnTo>
                  <a:pt x="38092" y="10018"/>
                </a:lnTo>
                <a:lnTo>
                  <a:pt x="34777" y="6172"/>
                </a:lnTo>
                <a:lnTo>
                  <a:pt x="24871" y="0"/>
                </a:lnTo>
                <a:lnTo>
                  <a:pt x="20977" y="6776"/>
                </a:lnTo>
                <a:lnTo>
                  <a:pt x="5288" y="32770"/>
                </a:lnTo>
              </a:path>
            </a:pathLst>
          </a:custGeom>
          <a:solidFill>
            <a:srgbClr val="dfd6c3"/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1"/>
          <p:cNvSpPr/>
          <p:nvPr/>
        </p:nvSpPr>
        <p:spPr>
          <a:xfrm>
            <a:off x="990720" y="1523880"/>
            <a:ext cx="480060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1000" indent="-3510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20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group of 102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ople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lgrims were blown off course and landed outside of Jamestown authority.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utside of the legal authority of the Virginia Co,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ho makes the rules for the new colony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1500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15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1371600" y="365040"/>
            <a:ext cx="73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47e00"/>
                </a:solidFill>
                <a:latin typeface="Times New Roman"/>
                <a:ea typeface="Arial Unicode MS"/>
              </a:rPr>
              <a:t>The Mayflower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0" descr="Mayflower"/>
          <p:cNvPicPr/>
          <p:nvPr/>
        </p:nvPicPr>
        <p:blipFill>
          <a:blip r:embed="rId3"/>
          <a:stretch/>
        </p:blipFill>
        <p:spPr>
          <a:xfrm>
            <a:off x="5791320" y="1523880"/>
            <a:ext cx="2854080" cy="3962520"/>
          </a:xfrm>
          <a:prstGeom prst="rect">
            <a:avLst/>
          </a:prstGeom>
          <a:ln w="9360">
            <a:solidFill>
              <a:srgbClr val="482400"/>
            </a:solidFill>
            <a:miter/>
          </a:ln>
        </p:spPr>
      </p:pic>
    </p:spTree>
  </p:cSld>
  <p:transition>
    <p:random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3"/>
          <p:cNvGrpSpPr/>
          <p:nvPr/>
        </p:nvGrpSpPr>
        <p:grpSpPr>
          <a:xfrm>
            <a:off x="914400" y="2209680"/>
            <a:ext cx="7875720" cy="4376880"/>
            <a:chOff x="914400" y="2209680"/>
            <a:chExt cx="7875720" cy="4376880"/>
          </a:xfrm>
        </p:grpSpPr>
        <p:pic>
          <p:nvPicPr>
            <p:cNvPr id="110" name="Picture 1" descr=""/>
            <p:cNvPicPr/>
            <p:nvPr/>
          </p:nvPicPr>
          <p:blipFill>
            <a:blip r:embed="rId1"/>
            <a:srcRect l="0" t="15648" r="0" b="15766"/>
            <a:stretch/>
          </p:blipFill>
          <p:spPr>
            <a:xfrm>
              <a:off x="1119600" y="2403720"/>
              <a:ext cx="7482960" cy="393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2" descr=""/>
            <p:cNvPicPr/>
            <p:nvPr/>
          </p:nvPicPr>
          <p:blipFill>
            <a:blip r:embed="rId2"/>
            <a:stretch/>
          </p:blipFill>
          <p:spPr>
            <a:xfrm>
              <a:off x="914400" y="2209680"/>
              <a:ext cx="7875720" cy="437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39116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82400"/>
                </a:solidFill>
                <a:latin typeface="Times New Roman"/>
              </a:rPr>
              <a:t>MAYFLOWER COMPACT</a:t>
            </a:r>
            <a:endParaRPr b="0" i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360" y="761760"/>
            <a:ext cx="78483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 algn="ctr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ON THE MAYFLOWER AGREED AND SIGNED BEFORE DEPARTING SH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 algn="ctr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THEIR RULES FOR SELF GOVER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Times New Roman"/>
              </a:rPr>
              <a:t>MAYFLOWER COMPAC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90720" y="1371600"/>
            <a:ext cx="3124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43a00"/>
                </a:solidFill>
                <a:latin typeface="Times New Roman"/>
              </a:rPr>
              <a:t>Arrived in Mass.  They called it Plymout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43a00"/>
                </a:solidFill>
                <a:latin typeface="Times New Roman"/>
              </a:rPr>
              <a:t>Wrote document before they got off bo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43a00"/>
                </a:solidFill>
                <a:latin typeface="Times New Roman"/>
              </a:rPr>
              <a:t>Rules for colony saying they word work toge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st time colonists claimed right to govern themselves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3" descr="pilgrim voyage.jpg"/>
          <p:cNvPicPr/>
          <p:nvPr/>
        </p:nvPicPr>
        <p:blipFill>
          <a:blip r:embed="rId2"/>
          <a:stretch/>
        </p:blipFill>
        <p:spPr>
          <a:xfrm>
            <a:off x="4419720" y="1371600"/>
            <a:ext cx="4267080" cy="4800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1371600" y="228600"/>
            <a:ext cx="7238880" cy="67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47e00"/>
                </a:solidFill>
                <a:latin typeface="Arial Narrow"/>
              </a:rPr>
              <a:t>That First Year….</a:t>
            </a:r>
            <a:endParaRPr b="0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1981080" y="1295280"/>
            <a:ext cx="670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1523880" y="1143000"/>
            <a:ext cx="6934320" cy="45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ter of 1620-1621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440" indent="-293400">
              <a:lnSpc>
                <a:spcPct val="100000"/>
              </a:lnSpc>
              <a:spcBef>
                <a:spcPts val="1375"/>
              </a:spcBef>
              <a:buClr>
                <a:srgbClr val="fc7e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44 out of the original 102 survived.</a:t>
            </a:r>
            <a:endParaRPr b="0" i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e chose to leave in 1621 when the Mayflower sailed back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ll of 1621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rst “Thanksgiving.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440" indent="-293400">
              <a:lnSpc>
                <a:spcPct val="100000"/>
              </a:lnSpc>
              <a:spcBef>
                <a:spcPts val="1375"/>
              </a:spcBef>
              <a:buClr>
                <a:srgbClr val="fc7e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lony survived with fur, fish, and lumber.</a:t>
            </a:r>
            <a:endParaRPr b="0" i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ymouth stayed small and economically unimportant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440" indent="-293400">
              <a:lnSpc>
                <a:spcPct val="100000"/>
              </a:lnSpc>
              <a:spcBef>
                <a:spcPts val="1375"/>
              </a:spcBef>
              <a:buClr>
                <a:srgbClr val="fc7e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691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nly 7,000 people</a:t>
            </a:r>
            <a:endParaRPr b="0" i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440" indent="-293400">
              <a:lnSpc>
                <a:spcPct val="100000"/>
              </a:lnSpc>
              <a:spcBef>
                <a:spcPts val="1375"/>
              </a:spcBef>
              <a:buClr>
                <a:srgbClr val="fc7e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rged with Massachusetts Bay Colony.</a:t>
            </a:r>
            <a:endParaRPr b="0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Arial Narrow"/>
              </a:rPr>
              <a:t>Native Americans</a:t>
            </a:r>
            <a:br>
              <a:rPr sz="4000"/>
            </a:br>
            <a:r>
              <a:rPr b="0" lang="en-US" sz="4000" spc="-1" strike="noStrike">
                <a:solidFill>
                  <a:srgbClr val="482400"/>
                </a:solidFill>
                <a:latin typeface="Arial Narrow"/>
              </a:rPr>
              <a:t>Helped Pilgrims survive</a:t>
            </a:r>
            <a:br>
              <a:rPr sz="4000"/>
            </a:b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66680" y="1523520"/>
            <a:ext cx="3810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quan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helped the most: gave seeds for corn, beans, pumpkins, &amp; taught them how to plant crops and fish for eel in ri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nksgiving - 2nd autumn after arrival to celebrate good harv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1" descr=""/>
          <p:cNvPicPr/>
          <p:nvPr/>
        </p:nvPicPr>
        <p:blipFill>
          <a:blip r:embed="rId2"/>
          <a:stretch/>
        </p:blipFill>
        <p:spPr>
          <a:xfrm>
            <a:off x="4952880" y="1600200"/>
            <a:ext cx="3810240" cy="4343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The Others From England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752480" y="3733560"/>
            <a:ext cx="64008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55b00"/>
                </a:solidFill>
                <a:latin typeface="Times New Roman"/>
              </a:rPr>
              <a:t>Purita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55b00"/>
                </a:solidFill>
                <a:latin typeface="Times New Roman"/>
              </a:rPr>
              <a:t>Who were they and why were they differ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7T16:54:35Z</dcterms:created>
  <dc:creator>WCPSS</dc:creator>
  <dc:description/>
  <dc:language>en-US</dc:language>
  <cp:lastModifiedBy>Amy Davis</cp:lastModifiedBy>
  <dcterms:modified xsi:type="dcterms:W3CDTF">2017-10-09T11:16:16Z</dcterms:modified>
  <cp:revision>66</cp:revision>
  <dc:subject/>
  <dc:title>Massachusetts Bay Colon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171033</vt:lpwstr>
  </property>
</Properties>
</file>