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070F-3123-4C68-8642-C492220B0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610F-A2E4-434C-8E39-1F6386DCA3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A4B7-A4DA-4CDC-9B95-C191296FDE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61FA-8172-4EBA-A8D4-36E9A1C994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B544-C0CD-4BDE-B5A9-201FBBBFDD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07DC-1223-46C4-9973-9CB5CB55DB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EA24-9AD0-46BF-B011-97CA11E582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3137-144A-4AE9-AF45-E90A78DA97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CBB-4DD4-4D36-ABE0-8FF060E1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A0B-E17D-43F4-B04F-30743BEC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0FC-9C2E-4887-8DCF-9777CCA1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46C-4249-4CBE-B6F4-821E87A3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7A60-D806-482B-8FA3-E724CB46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DBE0-3F6E-40FC-A886-51BA2283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7AFB-23D0-4811-BBF1-BC1F1162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9B05-4F2F-4656-9102-28496981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9C1B-D9B0-4840-961C-3B732A39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C744-2FA8-41D0-9B42-375B2CDE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D856-905B-47F6-B280-635B509F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CBB-433B-471D-BA15-E2F4E9E3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588E-6BBE-4819-AD75-26368CDC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8CB2-AC9C-4A5D-B13D-90A75C7C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FE54-4F9C-47A6-B644-52678DEC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B9EE-5C0A-43B4-BFBC-7ABA6754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124F-634A-4A3C-85AC-1B5AC277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552-16CC-4EB7-B5FF-932584E1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E27-D4D7-4E83-8EB6-F3CB3465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DF2-9CE2-4EB5-8123-39306142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E0D-BA1E-468C-A6D5-4E0D2569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9F6-001D-4D40-A14B-CE9B4EF9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BC8-DD3C-4D8D-BFF8-DCFBAE95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BC2-A417-4760-9425-E74B58CE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5AAE-8A30-4055-A9BD-8C9F9D785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18F7-2CE7-400A-B3D4-C368FD32C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 into Your Prio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eorge_washington_raise_sword_hg_clr.gif"/>
          <p:cNvPicPr/>
          <p:nvPr/>
        </p:nvPicPr>
        <p:blipFill>
          <a:blip r:embed="rId2"/>
          <a:stretch/>
        </p:blipFill>
        <p:spPr>
          <a:xfrm>
            <a:off x="7010280" y="3124080"/>
            <a:ext cx="2505240" cy="33339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28600" y="1600200"/>
            <a:ext cx="8610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the following questions with a part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could create laws, vote, and be government officials during colonial ti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ere the differences between the southern states &amp; northern states in regards to economy &amp;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the war was over, list at least 5 actions the Americans would now have to do in regards to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erican Revolution 1775-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1523520"/>
            <a:ext cx="5638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icles of Confeder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580920" y="41148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7-178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914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s needed to establish their own government once they declared their independence from Brit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s wanted the country to be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publ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republic is a government with elected representat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rganized their governments and adopted their own state constitu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0880" y="456840"/>
            <a:ext cx="8763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ticles of Confeder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plan for government) were adopted in 1777. It was America’s first constitu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Americans favored a WEAK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TRONG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state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ate kept, “its sovereignty, freedom, and independence”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fication was delayed until 1781 because of western settlement disputes amongst the stat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 the Artic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MIT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/federal govern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ranch legislature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xecutive (chief executive) nor national/federal co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tates would have equ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ne single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e (9) states had to agree before a bill becam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 states had to ratify the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14400" y="14479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lan of gover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d treaties especially the Treaty of Paris of 1783; successfully ended the American Rev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pe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land poli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the national postal off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relations with Native Americ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533520" y="380880"/>
            <a:ext cx="8229600" cy="1024200"/>
            <a:chOff x="533520" y="380880"/>
            <a:chExt cx="8229600" cy="1024200"/>
          </a:xfrm>
        </p:grpSpPr>
        <p:sp>
          <p:nvSpPr>
            <p:cNvPr id="100" name="Rounded Rectangle 4"/>
            <p:cNvSpPr/>
            <p:nvPr/>
          </p:nvSpPr>
          <p:spPr>
            <a:xfrm>
              <a:off x="533520" y="3808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le 4"/>
            <p:cNvSpPr/>
            <p:nvPr/>
          </p:nvSpPr>
          <p:spPr>
            <a:xfrm>
              <a:off x="582480" y="4298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2361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ccesse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8600" y="1752120"/>
            <a:ext cx="8610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EAK government had almost no power. It coul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e trade amongst the stat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d the Articles unless all 13 states gave its cons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 citizens to join the army nor pay for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a law unless nine states voted for it;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533520" y="609480"/>
            <a:ext cx="8229600" cy="1024200"/>
            <a:chOff x="533520" y="609480"/>
            <a:chExt cx="8229600" cy="1024200"/>
          </a:xfrm>
        </p:grpSpPr>
        <p:sp>
          <p:nvSpPr>
            <p:cNvPr id="104" name="Rounded Rectangle 4"/>
            <p:cNvSpPr/>
            <p:nvPr/>
          </p:nvSpPr>
          <p:spPr>
            <a:xfrm>
              <a:off x="533520" y="6094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ounded Rectangle 4"/>
            <p:cNvSpPr/>
            <p:nvPr/>
          </p:nvSpPr>
          <p:spPr>
            <a:xfrm>
              <a:off x="582480" y="6584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ness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 taxes. They had to ask the states for money to pay for the army and war debts;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ate had one vote in Congress. State population did not matter, although larger, more populated states believed that they should have more v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533520" y="609480"/>
            <a:ext cx="8229600" cy="1024200"/>
            <a:chOff x="533520" y="609480"/>
            <a:chExt cx="8229600" cy="1024200"/>
          </a:xfrm>
        </p:grpSpPr>
        <p:sp>
          <p:nvSpPr>
            <p:cNvPr id="108" name="Rounded Rectangle 4"/>
            <p:cNvSpPr/>
            <p:nvPr/>
          </p:nvSpPr>
          <p:spPr>
            <a:xfrm>
              <a:off x="533520" y="6094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ounded Rectangle 4"/>
            <p:cNvSpPr/>
            <p:nvPr/>
          </p:nvSpPr>
          <p:spPr>
            <a:xfrm>
              <a:off x="582480" y="6584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nesses Cont’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write or Not to Rewri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george_washington_raise_sword_hg_clr.gif"/>
          <p:cNvPicPr/>
          <p:nvPr/>
        </p:nvPicPr>
        <p:blipFill>
          <a:blip r:embed="rId2"/>
          <a:stretch/>
        </p:blipFill>
        <p:spPr>
          <a:xfrm>
            <a:off x="7010280" y="3124080"/>
            <a:ext cx="2505240" cy="33339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533520" y="160020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currency were confusing amongst the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ral/federal government had to ask the states for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ral government couldn’t collect taxes and therefore, couldn’t maintain nor help the citiz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s had most of the power and therefore, had their own policies and unlimited resources to make any decisions they wanted without con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09:57Z</dcterms:created>
  <dc:creator>eclipse</dc:creator>
  <dc:description/>
  <dc:language>en-US</dc:language>
  <cp:lastModifiedBy>Amy Davis</cp:lastModifiedBy>
  <dcterms:modified xsi:type="dcterms:W3CDTF">2017-11-09T20:32:26Z</dcterms:modified>
  <cp:revision>46</cp:revision>
  <dc:subject/>
  <dc:title>George Parchment</dc:title>
</cp:coreProperties>
</file>