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2451-651B-412A-A8EF-3711E8EC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453E-E36E-41E5-A25B-FDB8942E90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A8F-4F37-4B19-A087-BAC34C02B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95B6-45AD-40B4-83B4-AB70664AEB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2B59-BE54-4B4A-BA9F-72F7CCE1AB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FD83-3E26-4654-92E6-7D0C9520F9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28A1-CEFE-46F3-9DA8-E7E85A325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2DC2-3349-4CF1-B96A-8DBFFCF0E5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834-A022-4F07-95B2-C9B87C06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D2B-EE62-425E-AB53-8358438C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51F-5C6E-490E-8F76-22CE3BA2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449-7612-4DE6-931F-1A014EA5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A4FD-6C8E-440B-9CEF-2FFF960D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B92B-7CE3-4ACF-8054-29D6A48F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25CF-CBBC-4721-81E3-09047733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2D8-98DD-41CD-A16F-91ECE68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084A-5E53-4485-9695-92B9EE29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BB33-F125-491D-ADFC-5F5E2875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7A83-09ED-4483-96C4-7744B245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D8C-E253-4D96-8894-F050711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32A1-3B63-4313-9EBD-7DFAF6D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5EB3-0CFC-402A-8F3C-D4703145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1C4C-2F36-48C9-8828-92469DC1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457D-B5B2-479D-A221-5AF44E4E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902D-3889-4D67-A02A-153439BC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E3C-10E7-4ADF-ACCF-2A60CBBE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676-85F1-4677-B2AB-74F33BEE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DEF-D4EF-4248-AFC1-629F297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230-DE40-4D59-AEC1-2A4F8278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7ED-FEE0-4AAE-8705-8E67E02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B5D-20CE-46B7-A903-34F4A84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EF7-E21C-4693-81D3-7D4D91A6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FA84-C46D-4DF8-97B4-7950536DA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E60F-906C-428B-B7D0-82E4AFB46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 into Your Pri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28600" y="160020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following questions with a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ould create laws, vote, and be government officials during colonial ti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the differences between the southern states &amp; northern states in regards to economy &amp;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war was over, list at least 5 actions the Americans would now have to do in regards to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rican Revolution 1775-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5638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cles of Confede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580920" y="41148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7-17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needed to establish their own government once they declared their independence from Bri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wanted the country to be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ubl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republic is a government with elected represent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rganized their governments and adopted their own state constitu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456840"/>
            <a:ext cx="8763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cles of Confeder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lan for government) were adopted in 1777. It was America’s first constitu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mericans favored a WEAK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RO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stat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kept, “its sovereignty, freedom, and independence”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fication was delayed until 1781 because of western settlement disputes amongst the stat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Artic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MI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/federal gover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ranch legislatu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ecutive (chief executive) nor national/federal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 would have equ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ne single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 (9) states had to agree before a bill becam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 states had to ratify the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440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 of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d treaties especially the Treaty of Paris of 1783; successfully ended the American R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land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national postal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relations with Native Americ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533520" y="380880"/>
            <a:ext cx="8229600" cy="1024200"/>
            <a:chOff x="533520" y="380880"/>
            <a:chExt cx="8229600" cy="1024200"/>
          </a:xfrm>
        </p:grpSpPr>
        <p:sp>
          <p:nvSpPr>
            <p:cNvPr id="100" name="Rounded Rectangle 4"/>
            <p:cNvSpPr/>
            <p:nvPr/>
          </p:nvSpPr>
          <p:spPr>
            <a:xfrm>
              <a:off x="533520" y="3808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4"/>
            <p:cNvSpPr/>
            <p:nvPr/>
          </p:nvSpPr>
          <p:spPr>
            <a:xfrm>
              <a:off x="582480" y="4298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ccess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AK government had almost no power. It c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 trade amongst the sta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 the Articles unless all 13 states gave its cons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citizens to join the army nor pay for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a law unless nine states voted for it;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4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taxes. They had to ask the states for money to pay for the army and war debts;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had one vote in Congress. State population did not matter, although larger, more populated states believed that they should have more v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8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 Cont’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write or Not to Rew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33520" y="16002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rrency were confusing amongst th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/federal government had to ask the states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 government couldn’t collect taxes and therefore, couldn’t maintain nor help the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d most of the power and therefore, had their own policies and unlimited resources to make any decisions they wanted without con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09:57Z</dcterms:created>
  <dc:creator>eclipse</dc:creator>
  <dc:description/>
  <dc:language>en-US</dc:language>
  <cp:lastModifiedBy>Amy Davis</cp:lastModifiedBy>
  <dcterms:modified xsi:type="dcterms:W3CDTF">2017-11-09T20:32:26Z</dcterms:modified>
  <cp:revision>46</cp:revision>
  <dc:subject/>
  <dc:title>George Parchment</dc:title>
</cp:coreProperties>
</file>