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15E41-7A8B-4C91-BF9D-3958F590E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76D70-35EA-47B3-AB29-8BEAFE1CE6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58995-DE87-4821-895E-EB6FCD91B95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C7DE0-E7D9-482F-8DA7-AC18489F327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0E982-CC89-426F-BDC4-0F8914AE4CB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7AFD0-CDF5-467B-BAD7-49FAB298534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80C7D-C8A0-4272-8064-F82143CDBF8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6E4C8-4DE9-4CC6-8DE3-932CA709E8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92D7-755E-4D49-B2E9-6B2463A08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5EE9-F811-46AD-B043-A8F74A849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9A8F-47AF-474C-9EDD-1475F84F2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6FFB-78B7-4466-B37E-0F9942C30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E1B6C-55D8-4DA8-94E2-D75A26231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3C895-5E88-48D6-84C5-0234A9028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31134-DC3E-4A3C-B5B2-F43256054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61E03-85FA-4001-838A-9984DF97C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BFE46-6747-4369-A2E8-CC661A343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43F84-6EE1-4520-AEC1-502882BC9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5E007-1035-4FF7-81E9-5B60FECE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29E9-05F4-43A4-A3AB-9005BF49B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E1B72-F402-4607-97AE-03BEF266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61539-DEA3-4BE0-874F-6F69B908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3BE79-5300-4A30-A9DF-47CC1DFE7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B7627-C4EA-4606-8ED6-CE4DD54EE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71492-1F72-43BF-AB74-0D74A5581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F398-C4BE-4DC4-9E92-FC20FBF48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82E8-CDFA-4DD5-8F54-93C4CAF08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D165-EE29-442D-86F5-C02D5784F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B52E-F801-463E-B4E9-219581F41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C46C-8A5B-492A-BE30-82DDC4B2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0E83-4114-41A9-9FB7-708B54DD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A4F6-1BDF-431B-A9DC-3705B12E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E8C5B-9294-4F3C-8AF0-FA5A8D30B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34C86-E514-4749-9355-49A1EAA8D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p into Your Prior Knowle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george_washington_raise_sword_hg_clr.gif"/>
          <p:cNvPicPr/>
          <p:nvPr/>
        </p:nvPicPr>
        <p:blipFill>
          <a:blip r:embed="rId2"/>
          <a:stretch/>
        </p:blipFill>
        <p:spPr>
          <a:xfrm>
            <a:off x="7010280" y="3124080"/>
            <a:ext cx="2505240" cy="3333960"/>
          </a:xfrm>
          <a:prstGeom prst="rect">
            <a:avLst/>
          </a:prstGeom>
          <a:ln w="0">
            <a:noFill/>
          </a:ln>
        </p:spPr>
      </p:pic>
      <p:sp>
        <p:nvSpPr>
          <p:cNvPr id="91" name="TextBox 5"/>
          <p:cNvSpPr/>
          <p:nvPr/>
        </p:nvSpPr>
        <p:spPr>
          <a:xfrm>
            <a:off x="228600" y="1600200"/>
            <a:ext cx="86104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swer the following questions with a partn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 could create laws, vote, and be government officials during colonial tim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were the differences between the southern states &amp; northern states in regards to economy &amp; popul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the war was over, list at least 5 actions the Americans would now have to do in regards to gover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YI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merican Revolution 1775-178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76360" y="1523520"/>
            <a:ext cx="56386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rticles of Confederat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580920" y="4114800"/>
            <a:ext cx="5334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77-178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57200" y="9140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ericans needed to establish their own government once they declared their independence from Brita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ericans wanted the country to be a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public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A republic is a government with elected representativ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s organized their governments and adopted their own state constitu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80880" y="456840"/>
            <a:ext cx="8763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rticles of Confederation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 plan for government) were adopted in 1777. It was America’s first constitution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Americans favored a WEAK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ral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vernment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STRONG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ependent states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tate kept, “its sovereignty, freedom, and independence”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tification was delayed until 1781 because of western settlement disputes amongst the state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er the Artic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6868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IMITE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ral/federal govern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ranch legislature calle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gre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executive (chief executive) nor national/federal cou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states would have equal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ati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one single vo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ne (9) states had to agree before a bill became la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3 states had to ratify the Artic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914400" y="1447920"/>
            <a:ext cx="822960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lan of govern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otiated treaties especially the Treaty of Paris of 1783; successfully ended the American Revolu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are w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pe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land polic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the national postal off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eign relations with Native America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3"/>
          <p:cNvGrpSpPr/>
          <p:nvPr/>
        </p:nvGrpSpPr>
        <p:grpSpPr>
          <a:xfrm>
            <a:off x="533520" y="380880"/>
            <a:ext cx="8229600" cy="1024200"/>
            <a:chOff x="533520" y="380880"/>
            <a:chExt cx="8229600" cy="1024200"/>
          </a:xfrm>
        </p:grpSpPr>
        <p:sp>
          <p:nvSpPr>
            <p:cNvPr id="100" name="Rounded Rectangle 4"/>
            <p:cNvSpPr/>
            <p:nvPr/>
          </p:nvSpPr>
          <p:spPr>
            <a:xfrm>
              <a:off x="533520" y="380880"/>
              <a:ext cx="8229600" cy="102420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ounded Rectangle 4"/>
            <p:cNvSpPr/>
            <p:nvPr/>
          </p:nvSpPr>
          <p:spPr>
            <a:xfrm>
              <a:off x="582480" y="429840"/>
              <a:ext cx="8131320" cy="9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7760" rIns="167760" tIns="167760" bIns="167760" anchor="ctr">
              <a:noAutofit/>
            </a:bodyPr>
            <a:p>
              <a:pPr algn="ctr">
                <a:lnSpc>
                  <a:spcPct val="90000"/>
                </a:lnSpc>
                <a:spcAft>
                  <a:spcPts val="2361"/>
                </a:spcAft>
                <a:tabLst>
                  <a:tab algn="l" pos="0"/>
                  <a:tab algn="l" pos="1955880"/>
                  <a:tab algn="l" pos="3911760"/>
                  <a:tab algn="l" pos="5867280"/>
                  <a:tab algn="l" pos="7823160"/>
                  <a:tab algn="l" pos="977904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ccesses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28600" y="1752120"/>
            <a:ext cx="86104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EAK government had almost no power. It coul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ulate trade amongst the stat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end the Articles unless all 13 states gave its consen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e citizens to join the army nor pay for i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 a law unless nine states voted for it; 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3"/>
          <p:cNvGrpSpPr/>
          <p:nvPr/>
        </p:nvGrpSpPr>
        <p:grpSpPr>
          <a:xfrm>
            <a:off x="533520" y="609480"/>
            <a:ext cx="8229600" cy="1024200"/>
            <a:chOff x="533520" y="609480"/>
            <a:chExt cx="8229600" cy="1024200"/>
          </a:xfrm>
        </p:grpSpPr>
        <p:sp>
          <p:nvSpPr>
            <p:cNvPr id="104" name="Rounded Rectangle 4"/>
            <p:cNvSpPr/>
            <p:nvPr/>
          </p:nvSpPr>
          <p:spPr>
            <a:xfrm>
              <a:off x="533520" y="609480"/>
              <a:ext cx="8229600" cy="102420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ounded Rectangle 4"/>
            <p:cNvSpPr/>
            <p:nvPr/>
          </p:nvSpPr>
          <p:spPr>
            <a:xfrm>
              <a:off x="582480" y="658440"/>
              <a:ext cx="8131320" cy="9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7760" rIns="167760" tIns="167760" bIns="167760" anchor="ctr">
              <a:noAutofit/>
            </a:bodyPr>
            <a:p>
              <a:pPr algn="ctr">
                <a:lnSpc>
                  <a:spcPct val="90000"/>
                </a:lnSpc>
                <a:spcAft>
                  <a:spcPts val="1925"/>
                </a:spcAft>
                <a:tabLst>
                  <a:tab algn="l" pos="0"/>
                  <a:tab algn="l" pos="1955880"/>
                  <a:tab algn="l" pos="3911760"/>
                  <a:tab algn="l" pos="5867280"/>
                  <a:tab algn="l" pos="7823160"/>
                  <a:tab algn="l" pos="977904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eaknesse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ct taxes. They had to ask the states for money to pay for the army and war debts; 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tate had one vote in Congress. State population did not matter, although larger, more populated states believed that they should have more vot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3"/>
          <p:cNvGrpSpPr/>
          <p:nvPr/>
        </p:nvGrpSpPr>
        <p:grpSpPr>
          <a:xfrm>
            <a:off x="533520" y="609480"/>
            <a:ext cx="8229600" cy="1024200"/>
            <a:chOff x="533520" y="609480"/>
            <a:chExt cx="8229600" cy="1024200"/>
          </a:xfrm>
        </p:grpSpPr>
        <p:sp>
          <p:nvSpPr>
            <p:cNvPr id="108" name="Rounded Rectangle 4"/>
            <p:cNvSpPr/>
            <p:nvPr/>
          </p:nvSpPr>
          <p:spPr>
            <a:xfrm>
              <a:off x="533520" y="609480"/>
              <a:ext cx="8229600" cy="102420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ounded Rectangle 4"/>
            <p:cNvSpPr/>
            <p:nvPr/>
          </p:nvSpPr>
          <p:spPr>
            <a:xfrm>
              <a:off x="582480" y="658440"/>
              <a:ext cx="8131320" cy="9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7760" rIns="167760" tIns="167760" bIns="167760" anchor="ctr">
              <a:noAutofit/>
            </a:bodyPr>
            <a:p>
              <a:pPr algn="ctr">
                <a:lnSpc>
                  <a:spcPct val="90000"/>
                </a:lnSpc>
                <a:spcAft>
                  <a:spcPts val="1925"/>
                </a:spcAft>
                <a:tabLst>
                  <a:tab algn="l" pos="0"/>
                  <a:tab algn="l" pos="1955880"/>
                  <a:tab algn="l" pos="3911760"/>
                  <a:tab algn="l" pos="5867280"/>
                  <a:tab algn="l" pos="7823160"/>
                  <a:tab algn="l" pos="977904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eaknesses Cont’d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ewrite or Not to Rewrit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george_washington_raise_sword_hg_clr.gif"/>
          <p:cNvPicPr/>
          <p:nvPr/>
        </p:nvPicPr>
        <p:blipFill>
          <a:blip r:embed="rId2"/>
          <a:stretch/>
        </p:blipFill>
        <p:spPr>
          <a:xfrm>
            <a:off x="7010280" y="3124080"/>
            <a:ext cx="2505240" cy="33339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5"/>
          <p:cNvSpPr/>
          <p:nvPr/>
        </p:nvSpPr>
        <p:spPr>
          <a:xfrm>
            <a:off x="533520" y="1600200"/>
            <a:ext cx="77724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types of currency were confusing amongst the st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entral/federal government had to ask the states for mon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entral government couldn’t collect taxes and therefore, couldn’t maintain nor help the citize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ates had most of the power and therefore, had their own policies and unlimited resources to make any decisions they wanted without cons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4T17:09:57Z</dcterms:created>
  <dc:creator>eclipse</dc:creator>
  <dc:description/>
  <dc:language>en-US</dc:language>
  <cp:lastModifiedBy>Amy Davis</cp:lastModifiedBy>
  <dcterms:modified xsi:type="dcterms:W3CDTF">2017-11-09T20:32:26Z</dcterms:modified>
  <cp:revision>46</cp:revision>
  <dc:subject/>
  <dc:title>George Parchment</dc:title>
</cp:coreProperties>
</file>