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C705-C523-4806-911B-EFE16E4F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9DD6-EBA2-4596-984C-F32618D1E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8C07-C413-429F-9456-E759F88C22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C7C6-0D7F-44B3-9F32-D025E7C44A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1D24-3675-467F-B8E8-41072297B7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2C58-227D-454A-883C-69105D0CC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3E4-1436-49D0-BD3A-8B26378FDB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F3E0-9276-45AD-ADCE-63ECA1B809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1E8-0086-4854-8420-50ACDC36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363-3667-42D3-939C-9182863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F12-6339-46DC-B232-8F40331F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871-6EDC-44A5-99D2-2FB38E98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1769-1764-4524-85E2-DBAD6088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5CD7-AB2F-47A1-B26F-E64D99BF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2B7E-FC15-481E-A2E1-B5BBF661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4426-76A9-4D93-8BF8-918778C5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1ECF-AC8E-465C-93D6-09BB3AE9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3513-C0A6-4D39-98DB-C5F31E13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9139-5983-44C8-8466-DD519736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9C9-6AAC-4C60-95E2-DD49FB9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6BBB-B000-4F8A-BC36-1545FEA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6BF9-0914-4E22-AB9B-3D1FB9AC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A853-7FDB-4AE8-8795-F12A7D6B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1F5D-81B6-43AB-9617-080C83C4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D41D-D24E-4C8C-840E-74F691A4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8E3-6772-464A-A752-594E27F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3E9-3954-4422-886E-F057533D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17F-A747-48D3-9079-8BA7FDE8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8FF-F62C-4B41-B751-653CE2B8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432-A983-46A2-9574-731F7BB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399-7614-4C45-A78E-66FE336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D6B-0CE4-440D-A538-4365C93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7ED6-603E-4A82-8FEC-B8DBD21C5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D4DE-156C-42B7-A39E-F44554A7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 into Your Pri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28600" y="160020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following questions with a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ould create laws, vote, and be government officials during colonial ti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the differences between the southern states &amp; northern states in regards to economy &amp;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war was over, list at least 5 actions the Americans would now have to do in regards to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rican Revolution 1775-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5638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cles of Confede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580920" y="41148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7-17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needed to establish their own government once they declared their independence from Bri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wanted the country to be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ubl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republic is a government with elected represent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rganized their governments and adopted their own state constitu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456840"/>
            <a:ext cx="8763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cles of Confeder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lan for government) were adopted in 1777. It was America’s first constitu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mericans favored a WEAK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RO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stat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kept, “its sovereignty, freedom, and independence”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fication was delayed until 1781 because of western settlement disputes amongst the stat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Artic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MI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/federal gover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ranch legislatu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ecutive (chief executive) nor national/federal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 would have equ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ne single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 (9) states had to agree before a bill becam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 states had to ratify the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440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 of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d treaties especially the Treaty of Paris of 1783; successfully ended the American R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land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national postal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relations with Native Americ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533520" y="380880"/>
            <a:ext cx="8229600" cy="1024200"/>
            <a:chOff x="533520" y="380880"/>
            <a:chExt cx="8229600" cy="1024200"/>
          </a:xfrm>
        </p:grpSpPr>
        <p:sp>
          <p:nvSpPr>
            <p:cNvPr id="100" name="Rounded Rectangle 4"/>
            <p:cNvSpPr/>
            <p:nvPr/>
          </p:nvSpPr>
          <p:spPr>
            <a:xfrm>
              <a:off x="533520" y="3808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4"/>
            <p:cNvSpPr/>
            <p:nvPr/>
          </p:nvSpPr>
          <p:spPr>
            <a:xfrm>
              <a:off x="582480" y="4298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ccess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AK government had almost no power. It c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 trade amongst the sta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 the Articles unless all 13 states gave its cons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citizens to join the army nor pay for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a law unless nine states voted for it;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4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taxes. They had to ask the states for money to pay for the army and war debts;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had one vote in Congress. State population did not matter, although larger, more populated states believed that they should have more v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8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 Cont’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write or Not to Rew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33520" y="16002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rrency were confusing amongst th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/federal government had to ask the states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 government couldn’t collect taxes and therefore, couldn’t maintain nor help the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d most of the power and therefore, had their own policies and unlimited resources to make any decisions they wanted without con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09:57Z</dcterms:created>
  <dc:creator>eclipse</dc:creator>
  <dc:description/>
  <dc:language>en-US</dc:language>
  <cp:lastModifiedBy>Amy Davis</cp:lastModifiedBy>
  <dcterms:modified xsi:type="dcterms:W3CDTF">2017-11-09T20:32:26Z</dcterms:modified>
  <cp:revision>46</cp:revision>
  <dc:subject/>
  <dc:title>George Parchment</dc:title>
</cp:coreProperties>
</file>