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2106-D0A0-4E77-8C74-605E0E065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5F087-EA56-49A0-83D3-30EE15FE97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BC25-4A57-429E-BC42-5B2F24A997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2B1F-2B78-43E0-B65D-A9A5BFD355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D3DF-36FA-4348-B0C8-8538F75845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AAEC-FA5A-4DE5-8F6A-E7A4F0E0C8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154A-C32A-4042-9945-A14C686F13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9C8E-0AD3-4CDE-B333-267586C36F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9507-310A-4F00-BE8D-9D9B5AB77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CE89-03C5-4EE6-BCA4-C2ACBD27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EC18-B885-4CB0-8E45-97F314581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5DC9-3DFE-4D09-BE0E-B5EFF5338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033C-0424-4F8E-8747-181B60714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1950-4A62-4C7E-82B6-B01C387E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C53D6-756D-4AAE-857F-43BFF695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C51F-D7C0-4EFE-AE6F-BEA4A488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D680-6A7B-4205-88F7-5644E8AE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DF4A-20DB-4251-9361-B1A2E130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0F42-66C9-4A10-8027-A1225CB1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D0A6-9EA0-4C19-A957-E11B3DC4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F0606-4286-40F7-A986-8E73E8BF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4861-2FF3-4CEE-AEDC-C440FE89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B97C-1EB7-4DED-A098-8DDC1029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14C5-5640-4DC9-8929-8B0BE46AB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1D47-B2D1-432D-89B5-C8EE9D503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7A8C-4F71-448F-B683-40DDA943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1728-F598-40CC-8899-2346828A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9466-F0D0-4FC8-933A-159E515F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D911-ED80-45A3-ADBD-7E31167C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64F9-AAF0-48E3-A0D9-C8F7C2B8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CED7-8D61-4E26-B446-F5A5ABA8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E7DA-694D-4755-ABAF-F322F0E5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6DC4-D92B-4BED-9E48-5A07FB735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4AD1-4E3F-4AFF-B907-FD2C3EB0A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p into Your Prior 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george_washington_raise_sword_hg_clr.gif"/>
          <p:cNvPicPr/>
          <p:nvPr/>
        </p:nvPicPr>
        <p:blipFill>
          <a:blip r:embed="rId2"/>
          <a:stretch/>
        </p:blipFill>
        <p:spPr>
          <a:xfrm>
            <a:off x="7010280" y="3124080"/>
            <a:ext cx="2505240" cy="333396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>
            <a:off x="228600" y="1600200"/>
            <a:ext cx="86104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swer the following questions with a partn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 could create laws, vote, and be government officials during colonial tim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were the differences between the southern states &amp; northern states in regards to economy &amp; popul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the war was over, list at least 5 actions the Americans would now have to do in regards to gover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YI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merican Revolution 1775-17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76360" y="1523520"/>
            <a:ext cx="56386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rticles of Confedera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580920" y="4114800"/>
            <a:ext cx="5334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77-178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9140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ricans needed to establish their own government once they declared their independence from Brit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ricans wanted the country to be a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publi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A republic is a government with elected representativ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s organized their governments and adopted their own state constitu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80880" y="456840"/>
            <a:ext cx="8763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rticles of Confederation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 plan for government) were adopted in 1777. It was America’s first constitutio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Americans favored a WEAK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vernment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STRONG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pendent states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tate kept, “its sovereignty, freedom, and independence”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ification was delayed until 1781 because of western settlement disputes amongst the state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 the Artic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868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IMITE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/federal govern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ranch legislature calle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gr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executive (chief executive) nor national/federal cou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states would have equa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ati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one single vo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ne (9) states had to agree before a bill became l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3 states had to ratify the Artic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914400" y="1447920"/>
            <a:ext cx="82296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lan of govern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otiated treaties especially the Treaty of Paris of 1783; successfully ended the American Revol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are w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pe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land polic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the national postal off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eign relations with Native America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3"/>
          <p:cNvGrpSpPr/>
          <p:nvPr/>
        </p:nvGrpSpPr>
        <p:grpSpPr>
          <a:xfrm>
            <a:off x="533520" y="380880"/>
            <a:ext cx="8229600" cy="1024200"/>
            <a:chOff x="533520" y="380880"/>
            <a:chExt cx="8229600" cy="1024200"/>
          </a:xfrm>
        </p:grpSpPr>
        <p:sp>
          <p:nvSpPr>
            <p:cNvPr id="100" name="Rounded Rectangle 4"/>
            <p:cNvSpPr/>
            <p:nvPr/>
          </p:nvSpPr>
          <p:spPr>
            <a:xfrm>
              <a:off x="533520" y="380880"/>
              <a:ext cx="8229600" cy="102420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ounded Rectangle 4"/>
            <p:cNvSpPr/>
            <p:nvPr/>
          </p:nvSpPr>
          <p:spPr>
            <a:xfrm>
              <a:off x="582480" y="429840"/>
              <a:ext cx="8131320" cy="9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7760" rIns="167760" tIns="167760" bIns="167760" anchor="ctr">
              <a:noAutofit/>
            </a:bodyPr>
            <a:p>
              <a:pPr algn="ctr">
                <a:lnSpc>
                  <a:spcPct val="90000"/>
                </a:lnSpc>
                <a:spcAft>
                  <a:spcPts val="2361"/>
                </a:spcAft>
                <a:tabLst>
                  <a:tab algn="l" pos="0"/>
                  <a:tab algn="l" pos="1955880"/>
                  <a:tab algn="l" pos="3911760"/>
                  <a:tab algn="l" pos="5867280"/>
                  <a:tab algn="l" pos="7823160"/>
                  <a:tab algn="l" pos="977904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ccesses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28600" y="1752120"/>
            <a:ext cx="86104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EAK government had almost no power. It coul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te trade amongst the stat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nd the Articles unless all 13 states gave its consen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 citizens to join the army nor pay for i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 a law unless nine states voted for it; 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3"/>
          <p:cNvGrpSpPr/>
          <p:nvPr/>
        </p:nvGrpSpPr>
        <p:grpSpPr>
          <a:xfrm>
            <a:off x="533520" y="609480"/>
            <a:ext cx="8229600" cy="1024200"/>
            <a:chOff x="533520" y="609480"/>
            <a:chExt cx="8229600" cy="1024200"/>
          </a:xfrm>
        </p:grpSpPr>
        <p:sp>
          <p:nvSpPr>
            <p:cNvPr id="104" name="Rounded Rectangle 4"/>
            <p:cNvSpPr/>
            <p:nvPr/>
          </p:nvSpPr>
          <p:spPr>
            <a:xfrm>
              <a:off x="533520" y="609480"/>
              <a:ext cx="8229600" cy="102420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ounded Rectangle 4"/>
            <p:cNvSpPr/>
            <p:nvPr/>
          </p:nvSpPr>
          <p:spPr>
            <a:xfrm>
              <a:off x="582480" y="658440"/>
              <a:ext cx="8131320" cy="9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7760" rIns="167760" tIns="167760" bIns="167760" anchor="ctr">
              <a:noAutofit/>
            </a:bodyPr>
            <a:p>
              <a:pPr algn="ctr">
                <a:lnSpc>
                  <a:spcPct val="90000"/>
                </a:lnSpc>
                <a:spcAft>
                  <a:spcPts val="1925"/>
                </a:spcAft>
                <a:tabLst>
                  <a:tab algn="l" pos="0"/>
                  <a:tab algn="l" pos="1955880"/>
                  <a:tab algn="l" pos="3911760"/>
                  <a:tab algn="l" pos="5867280"/>
                  <a:tab algn="l" pos="7823160"/>
                  <a:tab algn="l" pos="977904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eaknesse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ct taxes. They had to ask the states for money to pay for the army and war debts;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tate had one vote in Congress. State population did not matter, although larger, more populated states believed that they should have more vo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3"/>
          <p:cNvGrpSpPr/>
          <p:nvPr/>
        </p:nvGrpSpPr>
        <p:grpSpPr>
          <a:xfrm>
            <a:off x="533520" y="609480"/>
            <a:ext cx="8229600" cy="1024200"/>
            <a:chOff x="533520" y="609480"/>
            <a:chExt cx="8229600" cy="1024200"/>
          </a:xfrm>
        </p:grpSpPr>
        <p:sp>
          <p:nvSpPr>
            <p:cNvPr id="108" name="Rounded Rectangle 4"/>
            <p:cNvSpPr/>
            <p:nvPr/>
          </p:nvSpPr>
          <p:spPr>
            <a:xfrm>
              <a:off x="533520" y="609480"/>
              <a:ext cx="8229600" cy="102420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ounded Rectangle 4"/>
            <p:cNvSpPr/>
            <p:nvPr/>
          </p:nvSpPr>
          <p:spPr>
            <a:xfrm>
              <a:off x="582480" y="658440"/>
              <a:ext cx="8131320" cy="9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7760" rIns="167760" tIns="167760" bIns="167760" anchor="ctr">
              <a:noAutofit/>
            </a:bodyPr>
            <a:p>
              <a:pPr algn="ctr">
                <a:lnSpc>
                  <a:spcPct val="90000"/>
                </a:lnSpc>
                <a:spcAft>
                  <a:spcPts val="1925"/>
                </a:spcAft>
                <a:tabLst>
                  <a:tab algn="l" pos="0"/>
                  <a:tab algn="l" pos="1955880"/>
                  <a:tab algn="l" pos="3911760"/>
                  <a:tab algn="l" pos="5867280"/>
                  <a:tab algn="l" pos="7823160"/>
                  <a:tab algn="l" pos="977904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eaknesses Cont’d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write or Not to Rewrit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george_washington_raise_sword_hg_clr.gif"/>
          <p:cNvPicPr/>
          <p:nvPr/>
        </p:nvPicPr>
        <p:blipFill>
          <a:blip r:embed="rId2"/>
          <a:stretch/>
        </p:blipFill>
        <p:spPr>
          <a:xfrm>
            <a:off x="7010280" y="3124080"/>
            <a:ext cx="2505240" cy="33339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5"/>
          <p:cNvSpPr/>
          <p:nvPr/>
        </p:nvSpPr>
        <p:spPr>
          <a:xfrm>
            <a:off x="533520" y="1600200"/>
            <a:ext cx="77724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types of currency were confusing amongst the st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entral/federal government had to ask the states for mon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entral government couldn’t collect taxes and therefore, couldn’t maintain nor help the citize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ates had most of the power and therefore, had their own policies and unlimited resources to make any decisions they wanted without con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17:09:57Z</dcterms:created>
  <dc:creator>eclipse</dc:creator>
  <dc:description/>
  <dc:language>en-US</dc:language>
  <cp:lastModifiedBy>Amy Davis</cp:lastModifiedBy>
  <dcterms:modified xsi:type="dcterms:W3CDTF">2017-11-09T20:32:26Z</dcterms:modified>
  <cp:revision>46</cp:revision>
  <dc:subject/>
  <dc:title>George Parchment</dc:title>
</cp:coreProperties>
</file>