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3240" cy="35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4C01-572A-4DA8-96B6-1F75186CA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01D6-8E33-42F2-B347-1546655F7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B143-71EC-4E4B-AC7C-2A02DEFD8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7E9-285D-4646-8905-CE6A5E663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3240" cy="3512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5E1-337D-4123-9658-75CD53F1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2D6-8E1B-4184-8878-A967044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183-F6AC-4461-8E21-3239AD28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C1F-3CAF-4EC9-BA5B-FD944CF3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70F1-9E92-4D33-A0EC-890FCA4B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1A31-2FC0-492B-B518-B968428B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BAB-EA4B-49B0-9F08-26471987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2156-F38D-43E1-A190-33A5B061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0D13-D7FD-4AC9-8648-8F2CE37B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546C-7BCC-45CB-A38C-0B6B5444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997E-F9AF-4719-9B56-8C288F38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56E-CD36-4E3E-B7E5-81895E94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7E5A-3B77-40E5-882D-B47E20A7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CDBB-5D41-43A0-92EE-DD148BFD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48C1-7D3D-4996-97F9-62BBFCDB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B5B2-C2D3-42F7-B1DA-92561C65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2E90-AB8C-433B-9CC1-68C9B5F2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FE1D-46C3-48BF-9BE4-EAA5725B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26CB-58BE-476E-86FC-5C859F3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48E3-58EC-4D14-914F-65F3A79A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4826-AC18-4247-9991-7FD09025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A9B5-E68A-4648-84D8-5AA4C658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F3A-04AA-4341-881B-6B0FCF1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B387-AC4E-4EEE-8267-703C354E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AE456-D7CF-4051-A124-7AE371D5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854F-CF2B-4B4F-BF7D-2C409F91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B1C5-F945-4E55-B360-DABDC44D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D0C1-572E-44CE-A48D-0C410D6C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B249-1F55-49F6-B75E-EB42BCD8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459A-61AB-4220-A46B-B0D16B99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726D-F11F-43DB-B8E9-93252B91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E4CC-4509-45FE-AEFC-3DD5DD44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F80C3-4D44-4668-B10E-1C8D91F1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92E-DA92-48E4-A472-8475AA26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F17F-43A8-4B7B-B95B-33B1D94A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1A028-F543-4DA9-83EE-52DB6856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98397-1863-414E-995C-45B2CDD8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C50C-E0F4-47EE-9308-722ADCA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D739-BACC-4079-9716-6E4FDA54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C8B1-5050-4B8C-8E21-0CA2D31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2BBE3-3116-40CB-97E5-814C2BAE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9667-D9EA-45F4-9CD0-40783D12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8FE5-B417-4605-9801-ADE701FD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F633-2D74-4E9A-9E73-D8BD0AC3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910-103E-4863-BF3A-58837B93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F5FD-DCEE-4784-A83E-8E03534F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9EABC-920A-4163-B4F0-EA204EC3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56C4-A683-4C91-A657-02A85050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EAB1-45D3-4F78-968D-0B32DBB2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EA4D-7D60-4BA6-BE61-D1794BF9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ED49-280D-460E-914F-75D190A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17901-33B3-4E34-94FF-AD6F258A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63FE1-A466-4EA9-9F59-65BB071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D7172-E956-43DF-8148-0DE938E8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001C-EC79-453C-A492-E9521081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6F4-5A75-4B83-9FFE-37D7B842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17DC6-B708-48BE-B053-C8610E6C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8AEB5-11DA-4DB9-9AF5-784625D8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420F-F015-4F1A-A856-860CCEC5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1C935-BA44-42AF-B6C9-B86D26BA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2DA8F-445E-4AA3-A8FA-53A06D00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889C7-E346-4E4B-BD3C-BE5DE7FF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F93A-5164-4C2F-8605-E27C832F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D89B-A5C3-4ECD-8B6D-E97EECD6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C8FEC-6D7F-4D46-A126-446C8B0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5A6DE-6691-4FF3-B553-011E301F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EDE-EA5F-42A2-86BD-DE2D0208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B0728-8E62-4F87-9DC5-3D2CBDF8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16B00-F539-434F-9CB2-7B1762E9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EC2AB-ACCC-48CC-9377-14830A36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95D5-8C82-4077-BDC0-C3736D66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030FA-D3C3-4E58-B056-1999A9B0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A0E5D-4E74-40C7-A7E0-0C6671DF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A5D65-CC7E-471F-8D69-E6454031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E2E72-A37C-4D9E-9953-2957C03F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62DD3-D3E7-4420-BC44-90F4DE8B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A3F3F-1F84-4A9B-86EF-B6907AD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081-856E-4B97-A499-E1BCEDF6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B0F1-18EA-45EF-8242-2B098E41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42EA6-CCFD-4E61-8C59-9D0023F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6FE38-D5C8-437B-A4DD-F5D8424E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ACEF7-C324-4FEE-ADB3-B25379A7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F161-E749-43EC-9D3B-EEC7A8DC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A12-7BAE-4A58-8012-FBD19CC7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E9B7-AAEE-45B7-BEF8-30150BF2BD5B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23CB-7747-42E2-8E1F-BCA013CD2B2C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01B5-4477-4463-8B58-53A3087A7805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42AA-E86C-471F-8BAD-E0978490487B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3B2C-505C-4E85-8BCD-3D6BDE7AE564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DC5D-2EE6-4068-959A-E2CD239D3AC4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BAF0-448A-41BE-86A2-C66BBD257F65}" type="slidenum">
              <a:rPr b="0" lang="en-US" sz="12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Crisis Deepens: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red Scott Decision and Lincoln-Douglas Deb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ed1"/>
                </a:solidFill>
                <a:latin typeface="Arial"/>
              </a:rPr>
              <a:t>EQ: How did the Dred Scott Decision and the Lincoln-Douglas Debates increase sectional 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04920" y="1599840"/>
            <a:ext cx="8534160" cy="48006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incoln’s social views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incoln stressed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mmorality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of slavery in the deb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ouglas referred to Lincoln’s party as Black Republicans and painted an image of a society where th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aces were equal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, pressing Lincoln on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itizenship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for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acked into a corner, Lincoln said,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“I will say that I am not, nor have ever been in favor of bringing about in any way the social and political 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equality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of the white and black races.”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Debates’ Significanc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143000"/>
            <a:ext cx="8305920" cy="5410080"/>
          </a:xfrm>
          <a:prstGeom prst="rect">
            <a:avLst/>
          </a:prstGeom>
          <a:solidFill>
            <a:srgbClr val="ffff99"/>
          </a:solidFill>
          <a:ln w="12600">
            <a:solidFill>
              <a:srgbClr val="4e8542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6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iding who w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 retained hi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nate seat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but most historians judg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Lincol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to have won the debates. He had argued the more famous Douglas to a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raw and in the process made himself a national fig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upporter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ouglas’s statements caused him to lose support of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uthern Democrat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which proved critical when he faced Lincoln again in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. Lincoln’s moderate positions increased his standing among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ortherners,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ut southerners still thought Lincoln was a serious threat to slavery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peaking to the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28600">
              <a:lnSpc>
                <a:spcPct val="90000"/>
              </a:lnSpc>
              <a:spcBef>
                <a:spcPts val="125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ncoln and Douglas took their arguments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irectly to the people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and made the issues of the day clear to the nation. The outcome directly affected the 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esidential election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f 18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Dred Scott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560" y="159984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tiff- Dred Scott (a sl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dant- Irene Emerson (his owner’s wid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Court Justice- Roger B. T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DRED-SCOTT"/>
          <p:cNvPicPr/>
          <p:nvPr/>
        </p:nvPicPr>
        <p:blipFill>
          <a:blip r:embed="rId1"/>
          <a:stretch/>
        </p:blipFill>
        <p:spPr>
          <a:xfrm>
            <a:off x="5410080" y="1905120"/>
            <a:ext cx="3429000" cy="4182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Judicial Decis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cott have the right to su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Dred Scott.jpg"/>
          <p:cNvPicPr/>
          <p:nvPr/>
        </p:nvPicPr>
        <p:blipFill>
          <a:blip r:embed="rId1"/>
          <a:stretch/>
        </p:blipFill>
        <p:spPr>
          <a:xfrm>
            <a:off x="480960" y="139680"/>
            <a:ext cx="81820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aney’s Decis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19" name="Picture 2" descr="http://2.bp.blogspot.com/_2tggLZ2rGkg/SQBj5BAbSHI/AAAAAAAAEQU/UqL0M2v2FB0/s400/417px-Roger_B__Taney_-_Brady-Handy-full.jpg"/>
          <p:cNvPicPr/>
          <p:nvPr/>
        </p:nvPicPr>
        <p:blipFill>
          <a:blip r:embed="rId1"/>
          <a:stretch/>
        </p:blipFill>
        <p:spPr>
          <a:xfrm>
            <a:off x="6400800" y="152280"/>
            <a:ext cx="2495520" cy="3591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304920" y="1599840"/>
            <a:ext cx="723888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Scott have the right to su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because he is not a citi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Scott free as a result of living in a state and territory where slavery was illega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he is considered property and right to property is protected b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t constitutional for the Congress to limit slavery in the territo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5144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, all laws that do so (including the Missouri Compromise) are un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Straight Arrow Connector 5"/>
          <p:cNvCxnSpPr/>
          <p:nvPr/>
        </p:nvCxnSpPr>
        <p:spPr>
          <a:xfrm>
            <a:off x="6933960" y="388620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Straight Arrow Connector 8"/>
          <p:cNvCxnSpPr/>
          <p:nvPr/>
        </p:nvCxnSpPr>
        <p:spPr>
          <a:xfrm>
            <a:off x="6248520" y="5790960"/>
            <a:ext cx="8388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TextBox 9"/>
          <p:cNvSpPr/>
          <p:nvPr/>
        </p:nvSpPr>
        <p:spPr>
          <a:xfrm>
            <a:off x="7391520" y="4267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7157520" y="563868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28600" y="7632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The Lincoln-Douglas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(Illinois Senate) Debates, 18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6" descr="debatex_030801"/>
          <p:cNvPicPr/>
          <p:nvPr/>
        </p:nvPicPr>
        <p:blipFill>
          <a:blip r:embed="rId1"/>
          <a:srcRect l="0" t="0" r="0" b="2003"/>
          <a:stretch/>
        </p:blipFill>
        <p:spPr>
          <a:xfrm>
            <a:off x="4343400" y="1201680"/>
            <a:ext cx="4419720" cy="3522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327" name="Text Box 8"/>
          <p:cNvSpPr/>
          <p:nvPr/>
        </p:nvSpPr>
        <p:spPr>
          <a:xfrm>
            <a:off x="4724280" y="4876920"/>
            <a:ext cx="4267440" cy="1785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A 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Wrangler"/>
              </a:rPr>
              <a:t>House divided</a:t>
            </a:r>
            <a:r>
              <a:rPr b="1" i="1" lang="en-US" sz="3700" spc="-1" strike="noStrike">
                <a:solidFill>
                  <a:srgbClr val="ffffff"/>
                </a:solidFill>
                <a:latin typeface="Wrangler"/>
              </a:rPr>
              <a:t> against itself, cannot stan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9" descr="Lincoln-Douglasdebate syamp"/>
          <p:cNvPicPr/>
          <p:nvPr/>
        </p:nvPicPr>
        <p:blipFill>
          <a:blip r:embed="rId2"/>
          <a:stretch/>
        </p:blipFill>
        <p:spPr>
          <a:xfrm>
            <a:off x="685800" y="1752480"/>
            <a:ext cx="297180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329" name="Picture 10" descr="Lincoln-Douglasdebate - 1"/>
          <p:cNvPicPr/>
          <p:nvPr/>
        </p:nvPicPr>
        <p:blipFill>
          <a:blip r:embed="rId3"/>
          <a:stretch/>
        </p:blipFill>
        <p:spPr>
          <a:xfrm>
            <a:off x="304920" y="4060800"/>
            <a:ext cx="4343400" cy="24922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http://open.salon.com/files/last_lincoln1236790135.jpg"/>
          <p:cNvPicPr/>
          <p:nvPr/>
        </p:nvPicPr>
        <p:blipFill>
          <a:blip r:embed="rId1"/>
          <a:stretch/>
        </p:blipFill>
        <p:spPr>
          <a:xfrm>
            <a:off x="5257800" y="-762120"/>
            <a:ext cx="3533760" cy="41148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133720" y="3505320"/>
            <a:ext cx="6248160" cy="25905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incoln helped organize the Illinoi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ublican Party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 1856. He oppose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hen Douglas’s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id for a third term in the U.S. Senate. Lincoln spoke eloquently at his nomination, taking the mos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dical stanc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gainst slavery with the prediction “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 house divided against itself cannot st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28600" y="2286000"/>
            <a:ext cx="18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Lincoln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133720" y="2362320"/>
            <a:ext cx="62481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ter the passage of th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ansas-Nebraska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ct, Lincoln returned to public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228600" y="4267080"/>
            <a:ext cx="18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e2c3e"/>
                </a:solidFill>
                <a:latin typeface="Verdana"/>
              </a:rPr>
              <a:t>A house divid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Lincoln Douglas Debat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txBody>
          <a:bodyPr anchor="t">
            <a:normAutofit/>
          </a:bodyPr>
          <a:p>
            <a:pPr marL="271440" indent="-271440"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debates were a series of public meetings. While Douglas spoke with great flair, Lincoln’s manner was mild. His strength lay in the logic and reasoning of his ideas</a:t>
            </a: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As you analyz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cuments, identif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Political platforms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ndid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http://www.andyamato.com/images/lin%20doug%20web%202.jpg"/>
          <p:cNvPicPr/>
          <p:nvPr/>
        </p:nvPicPr>
        <p:blipFill>
          <a:blip r:embed="rId1"/>
          <a:stretch/>
        </p:blipFill>
        <p:spPr>
          <a:xfrm>
            <a:off x="5257800" y="311004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ncoln and Douglas Clas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3520" y="990720"/>
            <a:ext cx="4495680" cy="54864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The Freeport Doct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second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ebate was the most critic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Lincoln challenged Douglas to explain how people could us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popular sovereignty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to keep slavery out of a place when the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Dred Scott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decision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had said they could no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Douglas’s reply came to be known as the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Freeport Doctrin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. “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If the people are opposed to slavery they will elect representatives to that body who will by unfriendly legislation . . . prevent the introduction of it into their midst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http://www.sonofthesouth.net/slavery/pictures/stephen-a-douglas.jpg"/>
          <p:cNvPicPr/>
          <p:nvPr/>
        </p:nvPicPr>
        <p:blipFill>
          <a:blip r:embed="rId1"/>
          <a:stretch/>
        </p:blipFill>
        <p:spPr>
          <a:xfrm>
            <a:off x="5257800" y="1295280"/>
            <a:ext cx="3490920" cy="45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4:46:42Z</dcterms:created>
  <dc:creator>MIS</dc:creator>
  <dc:description/>
  <dc:language>en-US</dc:language>
  <cp:lastModifiedBy>Amy Davis</cp:lastModifiedBy>
  <dcterms:modified xsi:type="dcterms:W3CDTF">2018-01-22T20:03:42Z</dcterms:modified>
  <cp:revision>57</cp:revision>
  <dc:subject/>
  <dc:title>PowerPoint Presentation</dc:title>
</cp:coreProperties>
</file>