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7077075" cy="9371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7077600" cy="9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4008240" y="-36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96640" y="703440"/>
            <a:ext cx="4683240" cy="351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0" y="889920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4008240" y="889920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BA33-F3D2-4A61-98F3-98483F322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90A8-6394-42C6-977C-F347A9510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3240" cy="35128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5E10-34C3-4371-B014-B0087DF0F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3240" cy="35128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EFA9-BDF0-48C3-93F9-BE8AB0F36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3240" cy="35128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83F1-227C-49F1-9FF5-F16C18E9F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BE16-8F08-4E27-875D-96A72F19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FEB2-5918-4D36-A34C-5501A96BD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F017-9492-40E8-9060-95837EE23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C051-327A-47BE-9D5D-6984A3284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DF39-C669-4A6B-9D7B-518776F0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71A7-9085-4EEA-997E-1A1AA2D7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D571-0776-4D40-83F8-B2E7ED64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2B9F-B34B-4EC8-AEAE-4913F9A2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E251-A8A9-41E0-9803-106C20C6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E474-8B6D-45A8-B5D7-5834E46D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5659-44AD-4E0B-9D25-439EEF56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23CE-1751-437C-9407-E242C958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0756-B7F6-4D60-BBDE-A7C3C1AC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D98D-4019-4D0E-8B66-33A6910F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7299-A1F3-4DD3-AEFF-F59654C0D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52A3-F22E-4A31-B19C-34AE4A19C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70117-F67D-45AE-B290-4FCDEC37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14E06-B9F6-4DCC-A8A8-89E600BC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3F3A1-42DF-4F04-8442-3A790362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DBE77-A292-4070-941A-B0363529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8B6B9-6832-44AD-819A-8354AB07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E618-D722-46F5-80A5-96235C78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FF614-FA95-47A6-9ED0-B56A0D71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15B1B-D03A-4BF5-AA1B-C8400C12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AA07F-6E4D-421C-8BAE-4FEB5900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6671A-6ACB-42DD-ACC5-FAB138FB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20A88-5783-4141-A2D7-846C769F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F44F2-A097-4406-BF3C-399D0E070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1E7A5-FBC4-4CD6-87B5-15C4D9D02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8E4A0-4218-4CAA-B6FB-3B7906A96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C255A-DC7C-4A51-94AE-7C3A00A0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ED04D-E52F-451A-A094-EA2621EA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1947-5597-4DDA-8FE5-47357A13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366A1-8FE4-4E96-B29C-3770E32A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585B1-BA45-4CA2-8800-A363574E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C5BB4-10A5-41E2-AF8B-CF375751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A3F16-64C3-4287-B0F4-E50A70AD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A2C11-A3C8-4F79-A1A8-4BFA75F6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484AE-EFE8-4924-BEA3-0FEAF284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57BF1-5DB9-449F-87D7-B4B41DC0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AF5B8-2484-4A3B-BF47-EC63EEA94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81C9F-1E05-454D-95AE-BDFC71F9E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F2519-A324-4486-A2FF-AC0110BA0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2D2E-2B42-4E79-AD0E-1705ECC6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13651-3E73-45B4-9F15-EC04EC20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AB945-1376-4321-ABA3-2B025491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2ABC5-7926-4F32-9CB8-2411785F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73DFF-E4C6-4531-8868-BB7E813E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1A6F4-5B73-4167-8254-71B7D366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C91D2-C6A0-4611-A66F-3DE2999E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6FD5A-4F43-43B6-A33C-1B268B08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A4F42-0B1A-430E-9803-E1C0D3E2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7307B-3B1C-4F5D-80B0-80FBA2EA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7A67F-C02E-48EA-B738-081FDF838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9FC9-FD8C-4EE1-8ADA-3D55AAC8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408D5-6979-4872-A1C0-6BA2FC73C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5EEDC-630B-4345-9EC5-079D4BDBB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BC071-55DF-46BC-A1FB-84EC2D8D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2E468-7775-4AF7-AEB2-D42B4D11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12486-C2E6-471D-9AA7-55579406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19B46-5D83-4C2C-9F98-4AD75885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82A12-258D-407C-891E-314425C2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52235-C250-4AAC-94A6-7F2BBBC6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EFEDF-3FCD-4465-9D4F-15C8DE7A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20C22-1372-43A9-8CF4-4F1E4D5C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D38E-C0A3-4F95-AA44-BA8B5576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FBE5D-2013-4373-94DA-5A36366B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1979D-0EE5-4E09-A976-57820CBD0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36143-4767-4EEA-9614-21B86DE00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C7598-3554-4E8B-9DE6-4008FE2B7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974C2-35BD-49BC-B98A-426FC078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F833F-4A6F-46E2-9ACA-9D9D951B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1E655-2860-449C-BF01-847871DE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A52A9-59A8-4118-95DE-AD6BC840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4F43B-0543-4694-B980-EA070ABF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499AA-96B8-4033-8F53-E5C49E70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69BF-4300-4713-8502-C009F2B1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A0601-6488-4CA5-B9EC-D7E3C7E2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4DD0D-0EB4-4524-8610-611E2594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6AD9D-13D2-4ADB-90F5-1AAAA6F2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38A8A-B49F-43FA-B2DD-2A9F31487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EE229-07A0-4A35-BF88-AACD30E8A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D2C0-2314-47E1-B104-6876A1DC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Same Side Corner Rectangle 6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DE97-337E-411C-8E48-F721AF4386A2}" type="slidenum">
              <a:rPr b="0" lang="en-US" sz="12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7"/>
          <p:cNvSpPr/>
          <p:nvPr/>
        </p:nvSpPr>
        <p:spPr>
          <a:xfrm>
            <a:off x="228600" y="6524640"/>
            <a:ext cx="8686800" cy="1440"/>
          </a:xfrm>
          <a:prstGeom prst="line">
            <a:avLst/>
          </a:prstGeom>
          <a:ln cap="rnd" w="1260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 Same Side Corner Rectangle 8"/>
          <p:cNvSpPr/>
          <p:nvPr/>
        </p:nvSpPr>
        <p:spPr>
          <a:xfrm flipV="1">
            <a:off x="228600" y="4723920"/>
            <a:ext cx="8686800" cy="1828800"/>
          </a:xfrm>
          <a:custGeom>
            <a:avLst/>
            <a:gdLst/>
            <a:ahLst/>
            <a:rect l="l" t="t" r="r" b="b"/>
            <a:pathLst>
              <a:path w="8686800" h="1828800">
                <a:moveTo>
                  <a:pt x="197218" y="0"/>
                </a:moveTo>
                <a:lnTo>
                  <a:pt x="8489582" y="0"/>
                </a:lnTo>
                <a:cubicBezTo>
                  <a:pt x="8598502" y="0"/>
                  <a:pt x="8686800" y="88298"/>
                  <a:pt x="8686800" y="197218"/>
                </a:cubicBezTo>
                <a:lnTo>
                  <a:pt x="8686800" y="1828800"/>
                </a:lnTo>
                <a:lnTo>
                  <a:pt x="8686800" y="1828800"/>
                </a:lnTo>
                <a:lnTo>
                  <a:pt x="0" y="1828800"/>
                </a:lnTo>
                <a:lnTo>
                  <a:pt x="0" y="1828800"/>
                </a:lnTo>
                <a:lnTo>
                  <a:pt x="0" y="197218"/>
                </a:lnTo>
                <a:cubicBezTo>
                  <a:pt x="0" y="88298"/>
                  <a:pt x="88298" y="0"/>
                  <a:pt x="197218" y="0"/>
                </a:cubicBezTo>
                <a:close/>
              </a:path>
            </a:pathLst>
          </a:cu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ound Same Side Corner Rectangle 9"/>
          <p:cNvSpPr/>
          <p:nvPr/>
        </p:nvSpPr>
        <p:spPr>
          <a:xfrm>
            <a:off x="228600" y="228600"/>
            <a:ext cx="8686800" cy="4419720"/>
          </a:xfrm>
          <a:custGeom>
            <a:avLst/>
            <a:gdLst/>
            <a:ahLst/>
            <a:rect l="l" t="t" r="r" b="b"/>
            <a:pathLst>
              <a:path w="8686800" h="4419600">
                <a:moveTo>
                  <a:pt x="124677" y="0"/>
                </a:moveTo>
                <a:lnTo>
                  <a:pt x="8562123" y="0"/>
                </a:lnTo>
                <a:cubicBezTo>
                  <a:pt x="8630980" y="0"/>
                  <a:pt x="8686800" y="55820"/>
                  <a:pt x="8686800" y="124677"/>
                </a:cubicBezTo>
                <a:lnTo>
                  <a:pt x="8686800" y="4419600"/>
                </a:lnTo>
                <a:lnTo>
                  <a:pt x="8686800" y="4419600"/>
                </a:lnTo>
                <a:lnTo>
                  <a:pt x="0" y="4419600"/>
                </a:lnTo>
                <a:lnTo>
                  <a:pt x="0" y="4419600"/>
                </a:lnTo>
                <a:lnTo>
                  <a:pt x="0" y="124677"/>
                </a:lnTo>
                <a:cubicBezTo>
                  <a:pt x="0" y="55820"/>
                  <a:pt x="55820" y="0"/>
                  <a:pt x="124677" y="0"/>
                </a:cubicBez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28240" y="65530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895120" y="6553080"/>
            <a:ext cx="3429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57640" y="6553080"/>
            <a:ext cx="20574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2551-63E3-413B-ADEE-48E6F819CFF4}" type="slidenum">
              <a:rPr b="0" lang="en-US" sz="12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ound Same Side Corner Rectangle 8"/>
          <p:cNvSpPr/>
          <p:nvPr/>
        </p:nvSpPr>
        <p:spPr>
          <a:xfrm>
            <a:off x="228600" y="228600"/>
            <a:ext cx="8686800" cy="4952880"/>
          </a:xfrm>
          <a:custGeom>
            <a:avLst/>
            <a:gdLst/>
            <a:ahLst/>
            <a:rect l="l" t="t" r="r" b="b"/>
            <a:pathLst>
              <a:path w="8686800" h="4953000">
                <a:moveTo>
                  <a:pt x="139724" y="0"/>
                </a:moveTo>
                <a:lnTo>
                  <a:pt x="8547076" y="0"/>
                </a:lnTo>
                <a:cubicBezTo>
                  <a:pt x="8624243" y="0"/>
                  <a:pt x="8686800" y="62557"/>
                  <a:pt x="8686800" y="139724"/>
                </a:cubicBezTo>
                <a:lnTo>
                  <a:pt x="8686800" y="4953000"/>
                </a:lnTo>
                <a:lnTo>
                  <a:pt x="8686800" y="4953000"/>
                </a:lnTo>
                <a:lnTo>
                  <a:pt x="0" y="4953000"/>
                </a:lnTo>
                <a:lnTo>
                  <a:pt x="0" y="4953000"/>
                </a:lnTo>
                <a:lnTo>
                  <a:pt x="0" y="139724"/>
                </a:lnTo>
                <a:cubicBezTo>
                  <a:pt x="0" y="62557"/>
                  <a:pt x="62557" y="0"/>
                  <a:pt x="139724" y="0"/>
                </a:cubicBezTo>
                <a:close/>
              </a:path>
            </a:pathLst>
          </a:cu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ound Same Side Corner Rectangle 9"/>
          <p:cNvSpPr/>
          <p:nvPr/>
        </p:nvSpPr>
        <p:spPr>
          <a:xfrm flipV="1">
            <a:off x="228600" y="5257440"/>
            <a:ext cx="8686800" cy="129528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139696" y="0"/>
                </a:moveTo>
                <a:lnTo>
                  <a:pt x="8547104" y="0"/>
                </a:lnTo>
                <a:cubicBezTo>
                  <a:pt x="8624256" y="0"/>
                  <a:pt x="8686800" y="62544"/>
                  <a:pt x="8686800" y="139696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139696"/>
                </a:lnTo>
                <a:cubicBezTo>
                  <a:pt x="0" y="62544"/>
                  <a:pt x="62544" y="0"/>
                  <a:pt x="139696" y="0"/>
                </a:cubicBez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7F2A-65B6-433F-8B5B-B19252B5C788}" type="slidenum">
              <a:rPr b="0" lang="en-US" sz="12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1657-8312-4C73-B286-6E429C1DDA1E}" type="slidenum">
              <a:rPr b="0" lang="en-US" sz="12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ound Same Side Corner Rectangle 8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87DA-3E53-4FD3-9A0E-14CB4B9EF4E4}" type="slidenum">
              <a:rPr b="0" lang="en-US" sz="12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ound Same Side Corner Rectangle 8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traight Connector 11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F7B3-3D2F-4B4F-8049-3FCB29615384}" type="slidenum">
              <a:rPr b="0" lang="en-US" sz="12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ound Same Side Corner Rectangle 8"/>
          <p:cNvSpPr/>
          <p:nvPr/>
        </p:nvSpPr>
        <p:spPr>
          <a:xfrm rot="5400000">
            <a:off x="4862520" y="2300040"/>
            <a:ext cx="6095880" cy="1952640"/>
          </a:xfrm>
          <a:custGeom>
            <a:avLst/>
            <a:gdLst/>
            <a:ahLst/>
            <a:rect l="l" t="t" r="r" b="b"/>
            <a:pathLst>
              <a:path w="6096000" h="1952625">
                <a:moveTo>
                  <a:pt x="95718" y="0"/>
                </a:moveTo>
                <a:lnTo>
                  <a:pt x="6000282" y="0"/>
                </a:lnTo>
                <a:cubicBezTo>
                  <a:pt x="6053146" y="0"/>
                  <a:pt x="6096000" y="42854"/>
                  <a:pt x="6096000" y="95718"/>
                </a:cubicBezTo>
                <a:lnTo>
                  <a:pt x="6096000" y="1952625"/>
                </a:lnTo>
                <a:lnTo>
                  <a:pt x="6096000" y="1952625"/>
                </a:lnTo>
                <a:lnTo>
                  <a:pt x="0" y="1952625"/>
                </a:lnTo>
                <a:lnTo>
                  <a:pt x="0" y="1952625"/>
                </a:lnTo>
                <a:lnTo>
                  <a:pt x="0" y="95718"/>
                </a:lnTo>
                <a:cubicBezTo>
                  <a:pt x="0" y="42854"/>
                  <a:pt x="42854" y="0"/>
                  <a:pt x="95718" y="0"/>
                </a:cubicBez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5423-C889-4595-BF4B-F44DAB45687C}" type="slidenum">
              <a:rPr b="0" lang="en-US" sz="12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6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The Crisis Deepens:</a:t>
            </a:r>
            <a:br>
              <a:rPr sz="48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Dred Scott Decision and Lincoln-Douglas Debat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04920" y="4800240"/>
            <a:ext cx="85341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ed1"/>
                </a:solidFill>
                <a:latin typeface="Arial"/>
              </a:rPr>
              <a:t>EQ: How did the Dred Scott Decision and the Lincoln-Douglas Debates increase sectional tens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Lincoln and Douglas Clash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304920" y="1599840"/>
            <a:ext cx="8534160" cy="480060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4"/>
          <p:cNvSpPr/>
          <p:nvPr/>
        </p:nvSpPr>
        <p:spPr>
          <a:xfrm>
            <a:off x="304920" y="1600200"/>
            <a:ext cx="8610480" cy="48769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Lincoln’s social views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0000"/>
              </a:lnSpc>
              <a:spcBef>
                <a:spcPts val="1749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Lincoln stressed the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mmorality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of slavery in the deba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0000"/>
              </a:lnSpc>
              <a:spcBef>
                <a:spcPts val="1749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Douglas referred to Lincoln’s party as Black Republicans and painted an image of a society where the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aces were equal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, pressing Lincoln on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citizenship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for blac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0000"/>
              </a:lnSpc>
              <a:spcBef>
                <a:spcPts val="1749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Backed into a corner, Lincoln said, 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“I will say that I am not, nor have ever been in favor of bringing about in any way the social and political </a:t>
            </a:r>
            <a:r>
              <a:rPr b="1" i="1" lang="en-US" sz="2800" spc="-1" strike="noStrike">
                <a:solidFill>
                  <a:srgbClr val="ffff99"/>
                </a:solidFill>
                <a:latin typeface="Arial"/>
              </a:rPr>
              <a:t>equality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 of the white and black races.”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Debates’ Significanc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143000"/>
            <a:ext cx="8305920" cy="5410080"/>
          </a:xfrm>
          <a:prstGeom prst="rect">
            <a:avLst/>
          </a:prstGeom>
          <a:solidFill>
            <a:srgbClr val="ffff99"/>
          </a:solidFill>
          <a:ln w="12600">
            <a:solidFill>
              <a:srgbClr val="4e8542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60000"/>
              </a:lnSpc>
              <a:spcBef>
                <a:spcPts val="125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eciding who w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lnSpc>
                <a:spcPct val="90000"/>
              </a:lnSpc>
              <a:spcBef>
                <a:spcPts val="125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Douglas retained his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enate seat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, but most historians judge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Lincoln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to have won the debates. He had argued the more famous Douglas to a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raw and in the process made himself a national fig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25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upporters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lnSpc>
                <a:spcPct val="90000"/>
              </a:lnSpc>
              <a:spcBef>
                <a:spcPts val="125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Douglas’s statements caused him to lose support of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outhern Democrats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, which proved critical when he faced Lincoln again in the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residential election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. Lincoln’s moderate positions increased his standing among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northerners,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but southerners still thought Lincoln was a serious threat to slavery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25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peaking to the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lnSpc>
                <a:spcPct val="90000"/>
              </a:lnSpc>
              <a:spcBef>
                <a:spcPts val="125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Lincoln and Douglas took their arguments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irectly to the people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and made the issues of the day clear to the nation. The outcome directly affected the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residential election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of 186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he Dred Scott Decis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560" y="1599840"/>
            <a:ext cx="5181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intiff- Dred Scott (a sla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ndant- Irene Emerson (his owner’s wid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reme Court Justice- Roger B. Tan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7" descr="DRED-SCOTT"/>
          <p:cNvPicPr/>
          <p:nvPr/>
        </p:nvPicPr>
        <p:blipFill>
          <a:blip r:embed="rId1"/>
          <a:stretch/>
        </p:blipFill>
        <p:spPr>
          <a:xfrm>
            <a:off x="5410080" y="1905120"/>
            <a:ext cx="3429000" cy="418284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Judicial Decision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9f293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Scott have the right to sue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f293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Scott free as a result of living in a state and territory where slavery was illegal?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f293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it constitutional for the Congress to limit slavery in the territori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1" descr="Dred Scott.jpg"/>
          <p:cNvPicPr/>
          <p:nvPr/>
        </p:nvPicPr>
        <p:blipFill>
          <a:blip r:embed="rId1"/>
          <a:stretch/>
        </p:blipFill>
        <p:spPr>
          <a:xfrm>
            <a:off x="480960" y="139680"/>
            <a:ext cx="818208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aney’s Decis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19" name="Picture 2" descr="http://2.bp.blogspot.com/_2tggLZ2rGkg/SQBj5BAbSHI/AAAAAAAAEQU/UqL0M2v2FB0/s400/417px-Roger_B__Taney_-_Brady-Handy-full.jpg"/>
          <p:cNvPicPr/>
          <p:nvPr/>
        </p:nvPicPr>
        <p:blipFill>
          <a:blip r:embed="rId1"/>
          <a:stretch/>
        </p:blipFill>
        <p:spPr>
          <a:xfrm>
            <a:off x="6400800" y="152280"/>
            <a:ext cx="2495520" cy="35910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304920" y="1599840"/>
            <a:ext cx="7238880" cy="4800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Scott have the right to su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, because he is not a citi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Scott free as a result of living in a state and territory where slavery was illegal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, he is considered property and right to property is protected by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it constitutional for the Congress to limit slavery in the territori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, all laws that do so (including the Missouri Compromise) are unconstitu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1" name="Straight Arrow Connector 5"/>
          <p:cNvCxnSpPr/>
          <p:nvPr/>
        </p:nvCxnSpPr>
        <p:spPr>
          <a:xfrm>
            <a:off x="6933960" y="3886200"/>
            <a:ext cx="5338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2" name="Straight Arrow Connector 8"/>
          <p:cNvCxnSpPr/>
          <p:nvPr/>
        </p:nvCxnSpPr>
        <p:spPr>
          <a:xfrm>
            <a:off x="6248520" y="5790960"/>
            <a:ext cx="8388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3" name="TextBox 9"/>
          <p:cNvSpPr/>
          <p:nvPr/>
        </p:nvSpPr>
        <p:spPr>
          <a:xfrm>
            <a:off x="7391520" y="4267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Box 13"/>
          <p:cNvSpPr/>
          <p:nvPr/>
        </p:nvSpPr>
        <p:spPr>
          <a:xfrm>
            <a:off x="7157520" y="5638680"/>
            <a:ext cx="197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c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228600" y="76320"/>
            <a:ext cx="83818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Black"/>
              </a:rPr>
              <a:t>The Lincoln-Douglas 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 Black"/>
              </a:rPr>
              <a:t>(Illinois Senate) Debates, 185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6" descr="debatex_030801"/>
          <p:cNvPicPr/>
          <p:nvPr/>
        </p:nvPicPr>
        <p:blipFill>
          <a:blip r:embed="rId1"/>
          <a:srcRect l="0" t="0" r="0" b="2003"/>
          <a:stretch/>
        </p:blipFill>
        <p:spPr>
          <a:xfrm>
            <a:off x="4343400" y="1201680"/>
            <a:ext cx="4419720" cy="35226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327" name="Text Box 8"/>
          <p:cNvSpPr/>
          <p:nvPr/>
        </p:nvSpPr>
        <p:spPr>
          <a:xfrm>
            <a:off x="4724280" y="4876920"/>
            <a:ext cx="4267440" cy="17852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ffffff"/>
                </a:solidFill>
                <a:latin typeface="Wrangler"/>
              </a:rPr>
              <a:t>A </a:t>
            </a:r>
            <a:r>
              <a:rPr b="1" i="1" lang="en-US" sz="3700" spc="-1" strike="noStrike" u="sng">
                <a:solidFill>
                  <a:srgbClr val="ffffff"/>
                </a:solidFill>
                <a:uFillTx/>
                <a:latin typeface="Wrangler"/>
              </a:rPr>
              <a:t>House divided</a:t>
            </a:r>
            <a:r>
              <a:rPr b="1" i="1" lang="en-US" sz="3700" spc="-1" strike="noStrike">
                <a:solidFill>
                  <a:srgbClr val="ffffff"/>
                </a:solidFill>
                <a:latin typeface="Wrangler"/>
              </a:rPr>
              <a:t> against itself, cannot stand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9" descr="Lincoln-Douglasdebate syamp"/>
          <p:cNvPicPr/>
          <p:nvPr/>
        </p:nvPicPr>
        <p:blipFill>
          <a:blip r:embed="rId2"/>
          <a:stretch/>
        </p:blipFill>
        <p:spPr>
          <a:xfrm>
            <a:off x="685800" y="1752480"/>
            <a:ext cx="2971800" cy="19447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329" name="Picture 10" descr="Lincoln-Douglasdebate - 1"/>
          <p:cNvPicPr/>
          <p:nvPr/>
        </p:nvPicPr>
        <p:blipFill>
          <a:blip r:embed="rId3"/>
          <a:stretch/>
        </p:blipFill>
        <p:spPr>
          <a:xfrm>
            <a:off x="304920" y="4060800"/>
            <a:ext cx="4343400" cy="249228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10" descr="http://open.salon.com/files/last_lincoln1236790135.jpg"/>
          <p:cNvPicPr/>
          <p:nvPr/>
        </p:nvPicPr>
        <p:blipFill>
          <a:blip r:embed="rId1"/>
          <a:stretch/>
        </p:blipFill>
        <p:spPr>
          <a:xfrm>
            <a:off x="5257800" y="-762120"/>
            <a:ext cx="3533760" cy="411480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incoln and Douglas Clash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2133720" y="3505320"/>
            <a:ext cx="6248160" cy="25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Lincoln helped organize the Illinois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publican Party 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in 1856. He opposed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ephen Douglas’s 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bid for a third term in the U.S. Senate. Lincoln spoke eloquently at his nomination, taking the most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adical stance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against slavery with the prediction “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 house divided against itself cannot stand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228600" y="2286000"/>
            <a:ext cx="189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2c3e"/>
                </a:solidFill>
                <a:latin typeface="Verdana"/>
              </a:rPr>
              <a:t>Lincoln retu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2133720" y="2362320"/>
            <a:ext cx="62481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After the passage of the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ansas-Nebraska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Act, Lincoln returned to public lif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228600" y="4267080"/>
            <a:ext cx="186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2c3e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e2c3e"/>
                </a:solidFill>
                <a:latin typeface="Verdana"/>
              </a:rPr>
              <a:t>A house divide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he Lincoln Douglas Debat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txBody>
          <a:bodyPr anchor="t">
            <a:normAutofit/>
          </a:bodyPr>
          <a:p>
            <a:pPr marL="271440" indent="-271440">
              <a:spcBef>
                <a:spcPts val="1749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e debates were a series of public meetings. While Douglas spoke with great flair, Lincoln’s manner was mild. His strength lay in the logic and reasoning of his ideas</a:t>
            </a: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1749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As you analyze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Documents, identify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Political platforms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Candid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http://www.andyamato.com/images/lin%20doug%20web%202.jpg"/>
          <p:cNvPicPr/>
          <p:nvPr/>
        </p:nvPicPr>
        <p:blipFill>
          <a:blip r:embed="rId1"/>
          <a:stretch/>
        </p:blipFill>
        <p:spPr>
          <a:xfrm>
            <a:off x="5257800" y="3110040"/>
            <a:ext cx="33336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incoln and Douglas Clash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33520" y="990720"/>
            <a:ext cx="4495680" cy="54864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The Freeport Doctr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3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second 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debate was the most critica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3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Lincoln challenged Douglas to explain how people could use 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popular sovereignty 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to keep slavery out of a place when the </a:t>
            </a:r>
            <a:r>
              <a:rPr b="1" i="1" lang="en-US" sz="2200" spc="-1" strike="noStrike">
                <a:solidFill>
                  <a:srgbClr val="ffff99"/>
                </a:solidFill>
                <a:latin typeface="Arial"/>
              </a:rPr>
              <a:t>Dred Scott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 decision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 had said they could no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3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Douglas’s reply came to be known as the 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Freeport Doctrine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. “</a:t>
            </a:r>
            <a:r>
              <a:rPr b="0" i="1" lang="en-US" sz="2200" spc="-1" strike="noStrike">
                <a:solidFill>
                  <a:srgbClr val="ffff99"/>
                </a:solidFill>
                <a:latin typeface="Arial"/>
              </a:rPr>
              <a:t>If the people are opposed to slavery they will elect representatives to that body who will by unfriendly legislation . . . prevent the introduction of it into their midst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6" descr="http://www.sonofthesouth.net/slavery/pictures/stephen-a-douglas.jpg"/>
          <p:cNvPicPr/>
          <p:nvPr/>
        </p:nvPicPr>
        <p:blipFill>
          <a:blip r:embed="rId1"/>
          <a:stretch/>
        </p:blipFill>
        <p:spPr>
          <a:xfrm>
            <a:off x="5257800" y="1295280"/>
            <a:ext cx="3490920" cy="451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0T14:46:42Z</dcterms:created>
  <dc:creator>MIS</dc:creator>
  <dc:description/>
  <dc:language>en-US</dc:language>
  <cp:lastModifiedBy>Amy Davis</cp:lastModifiedBy>
  <dcterms:modified xsi:type="dcterms:W3CDTF">2018-01-22T20:03:42Z</dcterms:modified>
  <cp:revision>57</cp:revision>
  <dc:subject/>
  <dc:title>PowerPoint Presentation</dc:title>
</cp:coreProperties>
</file>