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3240" cy="35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7810-CAC3-4D0B-A2EB-371D19C31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C3FF-DCBA-4910-9BEC-0C9527B12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FD1A-DFBE-41F1-AABD-75FF0CF44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3351-BE0B-4483-9404-502B78BEF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A3C-9FC4-4475-93CB-05A2EC33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DE8-3F2C-4025-92FD-27602CB9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96B-11C4-4C86-9C43-674E3D22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FC4-F638-47B4-A495-A056A715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06F7-37AD-4568-9011-5CDC8D33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3732-D7A5-4446-83FC-E9B08EAF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CD68-AC31-4978-BEB6-89AA4958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FE63-8483-4243-AA36-19299835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AA24-9D95-4CDE-91E7-E7A058C8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68E7-191E-404D-BA11-4152246A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DF05-97A5-46D3-A55A-EA343C0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4C8-978E-436C-AD46-2357DB04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D483-9729-432B-87FA-CEDC0BC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936B-80DD-46C9-84BC-8DE8D6BC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9CC5-6708-4BC2-A28B-B46A4446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0336-2C2C-4CFC-B7B6-77963A4B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A193-8804-40A9-8C15-7D01381C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75C0-96FD-49C9-A2E2-30B1AAF5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3A65-9BC9-4240-84EF-343ADE6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47154-2F97-424B-B187-7EDD31AB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7351-6474-4B80-840D-F25C7013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537E-7819-426F-AC7A-7FAF0C31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7CC-153E-4C98-989C-236DD7A6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4EC6-B3DE-4F5E-9CBC-297A1B38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185B-9867-4C5B-A99B-F4E931B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78B0-E75C-48C7-8FD3-60DBCBF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24C8A-7628-4219-AFEA-8FD1E30D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A88B-194B-4106-B2FC-C6D4BFCD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8F58-D558-41DD-A274-3302DC4E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9437-10BB-42E8-8068-91DE65AB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4C032-CBB0-426F-ACB6-BD2B10A2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830B-F08C-45D0-B226-F00FB0E1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26C5-B1C8-4F5E-AF9B-5281605A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A6A-BCBF-4AF3-826B-27024A50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E7641-ED0F-4E5D-A503-9AC1F372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FC94-A34A-4032-9C79-E3405168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73B2-B2F7-451D-9055-C3638223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DB982-3F39-421D-8E5F-B8686EC7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7E87E-85E9-4C45-9F89-DD2B36F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CAD9E-B911-4C50-8692-ABDA444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9D78C-6C7F-498E-B9D2-526F7B0A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3FA75-D7B5-49DC-9B2B-22BD018D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7568D-DC40-4B70-AF4B-091381AC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FC91A-F02D-4005-B9B8-2D4A6591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9A0-A206-45B1-B610-DF2B8391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7179-AF26-46BA-B049-8805B2E8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00551-AE78-4E82-B500-3510D467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E53F2-3C17-4E2B-A1A6-18C4ED00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FA84D-B2C9-473A-8F5E-D54347D9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72720-5FBD-4110-B546-D5B3A7E3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5737-44DB-42DB-90C7-C0EE36BA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17F2F-F357-4CC1-901A-DF28B75A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319B5-C710-49BB-8B25-0FEFB730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68FF9-D493-4D9F-B208-2F1F4474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EE3F2-0904-449E-9900-FB7D7578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9FC-056B-4202-B3F8-59F62588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9B034-1EE2-432E-A1BD-702E106C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AC3C8-EA62-4BE1-BE4C-84639C13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C066D-5CC4-48BC-9FEA-D621265A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1E528-7A16-49E3-9B94-06380B95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90A5F-B739-4BEC-9A1C-43C6CBAD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F9FA7-3B32-497C-837C-913D850E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27AF-08CB-477A-941B-BDCA8D58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CF85C-984E-4B4F-BDF9-013337AA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7AE6-CB98-4917-A5CB-103C942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C0E78-8E06-4638-BEFE-F83218AD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C8B-0343-4535-9A49-EAC8031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D0D4E-3799-442F-8501-BDE9EE23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D5251-2992-41B2-A8A7-C44ED7AB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A8DF3-34D8-48E2-BC68-91ED7E9B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4FA63-4851-4031-B252-8081C550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F58FC-EA89-45DF-BCCA-995EE3F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5307-8DBF-41B5-8A7A-17DE3854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B8F02-B6C1-491B-A594-6ED800BB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DFEAC-7C39-4CC9-93B1-18D22FA2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C2509-D59B-4ABE-825D-AF5A33A3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817F3-CA87-4EE2-921C-23F8B9AC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DBE-D2E2-454E-BCCD-F7B2FB35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79713-692D-4ADF-B288-25906DA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E0E4B-58F5-45A5-AA34-39C7E266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4F468-38DA-4BF2-96C4-AE1CEBC7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58BE6-A097-4792-AE76-CAD9E84E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9EEA4-C3B9-4931-8E3A-178BA06A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755-0AFB-417A-9A42-D0CD15F7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CE58-61B4-44AE-A2BE-B7B8F7DC5434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9717-F18B-4E8B-9028-DC6C5BC780A6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E2B2-AE54-4A3A-A5B9-80181D5FB7B9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C65F-D4BC-459C-9792-4B7E62EF47D3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030B-32EC-47FA-BF7A-8C2498962C8B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9E79-2477-49A8-A00C-6936E061EC9D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2140-EB6C-43ED-B061-18EAFE4DE1BF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Crisis Deepens: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red Scott Decision and Lincoln-Douglas Deb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ed1"/>
                </a:solidFill>
                <a:latin typeface="Arial"/>
              </a:rPr>
              <a:t>EQ: How did the Dred Scott Decision and the Lincoln-Douglas Debates increase sectional 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4920" y="1599840"/>
            <a:ext cx="8534160" cy="48006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Lincoln’s social views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incoln stressed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mmorality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of slavery in the deb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ouglas referred to Lincoln’s party as Black Republicans and painted an image of a society where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aces were equa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 pressing Lincoln on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itizenship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for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acked into a corner, Lincoln said,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“I will say that I am not, nor have ever been in favor of bringing about in any way the social and political 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equality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of the white and black races.”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ebates’ Significan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143000"/>
            <a:ext cx="8305920" cy="5410080"/>
          </a:xfrm>
          <a:prstGeom prst="rect">
            <a:avLst/>
          </a:prstGeom>
          <a:solidFill>
            <a:srgbClr val="ffff99"/>
          </a:solidFill>
          <a:ln w="12600">
            <a:solidFill>
              <a:srgbClr val="4e8542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6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iding who w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 retained hi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nate seat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but most historians judg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col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to have won the debates. He had argued the more famous Douglas to a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raw and in the process made himself a national fig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upporter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’s statements caused him to lose support of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uthern Democrat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which proved critical when he faced Lincoln again in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. Lincoln’s moderate positions increased his standing among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rtherners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ut southerners still thought Lincoln was a serious threat to slavery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peaking to th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incoln and Douglas took their argument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irectly to the people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d made the issues of the day clear to the nation. The outcome directly affected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f 18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Dred Scott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560" y="15998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tiff- Dred Scott (a sl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ant- Irene Emerson (his owner’s wid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Court Justice- Roger B. T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DRED-SCOTT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4182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Judicial Decis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cott have the right to su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" descr="Dred Scott.jpg"/>
          <p:cNvPicPr/>
          <p:nvPr/>
        </p:nvPicPr>
        <p:blipFill>
          <a:blip r:embed="rId1"/>
          <a:stretch/>
        </p:blipFill>
        <p:spPr>
          <a:xfrm>
            <a:off x="480960" y="139680"/>
            <a:ext cx="818208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ney’s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19" name="Picture 2" descr="http://2.bp.blogspot.com/_2tggLZ2rGkg/SQBj5BAbSHI/AAAAAAAAEQU/UqL0M2v2FB0/s400/417px-Roger_B__Taney_-_Brady-Handy-full.jpg"/>
          <p:cNvPicPr/>
          <p:nvPr/>
        </p:nvPicPr>
        <p:blipFill>
          <a:blip r:embed="rId1"/>
          <a:stretch/>
        </p:blipFill>
        <p:spPr>
          <a:xfrm>
            <a:off x="6400800" y="152280"/>
            <a:ext cx="2495520" cy="3591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04920" y="1599840"/>
            <a:ext cx="723888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Scott have the right to su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because he is not a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he is considered property and right to property is protected b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all laws that do so (including the Missouri Compromise) are unco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5"/>
          <p:cNvCxnSpPr/>
          <p:nvPr/>
        </p:nvCxnSpPr>
        <p:spPr>
          <a:xfrm>
            <a:off x="6933960" y="388620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Straight Arrow Connector 8"/>
          <p:cNvCxnSpPr/>
          <p:nvPr/>
        </p:nvCxnSpPr>
        <p:spPr>
          <a:xfrm>
            <a:off x="6248520" y="5790960"/>
            <a:ext cx="8388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TextBox 9"/>
          <p:cNvSpPr/>
          <p:nvPr/>
        </p:nvSpPr>
        <p:spPr>
          <a:xfrm>
            <a:off x="7391520" y="4267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7157520" y="563868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28600" y="7632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The Lincoln-Douglas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(Illinois Senate) Debates, 18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6" descr="debatex_030801"/>
          <p:cNvPicPr/>
          <p:nvPr/>
        </p:nvPicPr>
        <p:blipFill>
          <a:blip r:embed="rId1"/>
          <a:srcRect l="0" t="0" r="0" b="2003"/>
          <a:stretch/>
        </p:blipFill>
        <p:spPr>
          <a:xfrm>
            <a:off x="4343400" y="1201680"/>
            <a:ext cx="4419720" cy="3522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327" name="Text Box 8"/>
          <p:cNvSpPr/>
          <p:nvPr/>
        </p:nvSpPr>
        <p:spPr>
          <a:xfrm>
            <a:off x="4724280" y="4876920"/>
            <a:ext cx="4267440" cy="1785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A </a:t>
            </a:r>
            <a:r>
              <a:rPr b="1" i="1" lang="en-US" sz="3700" spc="-1" strike="noStrike" u="sng">
                <a:solidFill>
                  <a:srgbClr val="ffffff"/>
                </a:solidFill>
                <a:uFillTx/>
                <a:latin typeface="Wrangler"/>
              </a:rPr>
              <a:t>House divided</a:t>
            </a: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 against itself, cannot stand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9" descr="Lincoln-Douglasdebate syamp"/>
          <p:cNvPicPr/>
          <p:nvPr/>
        </p:nvPicPr>
        <p:blipFill>
          <a:blip r:embed="rId2"/>
          <a:stretch/>
        </p:blipFill>
        <p:spPr>
          <a:xfrm>
            <a:off x="685800" y="1752480"/>
            <a:ext cx="2971800" cy="194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329" name="Picture 10" descr="Lincoln-Douglasdebate - 1"/>
          <p:cNvPicPr/>
          <p:nvPr/>
        </p:nvPicPr>
        <p:blipFill>
          <a:blip r:embed="rId3"/>
          <a:stretch/>
        </p:blipFill>
        <p:spPr>
          <a:xfrm>
            <a:off x="304920" y="4060800"/>
            <a:ext cx="4343400" cy="24922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0" descr="http://open.salon.com/files/last_lincoln1236790135.jpg"/>
          <p:cNvPicPr/>
          <p:nvPr/>
        </p:nvPicPr>
        <p:blipFill>
          <a:blip r:embed="rId1"/>
          <a:stretch/>
        </p:blipFill>
        <p:spPr>
          <a:xfrm>
            <a:off x="5257800" y="-762120"/>
            <a:ext cx="3533760" cy="41148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133720" y="3505320"/>
            <a:ext cx="6248160" cy="25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incoln helped organize the Illinoi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ublican Party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 1856. He oppose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hen Douglas’s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id for a third term in the U.S. Senate. Lincoln spoke eloquently at his nomination, taking the mos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dical stanc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gainst slavery with the prediction “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 house divided against itself cannot stand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28600" y="2286000"/>
            <a:ext cx="18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Lincoln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33720" y="2362320"/>
            <a:ext cx="62481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fter the passage of th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ansas-Nebraska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ct, Lincoln returned to public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228600" y="4267080"/>
            <a:ext cx="18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A house divid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Lincoln Douglas Debat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txBody>
          <a:bodyPr anchor="t">
            <a:normAutofit/>
          </a:bodyPr>
          <a:p>
            <a:pPr marL="271440" indent="-271440"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debates were a series of public meetings. While Douglas spoke with great flair, Lincoln’s manner was mild. His strength lay in the logic and reasoning of his ideas</a:t>
            </a: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s you analyz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cuments, identif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olitical platform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ndi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http://www.andyamato.com/images/lin%20doug%20web%202.jpg"/>
          <p:cNvPicPr/>
          <p:nvPr/>
        </p:nvPicPr>
        <p:blipFill>
          <a:blip r:embed="rId1"/>
          <a:stretch/>
        </p:blipFill>
        <p:spPr>
          <a:xfrm>
            <a:off x="5257800" y="311004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990720"/>
            <a:ext cx="4495680" cy="5486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The Freeport Doct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second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ebate was the most critic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Lincoln challenged Douglas to explain how people could us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popular sovereignty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o keep slavery out of a place when the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Dred Scott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decision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had said they could no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ouglas’s reply came to be known as 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Freeport Doctrin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. “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If the people are opposed to slavery they will elect representatives to that body who will by unfriendly legislation . . . prevent the introduction of it into their mids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http://www.sonofthesouth.net/slavery/pictures/stephen-a-douglas.jpg"/>
          <p:cNvPicPr/>
          <p:nvPr/>
        </p:nvPicPr>
        <p:blipFill>
          <a:blip r:embed="rId1"/>
          <a:stretch/>
        </p:blipFill>
        <p:spPr>
          <a:xfrm>
            <a:off x="5257800" y="1295280"/>
            <a:ext cx="3490920" cy="45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4:46:42Z</dcterms:created>
  <dc:creator>MIS</dc:creator>
  <dc:description/>
  <dc:language>en-US</dc:language>
  <cp:lastModifiedBy>Amy Davis</cp:lastModifiedBy>
  <dcterms:modified xsi:type="dcterms:W3CDTF">2018-01-22T20:03:42Z</dcterms:modified>
  <cp:revision>57</cp:revision>
  <dc:subject/>
  <dc:title>PowerPoint Presentation</dc:title>
</cp:coreProperties>
</file>