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E2EB-67E2-4035-A67D-5A99B31D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1CDA-CC51-4D62-84BF-10C75C0BB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A7A3-2098-498C-B79C-1FA899BC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6C6E-E1B2-4C46-B1C8-A44042DD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725-E370-47BA-8210-D7EE934D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DDB-F147-4191-A901-B169D22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EB8-2220-4B8A-8EB1-A484CD4A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182-C7C8-490F-B2A3-1D34A2D0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2B5C-7F6B-4A22-A0E5-A4F523D0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2293-89A7-40B4-9331-AB62389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DEDB-34F1-4711-822B-0B755A8F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0848-FC05-44B0-BC19-AA7061E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5C7-CFCF-4D40-81A2-47BD373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3DE5-4DD5-4AA1-BDC0-8B43093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8D76-7EBA-46C3-BD31-260F07F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A1B-5B1A-4254-9922-C4FE5666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0CD-9DEB-4443-B7DE-5AC58D3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E09-FFC1-46BB-AD56-A047E9E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949-C94B-482F-90BE-2B3569D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A76-9BCA-402D-A898-312918C5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D1FD-8F4C-45F7-8A6B-279ED120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864E-48EB-42FB-A784-E3D53CFE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F929-EE78-4D6C-93A7-093EF7CB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D8FA-7F05-429D-88C6-7075E52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6B976-8F2A-4173-97A2-8572AC7F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7DA2-F731-44CF-AD1D-8493473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F05-D6F3-4641-9E13-3B4015F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2048-9503-4A7F-A1E7-D7CEB83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F80D-968D-4EBD-85CE-063F6A8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850E-2E4B-45FB-87AC-272ACA0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E4A7-44F8-4711-A00D-EB25813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B15B-334E-4B37-A20D-5CA14C2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143C-121B-492E-A572-EB34BF6C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AFA2-3724-45A2-8470-84AF78B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9E74-C28F-4B38-9090-40B0744B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74EC-E4FC-43E4-B0A7-3573BE7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3EA5-0F93-4C4B-90A3-A423ECA3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05B-B3B6-471F-9FAF-8AA4D309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547F-D8FD-4B96-9AB0-C0357891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0883-6584-4ED5-A6D9-ACF43550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25CE-89F2-45FE-86E3-96606AD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A50C-808D-4EF1-9081-FE4622D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38A1-3BA7-4CB7-A16E-FF5ABDA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4B42-FBE4-47E7-B00D-62A1D8BF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7599-5AEE-4FF2-B6EB-2D158491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3BB6-E2AA-4AB8-8636-4A910EBF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2C5B-32B0-446F-9970-5D11E5E3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8688-A14D-4178-9668-3D7E701D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9D2-369E-466C-9404-FD4E26BB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BDB42-F8E2-41BD-867B-D80D8E61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5085-AF99-42E8-B62D-57A25B9F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BA59-D9AF-47E7-BFF9-7BFF57BE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143D-DFBB-4154-8989-A37E6E0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C060-3CEE-4D06-BC97-0CB08457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798A-B846-4020-99E6-CD3E536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0FAC-E713-45EB-AB5D-C344C61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1D2E6-E5A4-4C0D-B45F-613C7C6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C6F3A-F24C-405A-A0A4-55808C9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5716-91F7-43D0-9D7E-E2920F19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F32-6AA5-43D9-B050-DA4314F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A79E-B98F-46E7-BDE5-6C595A36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A09D-5C5B-4087-BC7A-944A79C3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9790-595B-4267-8C9E-94A364F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345C-C378-4A2D-96CB-AA99240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DF67-E315-4AAF-B2C6-4F83B529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C7FCC-196F-4162-9CA2-8A1AE3DC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7BE5-CC94-4445-93CC-0A723572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B0429-43AA-4404-99B2-99E460EE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1F550-C936-46A1-AFD0-D4AD084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21DE9-E749-4E03-BDBF-F4929905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482-DAF7-43DE-B3B4-95C6801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A17C-1D0F-4EDE-B47E-3C1E1EAB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6813-DC98-4027-8733-5AFE052A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9584-D5C7-4064-A972-C51CACFD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D725-5D99-4C96-9F3C-69E12DE1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68C74-8801-4A28-B70A-3D1B2D22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5C1FF-141C-4047-AE7F-9EEEED8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51E9-6406-445C-840A-8BFF55DE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4982-1376-4471-96AE-A9D3360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0E74-05BD-40DC-AF65-83E95BF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5D74-80CE-4EC2-9916-F9285A5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E18-79BD-4EF2-AD69-0FEF1DF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E123-4531-4B8C-BCFA-07E15141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892B-86A1-4C2A-BA5D-FAAE716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3EC1F-45FE-498E-8CC0-AFAEA1E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68EF-CD1E-4DA3-9BAF-40176B2A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907F-2856-49A9-B9C9-62758566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D94-634C-4ED8-86B2-6031EEA0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09B6-CA06-4007-9C98-7DFC2B3CF5CC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7F39-7E85-435A-AC26-FD1BF559DCF5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01BD-B9A5-49BC-BA8B-7AADC96C9F2F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FB67-9F28-4B03-A579-58920427927C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9540-7526-4B7F-9372-7017D09EFCEE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954-4B8B-4CC5-9128-93FE9CFB3B28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EA28-1629-496D-8F39-4C934F9AD25C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Crisis Deepens: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red Scott Decision and Lincoln-Douglas Deb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ed1"/>
                </a:solidFill>
                <a:latin typeface="Arial"/>
              </a:rPr>
              <a:t>EQ: How did the Dred Scott Decision and the Lincoln-Douglas Debates increase sectional 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59984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ncoln’s social view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incoln stressed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moralit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f slavery in the deb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uglas referred to Lincoln’s party as Black Republicans and painted an image of a society wher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aces were equ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pressing Lincoln on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itizenshi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for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acked into a corner, Lincoln said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“I will say that I am not, nor have ever been in favor of bringing about in any way the social and political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equality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of the white and black races.”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ebates’ Signific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4e8542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6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iding who 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 retained h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nate sea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but most historians judg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col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to have won the debates. He had argued the more famous Douglas to a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raw and in the process made himself a national fig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pporter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’s statements caused him to lose support of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uthern Democrat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which proved critical when he faced Lincoln again in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. Lincoln’s moderate positions increased his standing among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rtherners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ut southerners still thought Lincoln was a serious threat to slaver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eaking to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ncoln and Douglas took their argument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irectly to the people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d made the issues of the day clear to the nation. The outcome directly affected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f 18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Dred Scott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56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iff- Dred Scott (a sl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ant- Irene Emerson (his owner’s wi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Court Justice- Roger B. T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DRED-SCOTT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4182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udicial Decis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cott have the right to su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Dred Scott.jpg"/>
          <p:cNvPicPr/>
          <p:nvPr/>
        </p:nvPicPr>
        <p:blipFill>
          <a:blip r:embed="rId1"/>
          <a:stretch/>
        </p:blipFill>
        <p:spPr>
          <a:xfrm>
            <a:off x="480960" y="139680"/>
            <a:ext cx="81820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ney’s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Picture 2" descr="http://2.bp.blogspot.com/_2tggLZ2rGkg/SQBj5BAbSHI/AAAAAAAAEQU/UqL0M2v2FB0/s400/417px-Roger_B__Taney_-_Brady-Handy-full.jpg"/>
          <p:cNvPicPr/>
          <p:nvPr/>
        </p:nvPicPr>
        <p:blipFill>
          <a:blip r:embed="rId1"/>
          <a:stretch/>
        </p:blipFill>
        <p:spPr>
          <a:xfrm>
            <a:off x="6400800" y="152280"/>
            <a:ext cx="2495520" cy="359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04920" y="1599840"/>
            <a:ext cx="723888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Scott have the right to s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because he is not a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he is considered property and right to property is protected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all laws that do so (including the Missouri Compromise) are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5"/>
          <p:cNvCxnSpPr/>
          <p:nvPr/>
        </p:nvCxnSpPr>
        <p:spPr>
          <a:xfrm>
            <a:off x="6933960" y="388620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8"/>
          <p:cNvCxnSpPr/>
          <p:nvPr/>
        </p:nvCxnSpPr>
        <p:spPr>
          <a:xfrm>
            <a:off x="6248520" y="5790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9"/>
          <p:cNvSpPr/>
          <p:nvPr/>
        </p:nvSpPr>
        <p:spPr>
          <a:xfrm>
            <a:off x="7391520" y="4267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157520" y="56386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28600" y="763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Lincoln-Dougla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(Illinois Senate) Debates, 18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debatex_030801"/>
          <p:cNvPicPr/>
          <p:nvPr/>
        </p:nvPicPr>
        <p:blipFill>
          <a:blip r:embed="rId1"/>
          <a:srcRect l="0" t="0" r="0" b="2003"/>
          <a:stretch/>
        </p:blipFill>
        <p:spPr>
          <a:xfrm>
            <a:off x="4343400" y="1201680"/>
            <a:ext cx="4419720" cy="3522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27" name="Text Box 8"/>
          <p:cNvSpPr/>
          <p:nvPr/>
        </p:nvSpPr>
        <p:spPr>
          <a:xfrm>
            <a:off x="4724280" y="4876920"/>
            <a:ext cx="4267440" cy="1785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A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Wrangler"/>
              </a:rPr>
              <a:t>House divided</a:t>
            </a: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 against itself, cannot stan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Lincoln-Douglasdebate syamp"/>
          <p:cNvPicPr/>
          <p:nvPr/>
        </p:nvPicPr>
        <p:blipFill>
          <a:blip r:embed="rId2"/>
          <a:stretch/>
        </p:blipFill>
        <p:spPr>
          <a:xfrm>
            <a:off x="685800" y="1752480"/>
            <a:ext cx="297180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29" name="Picture 10" descr="Lincoln-Douglasdebate - 1"/>
          <p:cNvPicPr/>
          <p:nvPr/>
        </p:nvPicPr>
        <p:blipFill>
          <a:blip r:embed="rId3"/>
          <a:stretch/>
        </p:blipFill>
        <p:spPr>
          <a:xfrm>
            <a:off x="304920" y="4060800"/>
            <a:ext cx="4343400" cy="2492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open.salon.com/files/last_lincoln1236790135.jpg"/>
          <p:cNvPicPr/>
          <p:nvPr/>
        </p:nvPicPr>
        <p:blipFill>
          <a:blip r:embed="rId1"/>
          <a:stretch/>
        </p:blipFill>
        <p:spPr>
          <a:xfrm>
            <a:off x="5257800" y="-762120"/>
            <a:ext cx="353376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133720" y="3505320"/>
            <a:ext cx="6248160" cy="25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ncoln helped organize the Illinoi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ublican Party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 1856. He oppose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hen Douglas’s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d for a third term in the U.S. Senate. Lincoln spoke eloquently at his nomination, taking the mos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dical stanc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gainst slavery with the prediction “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 house divided against itself cannot st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28600" y="22860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Lincoln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33720" y="2362320"/>
            <a:ext cx="62481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ter the passage of th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ansas-Nebraska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ct, Lincoln returned to public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28600" y="42670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A house divi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Lincoln Douglas Deb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txBody>
          <a:bodyPr anchor="t">
            <a:normAutofit/>
          </a:bodyPr>
          <a:p>
            <a:pPr marL="271440" indent="-271440"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debates were a series of public meetings. While Douglas spoke with great flair, Lincoln’s manner was mild. His strength lay in the logic and reasoning of his ideas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s you analyz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cuments, identif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olitical platform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www.andyamato.com/images/lin%20doug%20web%202.jpg"/>
          <p:cNvPicPr/>
          <p:nvPr/>
        </p:nvPicPr>
        <p:blipFill>
          <a:blip r:embed="rId1"/>
          <a:stretch/>
        </p:blipFill>
        <p:spPr>
          <a:xfrm>
            <a:off x="5257800" y="311004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990720"/>
            <a:ext cx="4495680" cy="5486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he Freeport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cond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ebate was the most critic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Lincoln challenged Douglas to explain how people could us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opular sovereignty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 keep slavery out of a place when the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Dred Scott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decisi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had said they could n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ouglas’s reply came to be known as 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Freeport Doctri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“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If the people are opposed to slavery they will elect representatives to that body who will by unfriendly legislation . . . prevent the introduction of it into their mid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www.sonofthesouth.net/slavery/pictures/stephen-a-douglas.jpg"/>
          <p:cNvPicPr/>
          <p:nvPr/>
        </p:nvPicPr>
        <p:blipFill>
          <a:blip r:embed="rId1"/>
          <a:stretch/>
        </p:blipFill>
        <p:spPr>
          <a:xfrm>
            <a:off x="5257800" y="1295280"/>
            <a:ext cx="349092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46:42Z</dcterms:created>
  <dc:creator>MIS</dc:creator>
  <dc:description/>
  <dc:language>en-US</dc:language>
  <cp:lastModifiedBy>Amy Davis</cp:lastModifiedBy>
  <dcterms:modified xsi:type="dcterms:W3CDTF">2018-01-22T20:03:42Z</dcterms:modified>
  <cp:revision>57</cp:revision>
  <dc:subject/>
  <dc:title>PowerPoint Presentation</dc:title>
</cp:coreProperties>
</file>