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3240" cy="35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EABF-DFF0-49A9-A0C9-5ECA4B459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1FEB-FABA-4B36-A775-4C4B0E61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9592-E712-4FC5-993D-DF7579651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AA02-8610-4DE3-A664-7E7F20FAB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321-6F18-47B0-A92B-C0DF4817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8CA-5B95-4CF1-B41D-73B3477E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3EC-B376-4108-82A9-14154731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2E0-8A45-4682-AE2E-25F850FC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5843-0BA9-40FC-930F-16BBA8DE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8C6D-FFF7-41F3-8D82-4D41E45A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9B92-5FA3-4972-9119-735067B6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AABA-39C5-40FC-8650-08D23E50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0976-B600-4FD4-B3A3-7E88413B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46F7-0238-4DE6-967E-BAE77859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CD1D-D5A3-4423-8FD0-EADCD58E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A35-1640-4ABD-B0B2-5D2F8583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CE1F-1678-443A-98BF-88713C28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2F81-7F79-4F3E-A972-806B690B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0089-0751-4DC4-9358-AF8882BC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A77E-FB11-4E77-958F-8D4CC0E3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6799-A314-4FAE-BEFF-1AD5FCB4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89E06-2FAC-4841-9544-BE5A4390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253B-578C-417E-B2A9-939B6459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185CB-C02C-4EB5-8341-B7E625EB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B4B1E-E5D6-4585-BB3D-7EEFB51E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F8313-C3A7-4424-90A4-2FAE9439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52C-9FB6-4443-A464-E63C615E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B8BE-BF54-4A34-B78D-1E1A9DD4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FDFD-92D0-4842-8220-93306A6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7C24-C00C-40A5-A988-4D5AA11B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6A8A5-098A-4455-A409-D764607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8EB3-8E33-49E1-8E25-5B8EBB9E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CA41-2643-4CA7-A50D-F0170526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F391-E780-447E-A3B4-6873FB5D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B41F-928C-4934-A999-B14A63CD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7E2C3-8A1C-40DE-B614-43417454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54D99-6D76-4B67-BDC8-BD0642A2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BE2-8D06-41BA-91BB-9945F778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40A5-83D3-4108-AAFB-629554B5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BE170-A6DC-47B3-89A0-C6F65E3A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019C-B4F3-4D6E-BD3F-E1793B1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5E5D-83C9-4ACF-A2F5-A3060506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B733C-3D42-48FF-AFE4-2D8D2385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3F472-0E3F-4AA7-AECF-BB2B7A72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09DA-96D8-410D-BE86-8B9DC235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CCFE-5E18-427A-B44A-734F0FBD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4D03E-99CA-4553-8F78-9FA597FE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1DF0D-8EDF-4F69-B4A5-5595E85E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461-BCD1-4E67-852E-E8A24B1F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FDD6E-8C82-47E7-A79E-4528FCB1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C182-9A51-43C5-B764-FAE110CC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9F3D-B454-4542-B136-879D1995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78696-88A6-4308-BD5D-FB4B95DD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7CF8-F500-4A75-99E8-E33B5D14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EC17F-BBED-44EB-82CC-03252344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3C3B9-72D2-4C0F-B7A1-ECA01C7D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DCD62-3A3A-4125-A5A2-D342CA83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E8F19-89AB-4103-9208-1E43DF0C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42C35-00B6-4A00-BE55-5526F2C7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B91-D62D-4A92-A0BB-BE4C6D98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AA11-666F-4DD2-AB5F-265264A9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B23A3-B990-44E9-86F9-AAE37787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1AAA0-223A-4252-A661-BB9CBE0A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50887-F28C-4BE7-877C-4AD7F935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97EF8-E38C-4C5E-B7E1-35301722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C7FC3-E3E6-4FAA-A971-C439FB36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69454-2ED6-46C6-BCA1-69DE26A1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41951-E453-4D03-8B1D-A492F5B2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284B4-D8FA-4715-BDFC-3044F4B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DF0FF-7C3A-4DA5-9A92-603F824B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E25-8F25-4018-88E3-BBC6EA4C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153D-B2D0-475E-8CD1-CF066AD3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0E0D-7B17-4D48-82F7-A11044B8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80625-79AC-49D5-AFB5-3F728F3A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82E53-A352-4CBD-AC9F-680905F6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63EDB-6EA6-4AE7-BA0C-DFB65F54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8295B-50F1-4A2A-9FF0-DD22D51E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6DC08-C00B-4F40-B3AB-BA5158A2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F3E41-E1EC-4A14-A8CF-51A5BE62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7570-4A06-4F95-A398-DF06B435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9615C-6601-40A3-A978-E630C900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2F2-9A46-4F44-B1E3-43C78960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2A8FF-C9A6-42B8-998C-43A015C7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BD8ED-4551-49AE-B499-CCB30B1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F0268-5E3F-4CF2-ADEF-D6EA645F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330AE-63F2-4FCD-A35E-11396EC8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87BB1-E5EF-4F3D-83B6-B63720EC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5EF-D9E4-4E74-91B8-B4D71F4B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9F8E-876B-4200-8653-31C9386B0425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8FB3-87D6-473E-9F39-DA1717626BED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9D8A-D8D0-49E4-A108-974EF825EA54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9767-EFF4-4220-A6DB-4A466723EEAE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2D14-0E93-439B-A293-87C90F475484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C28C-A673-45A0-92BC-EC6FB79FD903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AE1E-2AAB-454B-85EB-E812A005CE72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Crisis Deepens: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red Scott Decision and Lincoln-Douglas Deb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ed1"/>
                </a:solidFill>
                <a:latin typeface="Arial"/>
              </a:rPr>
              <a:t>EQ: How did the Dred Scott Decision and the Lincoln-Douglas Debates increase sectional 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4920" y="1599840"/>
            <a:ext cx="8534160" cy="48006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Lincoln’s social views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incoln stressed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mmorality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of slavery in the deb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ouglas referred to Lincoln’s party as Black Republicans and painted an image of a society where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aces were equal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, pressing Lincoln on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itizenship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for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acked into a corner, Lincoln said,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“I will say that I am not, nor have ever been in favor of bringing about in any way the social and political 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equality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of the white and black races.”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ebates’ Significan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143000"/>
            <a:ext cx="8305920" cy="5410080"/>
          </a:xfrm>
          <a:prstGeom prst="rect">
            <a:avLst/>
          </a:prstGeom>
          <a:solidFill>
            <a:srgbClr val="ffff99"/>
          </a:solidFill>
          <a:ln w="12600">
            <a:solidFill>
              <a:srgbClr val="4e8542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6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iding who w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 retained hi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nate seat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but most historians judg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col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to have won the debates. He had argued the more famous Douglas to a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raw and in the process made himself a national fig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upporter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’s statements caused him to lose support of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uthern Democrat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which proved critical when he faced Lincoln again in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. Lincoln’s moderate positions increased his standing among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ortherners,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ut southerners still thought Lincoln was a serious threat to slavery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peaking to th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Lincoln and Douglas took their argument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irectly to the people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d made the issues of the day clear to the nation. The outcome directly affected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f 18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Dred Scott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560" y="15998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tiff- Dred Scott (a sl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ant- Irene Emerson (his owner’s wid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Court Justice- Roger B. T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DRED-SCOTT"/>
          <p:cNvPicPr/>
          <p:nvPr/>
        </p:nvPicPr>
        <p:blipFill>
          <a:blip r:embed="rId1"/>
          <a:stretch/>
        </p:blipFill>
        <p:spPr>
          <a:xfrm>
            <a:off x="5410080" y="1905120"/>
            <a:ext cx="3429000" cy="4182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Judicial Decis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cott have the right to su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" descr="Dred Scott.jpg"/>
          <p:cNvPicPr/>
          <p:nvPr/>
        </p:nvPicPr>
        <p:blipFill>
          <a:blip r:embed="rId1"/>
          <a:stretch/>
        </p:blipFill>
        <p:spPr>
          <a:xfrm>
            <a:off x="480960" y="139680"/>
            <a:ext cx="818208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ney’s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19" name="Picture 2" descr="http://2.bp.blogspot.com/_2tggLZ2rGkg/SQBj5BAbSHI/AAAAAAAAEQU/UqL0M2v2FB0/s400/417px-Roger_B__Taney_-_Brady-Handy-full.jpg"/>
          <p:cNvPicPr/>
          <p:nvPr/>
        </p:nvPicPr>
        <p:blipFill>
          <a:blip r:embed="rId1"/>
          <a:stretch/>
        </p:blipFill>
        <p:spPr>
          <a:xfrm>
            <a:off x="6400800" y="152280"/>
            <a:ext cx="2495520" cy="3591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04920" y="1599840"/>
            <a:ext cx="723888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Scott have the right to su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because he is not a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he is considered property and right to property is protected b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all laws that do so (including the Missouri Compromise) are unco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5"/>
          <p:cNvCxnSpPr/>
          <p:nvPr/>
        </p:nvCxnSpPr>
        <p:spPr>
          <a:xfrm>
            <a:off x="6933960" y="388620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2" name="Straight Arrow Connector 8"/>
          <p:cNvCxnSpPr/>
          <p:nvPr/>
        </p:nvCxnSpPr>
        <p:spPr>
          <a:xfrm>
            <a:off x="6248520" y="5790960"/>
            <a:ext cx="8388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TextBox 9"/>
          <p:cNvSpPr/>
          <p:nvPr/>
        </p:nvSpPr>
        <p:spPr>
          <a:xfrm>
            <a:off x="7391520" y="4267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7157520" y="563868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28600" y="7632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The Lincoln-Douglas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(Illinois Senate) Debates, 18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6" descr="debatex_030801"/>
          <p:cNvPicPr/>
          <p:nvPr/>
        </p:nvPicPr>
        <p:blipFill>
          <a:blip r:embed="rId1"/>
          <a:srcRect l="0" t="0" r="0" b="2003"/>
          <a:stretch/>
        </p:blipFill>
        <p:spPr>
          <a:xfrm>
            <a:off x="4343400" y="1201680"/>
            <a:ext cx="4419720" cy="3522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327" name="Text Box 8"/>
          <p:cNvSpPr/>
          <p:nvPr/>
        </p:nvSpPr>
        <p:spPr>
          <a:xfrm>
            <a:off x="4724280" y="4876920"/>
            <a:ext cx="4267440" cy="1785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A </a:t>
            </a:r>
            <a:r>
              <a:rPr b="1" i="1" lang="en-US" sz="3700" spc="-1" strike="noStrike" u="sng">
                <a:solidFill>
                  <a:srgbClr val="ffffff"/>
                </a:solidFill>
                <a:uFillTx/>
                <a:latin typeface="Wrangler"/>
              </a:rPr>
              <a:t>House divided</a:t>
            </a: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 against itself, cannot stand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9" descr="Lincoln-Douglasdebate syamp"/>
          <p:cNvPicPr/>
          <p:nvPr/>
        </p:nvPicPr>
        <p:blipFill>
          <a:blip r:embed="rId2"/>
          <a:stretch/>
        </p:blipFill>
        <p:spPr>
          <a:xfrm>
            <a:off x="685800" y="1752480"/>
            <a:ext cx="2971800" cy="194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329" name="Picture 10" descr="Lincoln-Douglasdebate - 1"/>
          <p:cNvPicPr/>
          <p:nvPr/>
        </p:nvPicPr>
        <p:blipFill>
          <a:blip r:embed="rId3"/>
          <a:stretch/>
        </p:blipFill>
        <p:spPr>
          <a:xfrm>
            <a:off x="304920" y="4060800"/>
            <a:ext cx="4343400" cy="24922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0" descr="http://open.salon.com/files/last_lincoln1236790135.jpg"/>
          <p:cNvPicPr/>
          <p:nvPr/>
        </p:nvPicPr>
        <p:blipFill>
          <a:blip r:embed="rId1"/>
          <a:stretch/>
        </p:blipFill>
        <p:spPr>
          <a:xfrm>
            <a:off x="5257800" y="-762120"/>
            <a:ext cx="3533760" cy="41148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2133720" y="3505320"/>
            <a:ext cx="6248160" cy="25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incoln helped organize the Illinoi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ublican Party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 1856. He oppose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hen Douglas’s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id for a third term in the U.S. Senate. Lincoln spoke eloquently at his nomination, taking the mos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dical stanc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gainst slavery with the prediction “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 house divided against itself cannot stand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28600" y="2286000"/>
            <a:ext cx="18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Lincoln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33720" y="2362320"/>
            <a:ext cx="62481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fter the passage of th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ansas-Nebraska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ct, Lincoln returned to public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228600" y="4267080"/>
            <a:ext cx="18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A house divid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Lincoln Douglas Debat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txBody>
          <a:bodyPr anchor="t">
            <a:normAutofit/>
          </a:bodyPr>
          <a:p>
            <a:pPr marL="271440" indent="-271440"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debates were a series of public meetings. While Douglas spoke with great flair, Lincoln’s manner was mild. His strength lay in the logic and reasoning of his ideas</a:t>
            </a: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s you analyz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cuments, identif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olitical platform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andid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http://www.andyamato.com/images/lin%20doug%20web%202.jpg"/>
          <p:cNvPicPr/>
          <p:nvPr/>
        </p:nvPicPr>
        <p:blipFill>
          <a:blip r:embed="rId1"/>
          <a:stretch/>
        </p:blipFill>
        <p:spPr>
          <a:xfrm>
            <a:off x="5257800" y="311004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990720"/>
            <a:ext cx="4495680" cy="5486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The Freeport Doct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second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ebate was the most critic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Lincoln challenged Douglas to explain how people could us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popular sovereignty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o keep slavery out of a place when the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Dred Scott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decision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had said they could no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ouglas’s reply came to be known as 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Freeport Doctrine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. “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If the people are opposed to slavery they will elect representatives to that body who will by unfriendly legislation . . . prevent the introduction of it into their mids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http://www.sonofthesouth.net/slavery/pictures/stephen-a-douglas.jpg"/>
          <p:cNvPicPr/>
          <p:nvPr/>
        </p:nvPicPr>
        <p:blipFill>
          <a:blip r:embed="rId1"/>
          <a:stretch/>
        </p:blipFill>
        <p:spPr>
          <a:xfrm>
            <a:off x="5257800" y="1295280"/>
            <a:ext cx="3490920" cy="45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4:46:42Z</dcterms:created>
  <dc:creator>MIS</dc:creator>
  <dc:description/>
  <dc:language>en-US</dc:language>
  <cp:lastModifiedBy>Amy Davis</cp:lastModifiedBy>
  <dcterms:modified xsi:type="dcterms:W3CDTF">2018-01-22T20:03:42Z</dcterms:modified>
  <cp:revision>57</cp:revision>
  <dc:subject/>
  <dc:title>PowerPoint Presentation</dc:title>
</cp:coreProperties>
</file>