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3240" cy="35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7DD3-15BC-4099-BE15-86791234D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00EA-C754-48F9-AA9C-BB833B72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0B25-85E4-4A36-9D11-186A504DE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270-2DDC-44E5-8C28-853963923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EE1-1B8D-4AC9-8603-C25652A7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78F-0AF1-4ABF-B61E-51B63A3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BBA-47E5-4F14-8300-237FD3E5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857-C532-4828-AE8F-82BE7B72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BB04-79C5-48BC-9422-2F42133B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43C4-BF89-48C1-9ADE-4AD8506E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191-3F9E-456E-8245-FAE9F6D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24AF-C8AF-4B8C-BA16-9B112E6D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F6A6-10C9-4CF4-B254-6F7B0BD7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C45E-FD7C-494F-9AC7-026DD3AB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A639-A9C3-4E2B-B562-EC9BF89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DDC-A857-4832-92DC-7A053F11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9D59-DFA8-4E8D-B204-1596503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66F9-05D4-405B-9C68-2105CB6B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E21-E149-4DC4-8F84-E27D6948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CC7A-088E-40F4-9068-AB59E9F1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7A92-A561-4D2E-A5DA-68A033A0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1DA5-6A33-4194-AA3E-1EB34EE7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2F00-B8AC-4D0C-BAA3-AF850635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1504-238D-41B1-97D7-3057FF7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55AA-2DA4-4AA3-B860-9A1EFC95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8A0F-524B-4E02-AEAB-E79100A9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DD4-74BF-4C36-A5A1-8D37A98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4983-0DAD-40DF-9230-17AF69D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AFE1-EDE9-4530-9523-C7E7D021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60BB3-07A8-4F90-BA38-24DEAF7D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19CF-E988-4CFA-8679-F6921111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1E48-C283-4B4E-AC14-4170725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B02B-5FC0-4206-B898-82A5F31A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61B1-0778-4FDF-B93D-D129AD83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07FC-17FE-4643-92E8-922A39E9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40AD6-633D-4CBA-B12E-85E17C34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4D9E-0652-4EFA-9489-8E8310BD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9B0-55AE-410E-A8E8-C3490B8E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8C1B-A638-4194-876C-B4BCA37B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24AA-D529-4414-AEF9-024A5D8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E5086-B138-4BF7-8EB1-A3B038C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FE22-CC02-4A8E-87B6-09E7FF19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ED97-DEF4-494F-A093-B54038B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9831-8D57-45E0-B9A3-A7764CC8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1591-72A9-45E1-BC67-F6B1265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FBFF-E258-41EC-AD3B-3052B853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FCE4-9175-4F92-8122-3B581C64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4385D-2D8B-4C50-85B7-0374EAC3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B33-06A5-473D-B970-5FCFD3B0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BFF6-2E21-4C19-AF90-FC024289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1818A-F12F-44B3-82AA-10961A56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8727-2EE2-43CD-833E-4F1ABDA0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E902F-D730-4513-AE01-58F72E08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BA58B-BE11-4D92-BDA9-81A2712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683A6-3D4B-4350-ACB3-EFF4585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C98B9-4A04-4BA7-A480-DC2D0491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B2AC-F20E-48F8-B488-250FE649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9ACA-26C6-466E-B52E-68FC1139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6665-DCB0-4297-8593-379B2B91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9E0-2F57-47E5-B288-550748CF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0E5B3-DB39-4000-AD64-A3EDC3EA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A2158-DF20-4141-87AD-A7E7F5B0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FC74B-CA38-4554-A5C6-EDD470C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A84B-B4DC-4EC8-A23B-1AFAC0A4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7BC97-5B66-4A89-90F6-E95729BD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979E-BCC5-4B7A-9552-ACD5D80D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F1EE-2208-4DE5-BC88-0AAF5776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79D7-8437-4269-B364-20CA522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35068-6569-40DC-88FD-96C2CF2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1114E-1141-486B-9F4B-9B115A6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2EF-3ADE-48EB-9EFC-0A9CE211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3E1D-BAB6-4004-AD1B-7449751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1807D-F169-4825-A9FF-7F125AC6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9C4ED-F937-4CE3-8493-7095AA2C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54A9B-FB4C-465D-8B6A-2DADB869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C3B9-75A8-4B9E-B3AC-E9ACA9FB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7E511-8C27-4BDF-8472-F50369C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EB4C-CC36-4C08-8E33-99DE6B7B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5868-63A6-400A-9A38-AC84C1EB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AB76-D894-4397-B837-818907C3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9D7B0-EBCC-4805-9772-E53D514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1A2-C83B-45D9-97C7-83C2C067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678CF-D368-4001-87D4-2A9F453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CADAD-FCF0-4356-88B4-EECB920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428CC-2757-49CD-BC1F-1E6FB40D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FDEFB-ED65-4CFB-A72E-CC4DF2F5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FA2A8-8E62-4A0F-B089-734B5784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18E-1E84-4202-B9E9-7D44502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AD25-606B-459F-879C-D2AF2F7BD2FB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8575-0232-4D12-9A63-043A6E8BA882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355-E859-4DDE-B51B-4CDA99088B7E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6F4E-4849-467D-8C9B-1D1D342D6AAB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D835-EBFC-42BE-8C87-D25BDA809FF8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0230-E680-4625-9305-FBCFCC39F427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7E0E-0E4B-4AF8-A4F7-0E544791BC4E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Crisis Deepens: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red Scott Decision and Lincoln-Douglas Deb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ed1"/>
                </a:solidFill>
                <a:latin typeface="Arial"/>
              </a:rPr>
              <a:t>EQ: How did the Dred Scott Decision and the Lincoln-Douglas Debates increase sectional 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59984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incoln’s social view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incoln stressed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mmoralit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of slavery in the deb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uglas referred to Lincoln’s party as Black Republicans and painted an image of a society where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aces were equ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pressing Lincoln on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itizenshi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for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acked into a corner, Lincoln said,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“I will say that I am not, nor have ever been in favor of bringing about in any way the social and political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equality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of the white and black races.”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ebates’ Signific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4e8542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6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iding who w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 retained hi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nate sea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but most historians judg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col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to have won the debates. He had argued the more famous Douglas to a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raw and in the process made himself a national fig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pporter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’s statements caused him to lose support of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uthern Democrat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which proved critical when he faced Lincoln again in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. Lincoln’s moderate positions increased his standing among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rtherners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ut southerners still thought Lincoln was a serious threat to slaver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eaking to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ncoln and Douglas took their argument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irectly to the people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d made the issues of the day clear to the nation. The outcome directly affected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f 18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Dred Scott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56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tiff- Dred Scott (a sl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ant- Irene Emerson (his owner’s wi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Court Justice- Roger B. T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DRED-SCOTT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4182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udicial Decis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cott have the right to su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Dred Scott.jpg"/>
          <p:cNvPicPr/>
          <p:nvPr/>
        </p:nvPicPr>
        <p:blipFill>
          <a:blip r:embed="rId1"/>
          <a:stretch/>
        </p:blipFill>
        <p:spPr>
          <a:xfrm>
            <a:off x="480960" y="139680"/>
            <a:ext cx="81820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ney’s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Picture 2" descr="http://2.bp.blogspot.com/_2tggLZ2rGkg/SQBj5BAbSHI/AAAAAAAAEQU/UqL0M2v2FB0/s400/417px-Roger_B__Taney_-_Brady-Handy-full.jpg"/>
          <p:cNvPicPr/>
          <p:nvPr/>
        </p:nvPicPr>
        <p:blipFill>
          <a:blip r:embed="rId1"/>
          <a:stretch/>
        </p:blipFill>
        <p:spPr>
          <a:xfrm>
            <a:off x="6400800" y="152280"/>
            <a:ext cx="2495520" cy="3591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04920" y="1599840"/>
            <a:ext cx="723888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Scott have the right to s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because he is not a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he is considered property and right to property is protected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all laws that do so (including the Missouri Compromise) are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5"/>
          <p:cNvCxnSpPr/>
          <p:nvPr/>
        </p:nvCxnSpPr>
        <p:spPr>
          <a:xfrm>
            <a:off x="6933960" y="388620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Straight Arrow Connector 8"/>
          <p:cNvCxnSpPr/>
          <p:nvPr/>
        </p:nvCxnSpPr>
        <p:spPr>
          <a:xfrm>
            <a:off x="6248520" y="5790960"/>
            <a:ext cx="838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TextBox 9"/>
          <p:cNvSpPr/>
          <p:nvPr/>
        </p:nvSpPr>
        <p:spPr>
          <a:xfrm>
            <a:off x="7391520" y="4267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157520" y="56386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28600" y="763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The Lincoln-Dougla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(Illinois Senate) Debates, 18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6" descr="debatex_030801"/>
          <p:cNvPicPr/>
          <p:nvPr/>
        </p:nvPicPr>
        <p:blipFill>
          <a:blip r:embed="rId1"/>
          <a:srcRect l="0" t="0" r="0" b="2003"/>
          <a:stretch/>
        </p:blipFill>
        <p:spPr>
          <a:xfrm>
            <a:off x="4343400" y="1201680"/>
            <a:ext cx="4419720" cy="3522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27" name="Text Box 8"/>
          <p:cNvSpPr/>
          <p:nvPr/>
        </p:nvSpPr>
        <p:spPr>
          <a:xfrm>
            <a:off x="4724280" y="4876920"/>
            <a:ext cx="4267440" cy="1785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A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Wrangler"/>
              </a:rPr>
              <a:t>House divided</a:t>
            </a: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 against itself, cannot stan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Lincoln-Douglasdebate syamp"/>
          <p:cNvPicPr/>
          <p:nvPr/>
        </p:nvPicPr>
        <p:blipFill>
          <a:blip r:embed="rId2"/>
          <a:stretch/>
        </p:blipFill>
        <p:spPr>
          <a:xfrm>
            <a:off x="685800" y="1752480"/>
            <a:ext cx="297180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329" name="Picture 10" descr="Lincoln-Douglasdebate - 1"/>
          <p:cNvPicPr/>
          <p:nvPr/>
        </p:nvPicPr>
        <p:blipFill>
          <a:blip r:embed="rId3"/>
          <a:stretch/>
        </p:blipFill>
        <p:spPr>
          <a:xfrm>
            <a:off x="304920" y="4060800"/>
            <a:ext cx="4343400" cy="2492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ttp://open.salon.com/files/last_lincoln1236790135.jpg"/>
          <p:cNvPicPr/>
          <p:nvPr/>
        </p:nvPicPr>
        <p:blipFill>
          <a:blip r:embed="rId1"/>
          <a:stretch/>
        </p:blipFill>
        <p:spPr>
          <a:xfrm>
            <a:off x="5257800" y="-762120"/>
            <a:ext cx="353376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133720" y="3505320"/>
            <a:ext cx="6248160" cy="25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ncoln helped organize the Illinoi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ublican Party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 1856. He oppose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hen Douglas’s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d for a third term in the U.S. Senate. Lincoln spoke eloquently at his nomination, taking the mos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dical stanc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gainst slavery with the prediction “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 house divided against itself cannot st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28600" y="2286000"/>
            <a:ext cx="18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Lincoln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33720" y="2362320"/>
            <a:ext cx="62481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ter the passage of th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ansas-Nebraska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ct, Lincoln returned to public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28600" y="4267080"/>
            <a:ext cx="18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A house divi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Lincoln Douglas Debat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txBody>
          <a:bodyPr anchor="t">
            <a:normAutofit/>
          </a:bodyPr>
          <a:p>
            <a:pPr marL="271440" indent="-271440"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debates were a series of public meetings. While Douglas spoke with great flair, Lincoln’s manner was mild. His strength lay in the logic and reasoning of his ideas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s you analyz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cuments, identif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olitical platform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ndi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www.andyamato.com/images/lin%20doug%20web%202.jpg"/>
          <p:cNvPicPr/>
          <p:nvPr/>
        </p:nvPicPr>
        <p:blipFill>
          <a:blip r:embed="rId1"/>
          <a:stretch/>
        </p:blipFill>
        <p:spPr>
          <a:xfrm>
            <a:off x="5257800" y="311004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990720"/>
            <a:ext cx="4495680" cy="5486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The Freeport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econd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ebate was the most critic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Lincoln challenged Douglas to explain how people could us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opular sovereignty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 keep slavery out of a place when the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Dred Scott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decisi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had said they could n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ouglas’s reply came to be known as 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Freeport Doctri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“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If the people are opposed to slavery they will elect representatives to that body who will by unfriendly legislation . . . prevent the introduction of it into their mids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www.sonofthesouth.net/slavery/pictures/stephen-a-douglas.jpg"/>
          <p:cNvPicPr/>
          <p:nvPr/>
        </p:nvPicPr>
        <p:blipFill>
          <a:blip r:embed="rId1"/>
          <a:stretch/>
        </p:blipFill>
        <p:spPr>
          <a:xfrm>
            <a:off x="5257800" y="1295280"/>
            <a:ext cx="349092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46:42Z</dcterms:created>
  <dc:creator>MIS</dc:creator>
  <dc:description/>
  <dc:language>en-US</dc:language>
  <cp:lastModifiedBy>Amy Davis</cp:lastModifiedBy>
  <dcterms:modified xsi:type="dcterms:W3CDTF">2018-01-22T20:03:42Z</dcterms:modified>
  <cp:revision>57</cp:revision>
  <dc:subject/>
  <dc:title>PowerPoint Presentation</dc:title>
</cp:coreProperties>
</file>