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Line 1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Line 2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Group 8"/>
          <p:cNvGrpSpPr/>
          <p:nvPr/>
        </p:nvGrpSpPr>
        <p:grpSpPr>
          <a:xfrm>
            <a:off x="11455560" y="5537160"/>
            <a:ext cx="1104840" cy="179280"/>
            <a:chOff x="11455560" y="5537160"/>
            <a:chExt cx="1104840" cy="179280"/>
          </a:xfrm>
        </p:grpSpPr>
        <p:pic>
          <p:nvPicPr>
            <p:cNvPr id="4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Group 13"/>
          <p:cNvGrpSpPr/>
          <p:nvPr/>
        </p:nvGrpSpPr>
        <p:grpSpPr>
          <a:xfrm>
            <a:off x="457200" y="5537160"/>
            <a:ext cx="1104840" cy="179280"/>
            <a:chOff x="457200" y="5537160"/>
            <a:chExt cx="1104840" cy="179280"/>
          </a:xfrm>
        </p:grpSpPr>
        <p:pic>
          <p:nvPicPr>
            <p:cNvPr id="9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Group 21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Line 14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Line 15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Line 16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Line 17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Line 18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Line 19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Line 20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Group 29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Line 22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Line 23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Line 24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Line 25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Line 26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Line 27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Line 28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45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91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537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6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11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927000" y="4775040"/>
            <a:ext cx="5626080" cy="228600"/>
            <a:chOff x="927000" y="4775040"/>
            <a:chExt cx="5626080" cy="228600"/>
          </a:xfrm>
        </p:grpSpPr>
        <p:sp>
          <p:nvSpPr>
            <p:cNvPr id="157" name="Line 1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Picture 2" descr=""/>
            <p:cNvPicPr/>
            <p:nvPr/>
          </p:nvPicPr>
          <p:blipFill>
            <a:blip r:embed="rId3"/>
            <a:stretch/>
          </p:blipFill>
          <p:spPr>
            <a:xfrm>
              <a:off x="632448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4"/>
            <a:stretch/>
          </p:blipFill>
          <p:spPr>
            <a:xfrm>
              <a:off x="92700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200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3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Line 1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Line 2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Group 8"/>
          <p:cNvGrpSpPr/>
          <p:nvPr/>
        </p:nvGrpSpPr>
        <p:grpSpPr>
          <a:xfrm>
            <a:off x="11455560" y="1917720"/>
            <a:ext cx="1104840" cy="179280"/>
            <a:chOff x="11455560" y="1917720"/>
            <a:chExt cx="1104840" cy="179280"/>
          </a:xfrm>
        </p:grpSpPr>
        <p:pic>
          <p:nvPicPr>
            <p:cNvPr id="246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3"/>
          <p:cNvGrpSpPr/>
          <p:nvPr/>
        </p:nvGrpSpPr>
        <p:grpSpPr>
          <a:xfrm>
            <a:off x="457200" y="1917720"/>
            <a:ext cx="1104840" cy="179280"/>
            <a:chOff x="457200" y="1917720"/>
            <a:chExt cx="1104840" cy="179280"/>
          </a:xfrm>
        </p:grpSpPr>
        <p:pic>
          <p:nvPicPr>
            <p:cNvPr id="251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21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Line 14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Line 19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Group 29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Line 22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Line 24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3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Line 1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Line 2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Group 6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Line 4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5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9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3898440"/>
            <a:ext cx="1137924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US Physical Characteristic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egion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206504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rom the Rocky Mountains to the Western edges of the nation (including Hawaii and Alaska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Region with varied climate (arctic to tropical)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y goes from agriculture to technology development to tourism and everything in between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Pacific Ocean, Rocky Mountains, and San Francisco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id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tween the Appalachian and Rocky Mountai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Has moderate climate with four distinct seaso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ally focused on agriculture (livestock, corn, wheat, soy beans, etc.)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Mississippi River, Missouri River, Ohio River, Chicago, Great Lak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Northea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Located east of the Appalachian Mountains and North of the Mason-Dixon Line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mate tends to have cooler summers and cold winter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 activity relies heavily on indust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Atlantic Ocean, New York, Boston, Appalachian Mountai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Southea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outh of the Ohio River and East of the Mississippi/Missouri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Hot summers with mild winter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y is largely focused on agriculture (livestock, cotton, fruit, tobacco, etc.) and service indust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Atlantic, Ocean, Gulf of Mexico, Mississippi, Missouri, Ohio Rivers, Appalachian Mountains, Miami, New Orlea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South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Located between the Colorado and Mississippi Rivers in the Southern U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mate tends to be hot and d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 activities include agriculture (livestock) and mining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Rio Grande, Colorado Rivers, Gulf of Mexico, Houston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viatt</dc:creator>
  <dc:description/>
  <cp:keywords/>
  <dc:language>en-US</dc:language>
  <cp:lastModifiedBy>Amy Davis</cp:lastModifiedBy>
  <dcterms:modified xsi:type="dcterms:W3CDTF">2017-09-05T00:03:09Z</dcterms:modified>
  <cp:revision>5</cp:revision>
  <dc:subject/>
  <dc:title>US Physical Characteristics</dc:title>
</cp:coreProperties>
</file>