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9EF8-1E91-4E76-9EB2-6A008CB1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8B4-6EFF-4F6B-8244-9B945BE0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BDA7-DAD5-4B36-B3BC-4523AEB9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8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440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8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440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A17-D5B7-4231-870C-64472A5B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56B4-8347-48A8-9EA2-AF5BA29E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974C-55A9-42F8-9C89-F490634D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6890-31AB-40E4-9FB5-1E7D4770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834B-314E-488D-8F86-2ADC2E14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D106-A71B-45F9-94B0-A7C1A91B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7908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1E92-9544-4508-A121-2B596827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AC79-0C6F-4A93-99C1-385601FA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8EC-A32D-4BFA-A1D9-29E96419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835C-0922-4450-86AE-3F4D7178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DE3B-18C9-44D6-AFBE-A64A7DC6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47C3-44E9-46F8-A94E-1C11E848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CAD3-447C-4E9D-BD7E-24DB6595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78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440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78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440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ADFB-A97F-421C-B966-DB5C4C69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6E4B-628B-474D-848F-646C9FF6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6F8-AEB0-4A6B-8781-A96515D8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061-B202-4C94-814F-BDD4983D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7908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1E76-E7A3-42AA-BD05-5C962A12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A7C-3AC9-475D-9235-AA91F238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1CDD-224A-41E7-97E9-EC8574D6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BDA-CF4F-475D-BD94-668DA487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397200"/>
            <a:ext cx="19036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397200"/>
            <a:ext cx="2894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397200"/>
            <a:ext cx="19036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B5F904-88D7-4EBF-9859-874C61A732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720"/>
            <a:ext cx="6399360" cy="25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B8BAC-B0D5-4A62-8816-3008DFF382E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0" y="0"/>
            <a:ext cx="6361200" cy="6856560"/>
            <a:chOff x="0" y="0"/>
            <a:chExt cx="6361200" cy="6856560"/>
          </a:xfrm>
        </p:grpSpPr>
        <p:pic>
          <p:nvPicPr>
            <p:cNvPr id="48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4360" cy="68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7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5880" cy="9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8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uesday, September 26, 2017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905120" y="2514600"/>
            <a:ext cx="579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What is the difference between a primary source and a secondary sour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prim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 records from the past recorded by people who w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d in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nessed the event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ew the persons involved in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can also be objects (artifacts) or visual evi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give you an idea about what people alive at the time saw or thought about the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prim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in mind that a primary source reflects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 point of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may contain a person’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ejudice) toward an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prim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primary sour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5203800" y="2239920"/>
            <a:ext cx="2413080" cy="1625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932040" y="1947960"/>
            <a:ext cx="2982600" cy="3132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914400" y="565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s, magazines, newspapers, diaries, journals, personal records, songs, paintings, arti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648320" y="1752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rinted Pub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second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ources are made at a later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include written information by historians or others AFTER an event has taken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second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they can be useful and reliable, they cannot reflect what people who lived at the time thought or felt about the ev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they can represent a more fair account of the event because they can include more than one point of view, or may include information that was unavailable at the time of the ev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secondary sour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219320" y="48006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books, biographies, histories, newspaper report by someone who was not pres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3089160" cy="1906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4572000" y="1676520"/>
            <a:ext cx="1785960" cy="281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6705720" y="1828800"/>
            <a:ext cx="2057400" cy="3622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4952880" y="4648320"/>
            <a:ext cx="1532160" cy="200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secondary sour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3227400" cy="4648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5029200" y="5181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ts, graphs, or images created AFTER the time peri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6248520" y="1905120"/>
            <a:ext cx="2563560" cy="2122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4419720" y="312408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21:09:05Z</dcterms:created>
  <dc:creator>Paula Sandridge</dc:creator>
  <dc:description/>
  <dc:language>en-US</dc:language>
  <cp:lastModifiedBy>Amy Davis</cp:lastModifiedBy>
  <dcterms:modified xsi:type="dcterms:W3CDTF">2017-09-25T18:40:12Z</dcterms:modified>
  <cp:revision>43</cp:revision>
  <dc:subject/>
  <dc:title>Primary and Secondary Sources</dc:title>
</cp:coreProperties>
</file>