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3E42-2CC6-452B-9547-F1A5A9A1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12E-8150-4318-9EFF-0D9E9165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9FF-769A-433E-A5B3-229C801D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40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40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B89-C9AA-46AF-BCA8-3D5FC627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5605-6F4E-4863-8D50-BF011B7A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AC7A-A796-4C19-B759-AE3138D3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296C-7CC2-4E43-ABAD-8147138C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1E4E-346A-499A-A97D-8173E6C0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F830-1A3A-4D29-9A56-CAE59D22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7908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1E93-8B65-4527-9781-EBDD4579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03F9-D1CA-4F7C-9E17-FC4768CB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A72B-4BE0-49AD-AD2A-329B43A4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1A7D-94CC-4A05-BA1F-EABC3B21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15FA-2505-449F-BBB2-D51FBF94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C89B-C9DA-4FB8-B1B8-0E7D771F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9009-DCBD-4A00-AC97-DF90034B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440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78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440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7F92-B68A-4E9F-BEB5-106B2BFF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078-60C1-4D3D-A922-DA26B3B1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706-07C5-4C87-AE58-E9C3DAC9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9E8-09B5-486A-BA4D-C34A5A73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7908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EB4-822A-4016-B013-472C34DB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18D7-8C1B-4D61-801F-10244EFD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E8FD-4379-4B80-8B04-77435576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AC44-36AA-44D5-8EE8-311275C6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97200"/>
            <a:ext cx="1903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397200"/>
            <a:ext cx="2894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397200"/>
            <a:ext cx="1903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ED5F2B-DD80-49D8-B55A-8ADAF653CE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720"/>
            <a:ext cx="6399360" cy="25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490D3-8F99-4167-B337-71EDB922E48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0" y="0"/>
            <a:ext cx="6361200" cy="6856560"/>
            <a:chOff x="0" y="0"/>
            <a:chExt cx="6361200" cy="6856560"/>
          </a:xfrm>
        </p:grpSpPr>
        <p:pic>
          <p:nvPicPr>
            <p:cNvPr id="48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43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7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5880" cy="9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8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uesday, September 26, 2017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905120" y="2514600"/>
            <a:ext cx="579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What is the difference between a primary source and a secondary sour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prim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 records from the past recorded by people who w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d in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nessed the event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ew the persons involved in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an also be objects (artifacts) or visual evi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give you an idea about what people alive at the time saw or thought about the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prim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in mind that a primary source reflects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 point of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may contain a person’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ejudice) toward an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prim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primary sour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5203800" y="2239920"/>
            <a:ext cx="2413080" cy="1625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932040" y="1947960"/>
            <a:ext cx="2982600" cy="3132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914400" y="565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s, magazines, newspapers, diaries, journals, personal records, songs, paintings, arti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648320" y="1752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rinted Pub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second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ources are made at a later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include written information by historians or others AFTER an event has taken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second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they can be useful and reliable, they cannot reflect what people who lived at the time thought or felt about the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they can represent a more fair account of the event because they can include more than one point of view, or may include information that was unavailable at the time of the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secondary sour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219320" y="48006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books, biographies, histories, newspaper report by someone who was not pre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3089160" cy="1906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1785960" cy="281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6705720" y="1828800"/>
            <a:ext cx="2057400" cy="3622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4952880" y="4648320"/>
            <a:ext cx="1532160" cy="200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secondary sour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3227400" cy="4648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5029200" y="5181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ts, graphs, or images created AFTER the time peri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6248520" y="1905120"/>
            <a:ext cx="2563560" cy="2122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4419720" y="312408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21:09:05Z</dcterms:created>
  <dc:creator>Paula Sandridge</dc:creator>
  <dc:description/>
  <dc:language>en-US</dc:language>
  <cp:lastModifiedBy>Amy Davis</cp:lastModifiedBy>
  <dcterms:modified xsi:type="dcterms:W3CDTF">2017-09-25T18:40:12Z</dcterms:modified>
  <cp:revision>43</cp:revision>
  <dc:subject/>
  <dc:title>Primary and Secondary Sources</dc:title>
</cp:coreProperties>
</file>