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36F-C603-447C-A278-9C637E3F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5E2-1208-4681-9C06-9A0AAD9D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471-A79B-41B5-B757-89E4C9A9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965-1C6F-4AB0-BCE6-FF4E454C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ED3D-5D33-4540-918A-C2B9A95C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FA80-B22F-42D8-9875-23C8E6AE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490B-A083-4958-8FE1-C19F463C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1A08-7B00-4491-BED0-189FEE7C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72C1-7C23-4555-970D-AB76B818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B34F-F3FA-4AFC-ABDE-B2FCEC20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74CC-A478-4284-948D-C2D787A3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E1E-4ECF-40AB-B26C-13C5D70B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1BAF-2AB7-4BEE-88CC-EAE4B3F6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7370-6A2C-4DFF-90C6-C0CBB1D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BC46-46FE-4342-ADAF-EAC9D514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9448-FF4A-4307-B96D-17F686C8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6E97-388B-4DA2-8180-4B2157CE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3E8-A2E9-415E-86BB-0D6E2937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AD8-B26F-41E1-AF85-942ADAC6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B18-8FD6-4A3A-B553-45278DA9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624-DB68-4D4C-AB68-DC8269AE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08E-6D1B-47D7-B24B-B3CD7920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E48-2D31-4D62-8F1B-8F38D2EC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3A9-1D13-4808-B2B6-8E30849A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397200"/>
            <a:ext cx="2894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45B73-8650-48C6-A702-880A12B932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ECBC6-326D-4B11-932E-94F5A921E3C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8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7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uesday, September 26, 201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905120" y="251460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What is the difference between a primary source and a secondary sou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records from the past recorded by people who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nessed the event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ew the persons 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also be objects (artifacts) or visual ev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ive you an idea about what people alive at the time saw or thought about the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at a primary source reflect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point of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may contain a person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ejudice) toward an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im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203800" y="2239920"/>
            <a:ext cx="2413080" cy="162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932040" y="1947960"/>
            <a:ext cx="2982600" cy="3132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914400" y="565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, magazines, newspapers, diaries, journals, personal records, songs, paintings, arti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48320" y="1752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rinted Pub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ources are made at a lat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include written information by historians or others AFTER an event has taken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they can be useful and reliable, they cannot reflect what people who lived at the time thought or felt about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y can represent a more fair account of the event because they can include more than one point of view, or may include information that was unavailable at the time of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21932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s, biographies, histories, newspaper report by someone who was not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089160" cy="190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785960" cy="281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6705720" y="1828800"/>
            <a:ext cx="2057400" cy="3622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4952880" y="4648320"/>
            <a:ext cx="153216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2740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0292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s, graphs, or images created AFTER the time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563560" cy="2122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21:09:05Z</dcterms:created>
  <dc:creator>Paula Sandridge</dc:creator>
  <dc:description/>
  <dc:language>en-US</dc:language>
  <cp:lastModifiedBy>Amy Davis</cp:lastModifiedBy>
  <dcterms:modified xsi:type="dcterms:W3CDTF">2017-09-25T18:40:12Z</dcterms:modified>
  <cp:revision>43</cp:revision>
  <dc:subject/>
  <dc:title>Primary and Secondary Sources</dc:title>
</cp:coreProperties>
</file>