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206-7D16-4EE5-8A5A-C05A5D38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422-6E41-4880-B394-AA6DFD61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C6D-C9D8-4E9E-89FB-1CDB3CD2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73D-4553-482D-A117-15656A0A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54FF-D232-444D-8765-7EE8E464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0BC-E118-4B67-9505-4586681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5806-2104-4D89-8525-5077138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589B-FC36-4489-B65D-84A6DEF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A025-BFE2-4161-8CEB-8C667FD8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8AD-803B-4BE9-A366-8C34D182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BE39-5BDC-4863-B28B-50DE6556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6FD-5980-4651-8E6F-6F51C8F1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56C2-07F5-430C-B004-484FCBB0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D3B4-2E3C-4D3F-9A7F-E278D06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E8D7-7C90-490E-B4CA-2161E5D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3E0-78B3-4AAF-8A93-D5F6A622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CCA-84AA-4EE1-BE1E-F443F72E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0A9-6B2B-4686-82B5-894AE6F7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CE1-7E9E-4D4D-B502-11145E0B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79F-48FE-494F-8218-C78B9FF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73A-A4B4-4048-BCD8-047C963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F95-F39E-4103-A7C8-767CE02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7E3-B4CB-49F7-B391-3D9386E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389-5A30-4386-902E-E4C36C7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C4361-8B30-4A09-B61D-397037ACB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04EA2-18CD-46CC-9F18-44C180239FB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uesday, September 26, 201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905120" y="25146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What is the difference between a primary source and a secondary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cords from the past recorded by people who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ed the even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ew the persons 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also be objects (artifacts) or visual ev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ive you an idea about what people alive at the time saw or thought about the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a primary source reflect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ay contain a per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ejudice) toward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im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03800" y="2239920"/>
            <a:ext cx="241308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932040" y="1947960"/>
            <a:ext cx="298260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14400" y="565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magazines, newspapers, diaries, journals, personal records, songs, paintings, arti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rinted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made at a lat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include written information by historians or others AFTER an event has taken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y can be useful and reliable, they cannot reflect what people who lived at the time thought or felt about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y can represent a more fair account of the event because they can include more than one point of view, or may include information that was unavailable at the time of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21932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s, biographies, histories, newspaper report by someone who was not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089160" cy="19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785960" cy="28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705720" y="1828800"/>
            <a:ext cx="2057400" cy="36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153216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2740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0292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s, graphs, or images created AFTER the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563560" cy="212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1:09:05Z</dcterms:created>
  <dc:creator>Paula Sandridge</dc:creator>
  <dc:description/>
  <dc:language>en-US</dc:language>
  <cp:lastModifiedBy>Amy Davis</cp:lastModifiedBy>
  <dcterms:modified xsi:type="dcterms:W3CDTF">2017-09-25T18:40:12Z</dcterms:modified>
  <cp:revision>43</cp:revision>
  <dc:subject/>
  <dc:title>Primary and Secondary Sources</dc:title>
</cp:coreProperties>
</file>