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10.jpeg" ContentType="image/jpeg"/>
  <Override PartName="/ppt/media/image8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F8FC2-92CB-4804-8AAA-E582DAECD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37908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1640" y="1766520"/>
            <a:ext cx="776772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061640" y="3914280"/>
            <a:ext cx="776772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06C1B-2779-47DD-A3DB-B365DAED4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7908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1640" y="1766520"/>
            <a:ext cx="379044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2160" y="1766520"/>
            <a:ext cx="379044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1640" y="3914280"/>
            <a:ext cx="379044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42160" y="3914280"/>
            <a:ext cx="379044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5EBCA-D5B5-4B93-9AA8-F33F70632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37908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1640" y="1766520"/>
            <a:ext cx="250092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87840" y="1766520"/>
            <a:ext cx="250092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314400" y="1766520"/>
            <a:ext cx="250092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061640" y="3914280"/>
            <a:ext cx="250092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87840" y="3914280"/>
            <a:ext cx="250092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314400" y="3914280"/>
            <a:ext cx="250092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4EF41-98D5-45ED-852D-78B724060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10CBC-5776-4525-9A81-47D76F024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66680" y="37908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061640" y="1766520"/>
            <a:ext cx="7767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15317-A0FC-4AFD-A63E-8EB956E77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680" y="37908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61640" y="1766520"/>
            <a:ext cx="776772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A3E8D-4D7E-4FEE-A1BB-8F08AD626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37908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1640" y="1766520"/>
            <a:ext cx="379044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42160" y="1766520"/>
            <a:ext cx="379044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8E8D0-FB9E-406C-92F6-28361DB82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37908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C3A11-8D90-4CE5-AE61-B14EDBFE3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066680" y="379080"/>
            <a:ext cx="77709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C5BCD-88E1-455B-A2A5-39EF1784C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66680" y="37908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61640" y="1766520"/>
            <a:ext cx="379044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42160" y="1766520"/>
            <a:ext cx="379044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061640" y="3914280"/>
            <a:ext cx="379044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A8370-146E-4AD2-8900-989940CDE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37908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061640" y="1766520"/>
            <a:ext cx="7767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AACB7-DCE5-4365-A787-7BEA6F610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37908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1640" y="1766520"/>
            <a:ext cx="379044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2160" y="1766520"/>
            <a:ext cx="379044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42160" y="3914280"/>
            <a:ext cx="379044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A1BB6-DD01-49D7-A028-6F41686AA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7908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1640" y="1766520"/>
            <a:ext cx="379044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2160" y="1766520"/>
            <a:ext cx="379044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061640" y="3914280"/>
            <a:ext cx="776772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940A2-9DA9-4811-99E8-C496970B2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7908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1640" y="1766520"/>
            <a:ext cx="776772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061640" y="3914280"/>
            <a:ext cx="776772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E396E-079F-4144-AB6C-A896B02F4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37908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1640" y="1766520"/>
            <a:ext cx="379044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42160" y="1766520"/>
            <a:ext cx="379044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61640" y="3914280"/>
            <a:ext cx="379044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42160" y="3914280"/>
            <a:ext cx="379044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7E936-DF35-49D5-93E1-5A5A344BC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680" y="37908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061640" y="1766520"/>
            <a:ext cx="250092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687840" y="1766520"/>
            <a:ext cx="250092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314400" y="1766520"/>
            <a:ext cx="250092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061640" y="3914280"/>
            <a:ext cx="250092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687840" y="3914280"/>
            <a:ext cx="250092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314400" y="3914280"/>
            <a:ext cx="250092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C0D48-F6BA-494D-9549-526F70195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7908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1640" y="1766520"/>
            <a:ext cx="776772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80706-4719-47D8-80DC-5073178DD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37908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1640" y="1766520"/>
            <a:ext cx="379044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42160" y="1766520"/>
            <a:ext cx="379044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ECEE0-2F94-419D-8F87-95DC3DCD6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7908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ABA94-3F73-4659-9A2A-A99A2D960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66680" y="379080"/>
            <a:ext cx="77709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F592F-29E1-4925-B6BE-D93D1FEF8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7908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1640" y="1766520"/>
            <a:ext cx="379044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42160" y="1766520"/>
            <a:ext cx="379044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061640" y="3914280"/>
            <a:ext cx="379044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F5A0D-747F-4D44-989A-3868D3562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7908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1640" y="1766520"/>
            <a:ext cx="379044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2160" y="1766520"/>
            <a:ext cx="379044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42160" y="3914280"/>
            <a:ext cx="379044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32AA7-5458-460C-B908-D8CC28D1A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37908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1640" y="1766520"/>
            <a:ext cx="379044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2160" y="1766520"/>
            <a:ext cx="379044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061640" y="3914280"/>
            <a:ext cx="776772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1C83F-03CD-4957-A9B5-35BE94F9A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3"/>
          <a:stretch/>
        </p:blipFill>
        <p:spPr>
          <a:xfrm>
            <a:off x="0" y="0"/>
            <a:ext cx="6858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66680" y="37908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838080" y="6397200"/>
            <a:ext cx="190368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428640" y="6397200"/>
            <a:ext cx="289404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7010280" y="6397200"/>
            <a:ext cx="190368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3D2DC95-AA30-48B7-A06E-28B8629CCB5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6" descr=""/>
          <p:cNvPicPr/>
          <p:nvPr/>
        </p:nvPicPr>
        <p:blipFill>
          <a:blip r:embed="rId4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1061640" y="1766520"/>
            <a:ext cx="776772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52480" y="990720"/>
            <a:ext cx="6399360" cy="25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914040" y="6400800"/>
            <a:ext cx="1903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404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36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B87AD8-1D0B-4D08-956D-DE0AEEDB51D6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Group 5"/>
          <p:cNvGrpSpPr/>
          <p:nvPr/>
        </p:nvGrpSpPr>
        <p:grpSpPr>
          <a:xfrm>
            <a:off x="0" y="0"/>
            <a:ext cx="6361200" cy="6856560"/>
            <a:chOff x="0" y="0"/>
            <a:chExt cx="6361200" cy="6856560"/>
          </a:xfrm>
        </p:grpSpPr>
        <p:pic>
          <p:nvPicPr>
            <p:cNvPr id="48" name="Picture 6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684360" cy="685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Picture 7" descr=""/>
            <p:cNvPicPr/>
            <p:nvPr/>
          </p:nvPicPr>
          <p:blipFill>
            <a:blip r:embed="rId4"/>
            <a:stretch/>
          </p:blipFill>
          <p:spPr>
            <a:xfrm>
              <a:off x="3505320" y="5715000"/>
              <a:ext cx="2855880" cy="936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0" name="Picture 8" descr=""/>
          <p:cNvPicPr/>
          <p:nvPr/>
        </p:nvPicPr>
        <p:blipFill>
          <a:blip r:embed="rId5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pn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66680" y="379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Tuesday, September 26, 2017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8" name="TextBox 1"/>
          <p:cNvSpPr/>
          <p:nvPr/>
        </p:nvSpPr>
        <p:spPr>
          <a:xfrm>
            <a:off x="1905120" y="2514600"/>
            <a:ext cx="5790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Times New Roman"/>
              </a:rPr>
              <a:t>What is the difference between a primary source and a secondary sourc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79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What are primary sources?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1640" y="1766520"/>
            <a:ext cx="77691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iginal records from the past recorded by people who w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volved in the ev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tnessed the event, 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new the persons involved in the ev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y can also be objects (artifacts) or visual evide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y give you an idea about what people alive at the time saw or thought about the ev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1066680" y="379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What are primary sources?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ep in mind that a primary source reflects onl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one point of vie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may contain a person’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ia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prejudice) toward an ev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title"/>
          </p:nvPr>
        </p:nvSpPr>
        <p:spPr>
          <a:xfrm>
            <a:off x="1066680" y="379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What are primary sources?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680" y="379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Examples of primary sources: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2"/>
          <a:stretch/>
        </p:blipFill>
        <p:spPr>
          <a:xfrm>
            <a:off x="5203800" y="2239920"/>
            <a:ext cx="2413080" cy="16257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" descr=""/>
          <p:cNvPicPr/>
          <p:nvPr/>
        </p:nvPicPr>
        <p:blipFill>
          <a:blip r:embed="rId3"/>
          <a:stretch/>
        </p:blipFill>
        <p:spPr>
          <a:xfrm>
            <a:off x="932040" y="1947960"/>
            <a:ext cx="2982600" cy="3132000"/>
          </a:xfrm>
          <a:prstGeom prst="rect">
            <a:avLst/>
          </a:prstGeom>
          <a:ln w="0">
            <a:noFill/>
          </a:ln>
        </p:spPr>
      </p:pic>
      <p:sp>
        <p:nvSpPr>
          <p:cNvPr id="98" name="Text Box 5"/>
          <p:cNvSpPr/>
          <p:nvPr/>
        </p:nvSpPr>
        <p:spPr>
          <a:xfrm>
            <a:off x="914400" y="5656320"/>
            <a:ext cx="708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oks, magazines, newspapers, diaries, journals, personal records, songs, paintings, artifac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Text Box 6"/>
          <p:cNvSpPr/>
          <p:nvPr/>
        </p:nvSpPr>
        <p:spPr>
          <a:xfrm>
            <a:off x="4648320" y="175248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Times New Roman"/>
              </a:rPr>
              <a:t>Printed Public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379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What are secondary sources?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ary sources are made at a later ti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y include written information by historians or others AFTER an event has taken pla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680" y="379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What are secondary sources?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3" name="Rectangle 2"/>
          <p:cNvSpPr/>
          <p:nvPr/>
        </p:nvSpPr>
        <p:spPr>
          <a:xfrm>
            <a:off x="106200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though they can be useful and reliable, they cannot reflect what people who lived at the time thought or felt about the even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t they can represent a more fair account of the event because they can include more than one point of view, or may include information that was unavailable at the time of the even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680" y="379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Examples of secondary sources: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5" name="Text Box 2"/>
          <p:cNvSpPr/>
          <p:nvPr/>
        </p:nvSpPr>
        <p:spPr>
          <a:xfrm>
            <a:off x="1219320" y="4800600"/>
            <a:ext cx="3657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xtbooks, biographies, histories, newspaper report by someone who was not pres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2"/>
          <a:stretch/>
        </p:blipFill>
        <p:spPr>
          <a:xfrm>
            <a:off x="1143000" y="1905120"/>
            <a:ext cx="3089160" cy="19065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4" descr=""/>
          <p:cNvPicPr/>
          <p:nvPr/>
        </p:nvPicPr>
        <p:blipFill>
          <a:blip r:embed="rId3"/>
          <a:stretch/>
        </p:blipFill>
        <p:spPr>
          <a:xfrm>
            <a:off x="4572000" y="1676520"/>
            <a:ext cx="1785960" cy="28191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5" descr=""/>
          <p:cNvPicPr/>
          <p:nvPr/>
        </p:nvPicPr>
        <p:blipFill>
          <a:blip r:embed="rId4"/>
          <a:stretch/>
        </p:blipFill>
        <p:spPr>
          <a:xfrm>
            <a:off x="6705720" y="1828800"/>
            <a:ext cx="2057400" cy="36226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6" descr=""/>
          <p:cNvPicPr/>
          <p:nvPr/>
        </p:nvPicPr>
        <p:blipFill>
          <a:blip r:embed="rId5"/>
          <a:stretch/>
        </p:blipFill>
        <p:spPr>
          <a:xfrm>
            <a:off x="4952880" y="4648320"/>
            <a:ext cx="1532160" cy="20001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680" y="379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Examples of secondary sources: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11" name="Picture 2" descr=""/>
          <p:cNvPicPr/>
          <p:nvPr/>
        </p:nvPicPr>
        <p:blipFill>
          <a:blip r:embed="rId2"/>
          <a:stretch/>
        </p:blipFill>
        <p:spPr>
          <a:xfrm>
            <a:off x="1371600" y="1828800"/>
            <a:ext cx="3227400" cy="464832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3"/>
          <p:cNvSpPr/>
          <p:nvPr/>
        </p:nvSpPr>
        <p:spPr>
          <a:xfrm>
            <a:off x="5029200" y="5181480"/>
            <a:ext cx="365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rts, graphs, or images created AFTER the time perio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3" name="Picture 4" descr=""/>
          <p:cNvPicPr/>
          <p:nvPr/>
        </p:nvPicPr>
        <p:blipFill>
          <a:blip r:embed="rId3"/>
          <a:stretch/>
        </p:blipFill>
        <p:spPr>
          <a:xfrm>
            <a:off x="6248520" y="1905120"/>
            <a:ext cx="2563560" cy="21222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5" descr=""/>
          <p:cNvPicPr/>
          <p:nvPr/>
        </p:nvPicPr>
        <p:blipFill>
          <a:blip r:embed="rId4"/>
          <a:stretch/>
        </p:blipFill>
        <p:spPr>
          <a:xfrm>
            <a:off x="4419720" y="3124080"/>
            <a:ext cx="2000160" cy="20005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8T21:09:05Z</dcterms:created>
  <dc:creator>Paula Sandridge</dc:creator>
  <dc:description/>
  <dc:language>en-US</dc:language>
  <cp:lastModifiedBy>Amy Davis</cp:lastModifiedBy>
  <dcterms:modified xsi:type="dcterms:W3CDTF">2017-09-25T18:40:12Z</dcterms:modified>
  <cp:revision>43</cp:revision>
  <dc:subject/>
  <dc:title>Primary and Secondary Sources</dc:title>
</cp:coreProperties>
</file>