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DC09-78F1-4BB5-8DA6-21FBFD6F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A9F-2CC5-491B-A4DC-A6506FC2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D67-1CB5-4706-8358-38CCFD76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8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440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8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440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FEF4-0BE6-46CC-833B-D993308E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90B2-0129-4CFB-90B2-A8453ED0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7FE5-9046-403C-B30F-698ED32A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C64F-9355-4BFE-9FA3-B24F5040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6A0B-ADB2-4935-98FC-54AFB807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D0C1-3ADA-4931-86F9-2004D69D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7908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2558-8079-4240-A3AE-6F0F0203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4330-4240-4D8D-B31F-B23EF1B5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A50-61A9-4831-8FBD-598AE578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79CC-31E6-4220-BBBD-1699BB21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DD1D-A4FD-45F6-8B6A-184CA944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3187-72DF-4339-85FF-5AB77A8A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3246-AB37-43A9-9C90-E0EEF9AE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78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440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78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440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2B5F-364A-4C98-99C7-66F45235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F8A9-EAC6-4318-86CE-FB3DD221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704-57DB-4631-B3AD-80DD8639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60A2-7B5D-42D1-A08F-157C3379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7908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BDF-91CD-4E29-BA7E-427366DD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367-88FE-4C29-8821-01799BDE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B70-C355-4709-8663-368BE29C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72E-F85F-4F60-B975-C2EDDA6C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397200"/>
            <a:ext cx="19036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397200"/>
            <a:ext cx="2894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397200"/>
            <a:ext cx="19036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2288EB-5D0E-4162-A30C-3B611642D1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720"/>
            <a:ext cx="6399360" cy="25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22ADD-E68B-47E3-A084-0078074FA69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0" y="0"/>
            <a:ext cx="6361200" cy="6856560"/>
            <a:chOff x="0" y="0"/>
            <a:chExt cx="6361200" cy="6856560"/>
          </a:xfrm>
        </p:grpSpPr>
        <p:pic>
          <p:nvPicPr>
            <p:cNvPr id="48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4360" cy="68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7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5880" cy="9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8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uesday, September 26, 2017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905120" y="2514600"/>
            <a:ext cx="579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What is the difference between a primary source and a secondary sour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prim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 records from the past recorded by people who w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d in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nessed the event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ew the persons involved in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can also be objects (artifacts) or visual evi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give you an idea about what people alive at the time saw or thought about the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prim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in mind that a primary source reflects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 point of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may contain a person’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ejudice) toward an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prim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primary sour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5203800" y="2239920"/>
            <a:ext cx="2413080" cy="1625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932040" y="1947960"/>
            <a:ext cx="2982600" cy="3132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914400" y="565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s, magazines, newspapers, diaries, journals, personal records, songs, paintings, arti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648320" y="1752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rinted Pub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second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ources are made at a later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include written information by historians or others AFTER an event has taken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second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they can be useful and reliable, they cannot reflect what people who lived at the time thought or felt about the ev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they can represent a more fair account of the event because they can include more than one point of view, or may include information that was unavailable at the time of the ev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secondary sour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219320" y="48006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books, biographies, histories, newspaper report by someone who was not pres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3089160" cy="1906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4572000" y="1676520"/>
            <a:ext cx="1785960" cy="281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6705720" y="1828800"/>
            <a:ext cx="2057400" cy="3622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4952880" y="4648320"/>
            <a:ext cx="1532160" cy="200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secondary sour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3227400" cy="4648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5029200" y="5181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ts, graphs, or images created AFTER the time peri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6248520" y="1905120"/>
            <a:ext cx="2563560" cy="2122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4419720" y="312408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21:09:05Z</dcterms:created>
  <dc:creator>Paula Sandridge</dc:creator>
  <dc:description/>
  <dc:language>en-US</dc:language>
  <cp:lastModifiedBy>Amy Davis</cp:lastModifiedBy>
  <dcterms:modified xsi:type="dcterms:W3CDTF">2017-09-25T18:40:12Z</dcterms:modified>
  <cp:revision>43</cp:revision>
  <dc:subject/>
  <dc:title>Primary and Secondary Sources</dc:title>
</cp:coreProperties>
</file>